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BE73-B012-49D9-8A10-CD2FBE5ED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2F40-872A-4759-9974-5E933BE50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B800-FD90-4F0B-B908-CF2F6268C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9797-DE84-4C6F-B5CB-AA0A5D5C5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B804-6B83-4AB9-81F0-CFE80B390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4EDB-1C22-42BD-8B84-906F4A3F5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581A-E47C-40CE-AA99-7BDE687B7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5440-2C0B-4BC2-8E9C-AF7F92D65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630E-13F1-46BF-B885-2E1CF6BD3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B249C-E873-490D-B6F3-DD6D1C670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5EFE-C565-4292-BEC7-F44D49FC62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15F3-F9B4-4454-AB2C-F241A0D21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F0E8B6B-D0D8-43D7-93B6-3448D38CD57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f59b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18840" y="528768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0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2402-DA5A-4C5C-9E46-58DB1C4136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8840" y="528768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8280" y="6243480"/>
            <a:ext cx="487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371535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1C1D-63FA-4F09-9CA6-B0AE498460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cp:lastPrinted>1899-12-30T00:00:00Z</cp:lastPrinted>
  <dcterms:modified xsi:type="dcterms:W3CDTF">2014-05-23T03:18:41Z</dcterms:modified>
  <cp:revision>1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