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319-B911-477F-9045-6BCA09B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A5A-2966-4C66-BBB3-BF57084D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1A7-FE69-40EB-9552-39B05E8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FD0-6AE8-41A1-A417-F3DEEBB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4DA-107D-4242-97CF-3F4AA9F3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754-7A5A-4FA6-A2FB-4ABF4444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615-FCED-4FBC-9EBB-72D7BEE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A2-B1DC-4D13-AAE0-0D4117A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CA2-2771-47D2-ADA5-9A76DDC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6C2-27B4-498E-9F6A-0A31AB9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7DB-7F7A-42AC-A8FF-FD290C98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46E-9FED-4B3E-A176-8B7936AC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F299-E963-43FD-B2FE-A1531AE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051E-B6B2-4E8E-B9E8-BE0BFA5B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244-C118-415D-A262-59C2133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BD2-02EC-4A82-A03E-ABB89758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75C-C22A-4E82-A9A1-E21B2DF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167-8801-4BBA-84A0-42E28CF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895-F99C-4AAC-81BB-C4D629D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3C4-CBCD-4506-9C12-59C6EB60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7DFB-CEEF-4117-8DDC-904977D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0E5-FA97-4CB4-A976-50F63A9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ECF-E18B-44F3-9107-DBEA05D8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608-9DAD-49DB-9465-D6779F4C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8EE7-7E2B-4D33-85AB-5B0987BBE24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A6C-04B4-44A3-87E2-B30EFD08942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6480" y="754200"/>
            <a:ext cx="9182160" cy="3857400"/>
            <a:chOff x="-6480" y="754200"/>
            <a:chExt cx="9182160" cy="3857400"/>
          </a:xfrm>
        </p:grpSpPr>
        <p:sp>
          <p:nvSpPr>
            <p:cNvPr id="120" name="任意多边形 14"/>
            <p:cNvSpPr/>
            <p:nvPr/>
          </p:nvSpPr>
          <p:spPr>
            <a:xfrm>
              <a:off x="-6480" y="12128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15"/>
            <p:cNvSpPr/>
            <p:nvPr/>
          </p:nvSpPr>
          <p:spPr>
            <a:xfrm>
              <a:off x="7200" y="9806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16"/>
            <p:cNvSpPr/>
            <p:nvPr/>
          </p:nvSpPr>
          <p:spPr>
            <a:xfrm>
              <a:off x="7200" y="75420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18" descr=""/>
          <p:cNvPicPr/>
          <p:nvPr/>
        </p:nvPicPr>
        <p:blipFill>
          <a:blip r:embed="rId1"/>
          <a:stretch/>
        </p:blipFill>
        <p:spPr>
          <a:xfrm>
            <a:off x="-27000" y="-1239840"/>
            <a:ext cx="9226440" cy="3903840"/>
          </a:xfrm>
          <a:prstGeom prst="rect">
            <a:avLst/>
          </a:prstGeom>
          <a:ln w="0">
            <a:noFill/>
          </a:ln>
        </p:spPr>
      </p:pic>
      <p:sp>
        <p:nvSpPr>
          <p:cNvPr id="124" name="流程图: 延期 13"/>
          <p:cNvSpPr/>
          <p:nvPr/>
        </p:nvSpPr>
        <p:spPr>
          <a:xfrm rot="6571800">
            <a:off x="3135600" y="-2731320"/>
            <a:ext cx="2347920" cy="10369800"/>
          </a:xfrm>
          <a:custGeom>
            <a:avLst/>
            <a:gdLst/>
            <a:ahLst/>
            <a:rect l="l" t="t" r="r" b="b"/>
            <a:pathLst>
              <a:path w="2108230" h="8036046">
                <a:moveTo>
                  <a:pt x="0" y="8036046"/>
                </a:moveTo>
                <a:cubicBezTo>
                  <a:pt x="443920" y="6825168"/>
                  <a:pt x="768119" y="5510039"/>
                  <a:pt x="773044" y="4259491"/>
                </a:cubicBezTo>
                <a:cubicBezTo>
                  <a:pt x="768119" y="2831357"/>
                  <a:pt x="438696" y="1361657"/>
                  <a:pt x="0" y="0"/>
                </a:cubicBezTo>
                <a:cubicBezTo>
                  <a:pt x="473928" y="0"/>
                  <a:pt x="2108230" y="2152238"/>
                  <a:pt x="2108230" y="4371331"/>
                </a:cubicBezTo>
                <a:cubicBezTo>
                  <a:pt x="2108230" y="6590424"/>
                  <a:pt x="473928" y="8036046"/>
                  <a:pt x="0" y="8036046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1430280" y="45734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4497840" y="569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4701240" y="606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7377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"/>
          <p:cNvSpPr/>
          <p:nvPr/>
        </p:nvSpPr>
        <p:spPr>
          <a:xfrm>
            <a:off x="0" y="0"/>
            <a:ext cx="9180360" cy="333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0" y="6381720"/>
            <a:ext cx="9180360" cy="216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85824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25520" y="1787400"/>
            <a:ext cx="8329680" cy="3873600"/>
            <a:chOff x="425520" y="1787400"/>
            <a:chExt cx="8329680" cy="3873600"/>
          </a:xfrm>
        </p:grpSpPr>
        <p:sp>
          <p:nvSpPr>
            <p:cNvPr id="133" name="Rectangle 21"/>
            <p:cNvSpPr/>
            <p:nvPr/>
          </p:nvSpPr>
          <p:spPr>
            <a:xfrm>
              <a:off x="425520" y="4058640"/>
              <a:ext cx="8329680" cy="160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763200" y="4567680"/>
              <a:ext cx="3672720" cy="945000"/>
            </a:xfrm>
            <a:prstGeom prst="parallelogram">
              <a:avLst>
                <a:gd name="adj" fmla="val 9716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4926960" y="4567680"/>
              <a:ext cx="3675240" cy="945000"/>
            </a:xfrm>
            <a:prstGeom prst="parallelogram">
              <a:avLst>
                <a:gd name="adj" fmla="val 9722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763200" y="1787400"/>
              <a:ext cx="3672720" cy="942480"/>
            </a:xfrm>
            <a:prstGeom prst="parallelogram">
              <a:avLst>
                <a:gd name="adj" fmla="val 97422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667160" y="3138480"/>
              <a:ext cx="1832760" cy="61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3828960" y="5040360"/>
              <a:ext cx="1396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4027680" y="4761720"/>
              <a:ext cx="1396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763200" y="4289040"/>
              <a:ext cx="3672720" cy="945000"/>
            </a:xfrm>
            <a:prstGeom prst="parallelogram">
              <a:avLst>
                <a:gd name="adj" fmla="val 97162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4926960" y="4289040"/>
              <a:ext cx="3675240" cy="945000"/>
            </a:xfrm>
            <a:prstGeom prst="parallelogram">
              <a:avLst>
                <a:gd name="adj" fmla="val 97229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Box 17"/>
          <p:cNvSpPr/>
          <p:nvPr/>
        </p:nvSpPr>
        <p:spPr>
          <a:xfrm>
            <a:off x="1892520" y="2058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1845360" y="4618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6214320" y="4479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6480" y="754200"/>
            <a:ext cx="9182160" cy="3857400"/>
            <a:chOff x="-6480" y="754200"/>
            <a:chExt cx="9182160" cy="3857400"/>
          </a:xfrm>
        </p:grpSpPr>
        <p:sp>
          <p:nvSpPr>
            <p:cNvPr id="146" name="任意多边形 4"/>
            <p:cNvSpPr/>
            <p:nvPr/>
          </p:nvSpPr>
          <p:spPr>
            <a:xfrm>
              <a:off x="-6480" y="12128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任意多边形 5"/>
            <p:cNvSpPr/>
            <p:nvPr/>
          </p:nvSpPr>
          <p:spPr>
            <a:xfrm>
              <a:off x="7200" y="9806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任意多边形 6"/>
            <p:cNvSpPr/>
            <p:nvPr/>
          </p:nvSpPr>
          <p:spPr>
            <a:xfrm>
              <a:off x="7200" y="75420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" name="组合 7" descr=""/>
          <p:cNvPicPr/>
          <p:nvPr/>
        </p:nvPicPr>
        <p:blipFill>
          <a:blip r:embed="rId1"/>
          <a:stretch/>
        </p:blipFill>
        <p:spPr>
          <a:xfrm>
            <a:off x="-27000" y="-1239840"/>
            <a:ext cx="9226440" cy="3903840"/>
          </a:xfrm>
          <a:prstGeom prst="rect">
            <a:avLst/>
          </a:prstGeom>
          <a:ln w="0">
            <a:noFill/>
          </a:ln>
        </p:spPr>
      </p:pic>
      <p:sp>
        <p:nvSpPr>
          <p:cNvPr id="150" name="流程图: 延期 13"/>
          <p:cNvSpPr/>
          <p:nvPr/>
        </p:nvSpPr>
        <p:spPr>
          <a:xfrm rot="6571800">
            <a:off x="3135600" y="-2731320"/>
            <a:ext cx="2347920" cy="10369800"/>
          </a:xfrm>
          <a:custGeom>
            <a:avLst/>
            <a:gdLst/>
            <a:ahLst/>
            <a:rect l="l" t="t" r="r" b="b"/>
            <a:pathLst>
              <a:path w="2108230" h="8036046">
                <a:moveTo>
                  <a:pt x="0" y="8036046"/>
                </a:moveTo>
                <a:cubicBezTo>
                  <a:pt x="443920" y="6825168"/>
                  <a:pt x="768119" y="5510039"/>
                  <a:pt x="773044" y="4259491"/>
                </a:cubicBezTo>
                <a:cubicBezTo>
                  <a:pt x="768119" y="2831357"/>
                  <a:pt x="438696" y="1361657"/>
                  <a:pt x="0" y="0"/>
                </a:cubicBezTo>
                <a:cubicBezTo>
                  <a:pt x="473928" y="0"/>
                  <a:pt x="2108230" y="2152238"/>
                  <a:pt x="2108230" y="4371331"/>
                </a:cubicBezTo>
                <a:cubicBezTo>
                  <a:pt x="2108230" y="6590424"/>
                  <a:pt x="473928" y="8036046"/>
                  <a:pt x="0" y="8036046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329120" y="41022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4497840" y="569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4701240" y="606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1:31:56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深灰 优雅 商务 PPT模板</cp:keywords>
  <dc:language>en-US</dc:language>
  <cp:lastModifiedBy>微软中国</cp:lastModifiedBy>
  <cp:lastPrinted>1899-12-30T00:00:00Z</cp:lastPrinted>
  <dcterms:modified xsi:type="dcterms:W3CDTF">2014-05-25T05:27:31Z</dcterms:modified>
  <cp:revision>5</cp:revision>
  <dc:subject>商务PPT模板</dc:subject>
  <dc:title>粉黑色优雅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