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C166-2DDB-4F3C-A708-B76AFE79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562C5-56AF-4363-92D0-BAFF96F4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8533-C151-4851-BB8D-5F975EE2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DC9B-3183-49AD-BD40-AB793406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1DEC-F788-49D4-A18F-87A8C4E0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E7F3-16B4-473E-987A-A3E6DC3D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11F1-4A0A-44D7-853A-D54580E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98EE-D3D5-4CD4-9883-43440A9E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AC49-B6DF-4716-8806-FBC8BCCE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1282-3796-4292-A300-92D541AC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5C56-82AC-4487-AC44-0C5757F4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B946-20DD-482A-8E3D-6C514BBA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7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63DCBB7-C082-4E80-8189-760E8DD097A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468360" y="4870440"/>
            <a:ext cx="233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53000"/>
            <a:ext cx="9194760" cy="2205000"/>
          </a:xfrm>
          <a:prstGeom prst="rect">
            <a:avLst/>
          </a:prstGeom>
          <a:gradFill rotWithShape="0">
            <a:gsLst>
              <a:gs pos="0">
                <a:srgbClr val="ff6743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08640"/>
            <a:ext cx="919476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941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653000"/>
            <a:ext cx="9194760" cy="2205000"/>
          </a:xfrm>
          <a:prstGeom prst="rect">
            <a:avLst/>
          </a:prstGeom>
          <a:gradFill rotWithShape="0">
            <a:gsLst>
              <a:gs pos="0">
                <a:srgbClr val="ff6743"/>
              </a:gs>
              <a:gs pos="100000">
                <a:srgbClr val="c02500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08640"/>
            <a:ext cx="9194760" cy="150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025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4274-0E47-4D40-B205-245309B08D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DDCA-3A96-49C8-840F-C207D5A24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>
            <a:hlinkClick r:id="rId11"/>
          </p:cNvPr>
          <p:cNvSpPr/>
          <p:nvPr/>
        </p:nvSpPr>
        <p:spPr>
          <a:xfrm>
            <a:off x="236880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5816160"/>
            <a:ext cx="8207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68360" y="4941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72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87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88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97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1477800" y="537228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45440" y="6021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972B-1D7B-447C-A621-51FC6710C2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cp:lastPrinted>1899-12-30T00:00:00Z</cp:lastPrinted>
  <dcterms:modified xsi:type="dcterms:W3CDTF">2014-05-17T08:10:17Z</dcterms:modified>
  <cp:revision>2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