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F5CB-654E-4F88-A229-8FB54ECBE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754C-8BA2-4E94-A824-18ACC108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66E3-C3C9-47DC-9A36-120329249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A2E9-F9B4-4735-B422-23A02043A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B6E8-A3C4-41A7-AB44-53AF2F4A2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E875-E472-4196-9D9D-3EC525856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93EC-7905-4201-8B9A-F3B1537CB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72C8-C6FA-46DF-9D1E-4CAFD7305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16080"/>
            <a:ext cx="5832360" cy="27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E28C-3432-4EDD-B807-3B0A7CF78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23EB-A62A-415D-9283-4E54DC3EE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67FE-9B85-446C-ABC3-64F1F7A79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9F10-BC60-4587-BC41-0CB6B31CF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6" descr="bg白2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3C8FCDA-264D-4C6F-8694-3AEF8873219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8" descr="bg白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52600" y="3573000"/>
            <a:ext cx="5400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23360" y="6093000"/>
            <a:ext cx="223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1135AFC-F287-4DFB-8CF3-AF95CA18420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微软用户</cp:lastModifiedBy>
  <dcterms:modified xsi:type="dcterms:W3CDTF">2014-11-06T01:23:02Z</dcterms:modified>
  <cp:revision>21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