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15C-982D-4BA4-BF1D-ACA346A9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AFA-B99A-4D7B-A0A6-325B531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687-E909-41A8-9EC3-A69C94FE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A88-8D2B-4FA8-8CBA-3E9D033D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DAAC-1341-4B71-A7CE-E98ADF99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2061-D7CE-4EA5-903D-715FB01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A183-3F13-423A-BE23-1194B9A3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EBC5-15D8-4B7E-A04E-606B2B4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B93E-B2ED-4E86-9936-7245936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FB5-8B1A-415B-868D-DBCEE64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773D-312D-4502-8599-42946A1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D3E-4EF5-45F7-93F3-8B4BD7D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3FA5-8225-44C1-9B64-A47FE28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451F-B86F-47BA-9E5C-0C1653F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2E7-021B-4B95-902A-8CEDFE7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0BA-0E1F-48FF-909A-D03A4FD8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9840-4690-44DA-9624-73F253AE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2A9-DA7C-4791-BCBA-5688A51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F6F-387D-4629-AA7B-109ADF9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F80-D0A0-480F-A1A1-DC805A5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E3D-569D-491D-ABFF-20F2B39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68E-1AFB-4EC0-8A85-2EFB893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119-BF0C-406E-B4C0-5858122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7CE-AB07-41EC-A33C-3ED801F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AC0-A0CB-420A-A085-418E79F67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78E-550F-4F36-909C-D103C4A0E2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4753080"/>
            <a:ext cx="244800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826920" y="328932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30500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f5f5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3:57:45Z</dcterms:created>
  <dc:creator/>
  <dc:description/>
  <dc:language>en-US</dc:language>
  <cp:lastModifiedBy>雨林木风</cp:lastModifiedBy>
  <cp:lastPrinted>1899-12-30T00:00:00Z</cp:lastPrinted>
  <dcterms:modified xsi:type="dcterms:W3CDTF">2014-05-25T05:26:00Z</dcterms:modified>
  <cp:revision>3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