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58760" y="358848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0808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680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7448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5876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680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7448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185840" y="128520"/>
            <a:ext cx="78487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0808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58760" y="358848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0808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6680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874480" y="120960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5876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6680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874480" y="3588480"/>
            <a:ext cx="229284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85840" y="128520"/>
            <a:ext cx="784872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08080" y="358848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8080" y="1209600"/>
            <a:ext cx="34750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58760" y="3588480"/>
            <a:ext cx="71215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52428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452400" y="6494400"/>
            <a:ext cx="28954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07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78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33480" y="1409760"/>
            <a:ext cx="7848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2585520"/>
            <a:ext cx="71215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73800" y="628956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Times New Roman"/>
              </a:rPr>
              <a:t>www.eeppt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bad16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bad16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bad16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4:55:55Z</dcterms:created>
  <dc:creator>吴忠毅</dc:creator>
  <dc:description/>
  <dc:language>en-US</dc:language>
  <cp:lastModifiedBy>qiboren</cp:lastModifiedBy>
  <dcterms:modified xsi:type="dcterms:W3CDTF">2014-11-06T01:33:47Z</dcterms:modified>
  <cp:revision>80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