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B9D9-D00A-40A5-BB36-90F8CD636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27440"/>
            <a:ext cx="822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D8E6-62AE-438C-A292-F743B174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27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27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B971-C98E-47B4-8620-D62496B55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928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928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27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27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27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D38D-3B85-44A2-A691-3BC45CC75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FAD4-697F-4C40-9371-B728D2481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9284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D433-54A1-497B-9EC9-ABBE903A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00DB-7AC0-494B-B824-8BC3241F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9B15-E19B-4A2B-BEF5-812C71E4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43FF-5B61-42F9-873E-C00C2624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00040" y="285840"/>
            <a:ext cx="8229600" cy="198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4FF0-B3B3-4755-B7D5-2BBF4A4D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27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6476-644A-4E64-BCB7-A6984BC9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9284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5B2C-C3EF-433B-8358-FBA11DBA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727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353B-E19F-4AAD-A5CE-A1612E43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27440"/>
            <a:ext cx="822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295E-816C-4BFA-B268-826C3B65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727440"/>
            <a:ext cx="822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B0EF-0AB7-40D4-AD1B-B72C9B43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27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727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8C56-3A07-49EE-936B-883BA10AF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928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928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727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727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727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395A-D56D-4853-82FF-F326039FD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3C144-43EC-473B-8277-A697A3F1D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9284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F8580-A884-4755-9308-5F7A59E5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BD098-5580-48D8-8035-54B86407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17605-B5F9-4E0B-ADD9-CF16F68F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652C6-440C-4B6E-B143-88CA7513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1903-D65A-442C-8E16-9A163470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00040" y="285840"/>
            <a:ext cx="8229600" cy="198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404DE-8DCB-4082-AB63-B2850AE2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27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0CBF9-B7D1-4808-A1FB-55E06586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27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EC36B-8C7C-4B12-AE4B-459EB2B2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27440"/>
            <a:ext cx="822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FAC09-EF6F-4422-B46A-01503150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27440"/>
            <a:ext cx="822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F8E9C-2460-4F56-96C8-C46CB11A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27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27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7C835-1C78-452D-865D-D8DF85281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928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928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27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27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27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CD308-786B-4517-8030-8BC7850A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B246-48D3-4769-8C85-762622D7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B2F7-E0CE-441B-B915-8C682743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0040" y="285840"/>
            <a:ext cx="8229600" cy="198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1321-79B3-429E-99F5-5A152925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27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575E-42E0-40F8-AAFF-5540D77D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27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F951-EB82-4A28-8134-2DA0B3E3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27440"/>
            <a:ext cx="822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E594-9A3A-4929-88DC-EECD22AA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内页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5280" y="11736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3BDC-90A5-491C-A90F-7BDE6E3E0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7" descr="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8" descr="1.png"/>
          <p:cNvPicPr/>
          <p:nvPr/>
        </p:nvPicPr>
        <p:blipFill>
          <a:blip r:embed="rId3"/>
          <a:srcRect l="18705" t="7777" r="19908" b="12344"/>
          <a:stretch/>
        </p:blipFill>
        <p:spPr>
          <a:xfrm>
            <a:off x="1476360" y="117360"/>
            <a:ext cx="6605640" cy="6446880"/>
          </a:xfrm>
          <a:prstGeom prst="rect">
            <a:avLst/>
          </a:prstGeom>
          <a:ln w="0">
            <a:noFill/>
          </a:ln>
        </p:spPr>
      </p:pic>
      <p:pic>
        <p:nvPicPr>
          <p:cNvPr id="44" name="图片 9" descr="2.png"/>
          <p:cNvPicPr/>
          <p:nvPr/>
        </p:nvPicPr>
        <p:blipFill>
          <a:blip r:embed="rId4"/>
          <a:srcRect l="26668" t="17035" r="27129" b="21110"/>
          <a:stretch/>
        </p:blipFill>
        <p:spPr>
          <a:xfrm>
            <a:off x="2124000" y="620640"/>
            <a:ext cx="5407200" cy="543096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0" descr="3.png"/>
          <p:cNvPicPr/>
          <p:nvPr/>
        </p:nvPicPr>
        <p:blipFill>
          <a:blip r:embed="rId5"/>
          <a:srcRect l="0" t="0" r="75005" b="82299"/>
          <a:stretch/>
        </p:blipFill>
        <p:spPr>
          <a:xfrm>
            <a:off x="0" y="0"/>
            <a:ext cx="2286000" cy="1214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0360" y="2852640"/>
            <a:ext cx="4248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4B3A-6604-4132-9E2D-DA15DDFB1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7" descr="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8" descr="1.png"/>
          <p:cNvPicPr/>
          <p:nvPr/>
        </p:nvPicPr>
        <p:blipFill>
          <a:blip r:embed="rId3"/>
          <a:srcRect l="18705" t="7777" r="19908" b="12344"/>
          <a:stretch/>
        </p:blipFill>
        <p:spPr>
          <a:xfrm>
            <a:off x="1709640" y="533520"/>
            <a:ext cx="5613480" cy="5478480"/>
          </a:xfrm>
          <a:prstGeom prst="rect">
            <a:avLst/>
          </a:prstGeom>
          <a:ln w="0">
            <a:noFill/>
          </a:ln>
        </p:spPr>
      </p:pic>
      <p:pic>
        <p:nvPicPr>
          <p:cNvPr id="89" name="图片 9" descr="2.png"/>
          <p:cNvPicPr/>
          <p:nvPr/>
        </p:nvPicPr>
        <p:blipFill>
          <a:blip r:embed="rId4"/>
          <a:srcRect l="26668" t="17035" r="27129" b="21110"/>
          <a:stretch/>
        </p:blipFill>
        <p:spPr>
          <a:xfrm>
            <a:off x="2405160" y="1150920"/>
            <a:ext cx="4224240" cy="424188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0" descr="3.png"/>
          <p:cNvPicPr/>
          <p:nvPr/>
        </p:nvPicPr>
        <p:blipFill>
          <a:blip r:embed="rId5"/>
          <a:srcRect l="0" t="0" r="75005" b="82299"/>
          <a:stretch/>
        </p:blipFill>
        <p:spPr>
          <a:xfrm>
            <a:off x="3357720" y="2500200"/>
            <a:ext cx="2286000" cy="1214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华文细黑"/>
              </a:rPr>
              <a:t>Click to edit the title text format</a:t>
            </a: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9284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6262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26262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262626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26262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26262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26262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26262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0227-A31A-4953-A0B5-B9AF5A88F235}" type="slidenum">
              <a:rPr b="0" lang="zh-CN" sz="1200" spc="-1" strike="noStrike">
                <a:solidFill>
                  <a:srgbClr val="8d8d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0360" y="2852640"/>
            <a:ext cx="4248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987280" y="3933360"/>
            <a:ext cx="37450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11736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898280" y="629280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bad16f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bad16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bad16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bad16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20:15:49Z</dcterms:created>
  <dc:creator/>
  <dc:description/>
  <dc:language>en-US</dc:language>
  <cp:lastModifiedBy/>
  <cp:lastPrinted>1899-12-30T00:00:00Z</cp:lastPrinted>
  <dcterms:modified xsi:type="dcterms:W3CDTF">2014-05-27T05:31:3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