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427-A070-4F6C-B0B1-00886608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A52-9F94-4A8A-9F95-20D42A1D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EE6-D2B0-40A0-B7BA-BDE12747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EE6-5D6A-4A75-8BD4-A216AF08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BAD4-2DBB-49CE-9989-280CAB43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54FE-FD44-4DC2-A5D7-1E4E2A97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562A-23B8-416A-8AB5-D9607C4B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AD5A-7D16-410F-86F0-A88CE7E9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E3A8-5700-4AEA-B9D1-01A8F4D1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5B4A-B3AD-4694-A6AE-36E984EE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FEB5-27E4-462F-B8CD-310DFDE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BA6-591C-46CB-AD9F-B3C3BCF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F514-9536-4BBC-8AE1-498273F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2672-2ADF-4BA7-8EAC-5001A17D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7767-1797-43F9-AE3A-0B3DAA04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13A4-2390-4939-A8E1-CD3E016C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9C43-04EB-4201-99B4-5B34F0D8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A3D-81B9-45F5-B11F-8513F1F9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E4C-498C-448C-AC23-5C5ED80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83D-7D39-4C6F-8BC5-F9AE54DA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52C-3653-41AB-8C5F-3E364FAC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65D-7D47-47D0-90F8-30122A27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335-4D8A-405C-8202-32D8B6C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C46-7D8E-4313-9A5B-2DAD5F87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07DF-7CB0-410B-881F-874254079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312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8312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46A2-3D99-428A-84A7-B7D28B3C1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baseline="8000">
              <a:solidFill>
                <a:srgbClr val="483120"/>
              </a:solidFill>
              <a:latin typeface="微软雅黑"/>
              <a:ea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微软雅黑"/>
              <a:ea typeface="微软雅黑"/>
            </a:endParaRPr>
          </a:p>
        </p:txBody>
      </p:sp>
      <p:sp>
        <p:nvSpPr>
          <p:cNvPr id="87" name=""/>
          <p:cNvSpPr/>
          <p:nvPr/>
        </p:nvSpPr>
        <p:spPr>
          <a:xfrm>
            <a:off x="244188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4:37:18Z</dcterms:created>
  <dc:creator/>
  <dc:description/>
  <dc:language>en-US</dc:language>
  <cp:lastModifiedBy/>
  <cp:lastPrinted>1899-12-30T00:00:00Z</cp:lastPrinted>
  <dcterms:modified xsi:type="dcterms:W3CDTF">2014-05-24T01:48:5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