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1D6-B57A-476D-9074-F0B609E4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8D3-2F33-4181-B2CF-7DCDD158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137-0096-4D61-A05E-8EAD6C42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EDF-9845-440C-9CE8-941D354B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E54D-6192-47D2-92FC-D5E9662D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8A8C-5458-4697-B2A5-2FD75122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F7CF-8BC6-47D5-8D90-EA69D77A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D64F-C59B-4FD9-BDAE-086782C0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907B-AAA2-4955-8E04-44FC983A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DBAC-6C4E-401C-AA52-9EDD561C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0E2F-D51D-4A89-9E8A-6E27AE1D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991-528A-4E25-BEA0-102AF971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C035-DD0C-4CDD-845D-69E06EBF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A938-3A9B-4C18-880A-F98B612F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A878-3AC2-4B79-A0D3-C4F54359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1118-B7BD-4E8F-89B9-2E37F511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7E15-514C-4BA3-ABF6-F786FBAC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E44-D75C-405A-A840-1D592194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4B80-D003-4AE0-833D-24B4FCBD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EFC9-9BE1-48E7-A007-F0DD31E5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2C8-64EC-4EF9-90EE-E89659B9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D303-F607-4EEE-9D65-69364DDF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F40-916B-4ACA-8A02-8C0923B6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FE00-1292-4841-8F43-19550CBC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1b0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7B4D-262B-46A3-B146-10DFD1BB4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1b0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E59C-FC16-43AC-B6F2-8FC4DF713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35280" y="2636640"/>
            <a:ext cx="360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51b0f"/>
                </a:solidFill>
                <a:latin typeface="Arial"/>
              </a:rPr>
              <a:t>我的模板</a:t>
            </a:r>
            <a:endParaRPr b="0" lang="en-US" sz="6000" spc="-1" strike="noStrike">
              <a:solidFill>
                <a:srgbClr val="c51b0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40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点击此处输入文字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点击此处输入文字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66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4:26:51Z</dcterms:created>
  <dc:creator/>
  <dc:description/>
  <dc:language>en-US</dc:language>
  <cp:lastModifiedBy/>
  <cp:lastPrinted>1899-12-30T00:00:00Z</cp:lastPrinted>
  <dcterms:modified xsi:type="dcterms:W3CDTF">2014-05-22T08:17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