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B0A5-CDDF-458C-A19F-DF3C681CF4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95120" y="2139840"/>
            <a:ext cx="5791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32AA-1551-4884-B2E5-A0AC4780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9512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6296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686F-84C8-4261-816C-2D4EEC78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53160" y="1980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11200" y="1980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95120" y="2139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53160" y="2139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11200" y="2139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22D5-3C64-4A89-B718-735920B43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7AA36-0406-4C55-B75D-19D80BC4D4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38243-3E4C-425D-8D34-F8EF9E19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77055-E8D7-4C59-AD01-EAC93489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A8CF6-2F24-4257-80F6-0E4F797E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9E5D3-3E0A-4BB7-B5FC-D7FBC901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1066680"/>
            <a:ext cx="59436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105AA-BFD1-4D0B-84A2-98E94A01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9512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6F043-24C8-40C6-B4E1-5D0F638F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3011-6F7E-4BF6-8CB7-09D30851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6296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84C23-371F-414F-8931-73B848EE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95120" y="2139840"/>
            <a:ext cx="5791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FE5FA-21DA-4670-B3C5-B70F7EA1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95120" y="2139840"/>
            <a:ext cx="5791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3DBE3-633D-412F-8DB8-623EA3CC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9512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86296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2103A-0213-49AA-93ED-02A33F07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3160" y="1980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11200" y="198072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95120" y="2139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53160" y="2139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11200" y="2139840"/>
            <a:ext cx="1864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0324A-F193-4558-9178-2D83DAFFC5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A1EE-5DC9-44F0-87DE-2F1FF0C6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F433-A031-40B1-8453-98B49893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E032-9AAC-4303-BBE0-092C496A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43200" y="1066680"/>
            <a:ext cx="59436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39AF-A86E-4F30-8E30-4D082884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9512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0955-EC2C-4C83-8FBC-2C8C109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62960" y="213984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F1E4-61C2-41DA-890A-4493EA57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95120" y="2139840"/>
            <a:ext cx="5791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5F4C-9DE5-4512-99E8-DD6AAC00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18288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82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b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b111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D9C3-7C1C-484C-AF73-2A93AFC05C1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3805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ED8F-AFE0-44FA-8761-1CDE7B203733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2743200" y="106668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b111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b1111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b1111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76680" y="107784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owerPoin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empl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1111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28840" y="1895400"/>
            <a:ext cx="2936880" cy="297000"/>
            <a:chOff x="3228840" y="1895400"/>
            <a:chExt cx="2936880" cy="297000"/>
          </a:xfrm>
        </p:grpSpPr>
        <p:grpSp>
          <p:nvGrpSpPr>
            <p:cNvPr id="85" name=""/>
            <p:cNvGrpSpPr/>
            <p:nvPr/>
          </p:nvGrpSpPr>
          <p:grpSpPr>
            <a:xfrm>
              <a:off x="3228840" y="2057400"/>
              <a:ext cx="2936880" cy="135000"/>
              <a:chOff x="3228840" y="2057400"/>
              <a:chExt cx="2936880" cy="135000"/>
            </a:xfrm>
          </p:grpSpPr>
          <p:sp>
            <p:nvSpPr>
              <p:cNvPr id="86" name=""/>
              <p:cNvSpPr/>
              <p:nvPr/>
            </p:nvSpPr>
            <p:spPr>
              <a:xfrm>
                <a:off x="3228840" y="2133720"/>
                <a:ext cx="2819520" cy="0"/>
              </a:xfrm>
              <a:prstGeom prst="line">
                <a:avLst/>
              </a:prstGeom>
              <a:ln w="9360">
                <a:solidFill>
                  <a:srgbClr val="8b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48360" y="2057400"/>
                <a:ext cx="117360" cy="135000"/>
              </a:xfrm>
              <a:prstGeom prst="ellipse">
                <a:avLst/>
              </a:prstGeom>
              <a:gradFill rotWithShape="0">
                <a:gsLst>
                  <a:gs pos="0">
                    <a:srgbClr val="a0c6f8"/>
                  </a:gs>
                  <a:gs pos="100000">
                    <a:srgbClr val="495b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228840" y="1895400"/>
              <a:ext cx="0" cy="228600"/>
            </a:xfrm>
            <a:prstGeom prst="line">
              <a:avLst/>
            </a:prstGeom>
            <a:ln w="9360">
              <a:solidFill>
                <a:srgbClr val="8b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019920" y="1066320"/>
            <a:ext cx="2587680" cy="290520"/>
            <a:chOff x="6019920" y="1066320"/>
            <a:chExt cx="2587680" cy="290520"/>
          </a:xfrm>
        </p:grpSpPr>
        <p:sp>
          <p:nvSpPr>
            <p:cNvPr id="90" name=""/>
            <p:cNvSpPr/>
            <p:nvPr/>
          </p:nvSpPr>
          <p:spPr>
            <a:xfrm flipH="1">
              <a:off x="6137280" y="1127160"/>
              <a:ext cx="2470320" cy="0"/>
            </a:xfrm>
            <a:prstGeom prst="line">
              <a:avLst/>
            </a:prstGeom>
            <a:ln w="9360">
              <a:solidFill>
                <a:srgbClr val="8b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6019920" y="1066320"/>
              <a:ext cx="117360" cy="135000"/>
            </a:xfrm>
            <a:prstGeom prst="ellipse">
              <a:avLst/>
            </a:prstGeom>
            <a:gradFill rotWithShape="0">
              <a:gsLst>
                <a:gs pos="0">
                  <a:srgbClr val="a0c6f8"/>
                </a:gs>
                <a:gs pos="100000">
                  <a:srgbClr val="495b7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602920" y="1128240"/>
              <a:ext cx="0" cy="228600"/>
            </a:xfrm>
            <a:prstGeom prst="line">
              <a:avLst/>
            </a:prstGeom>
            <a:ln w="9360">
              <a:solidFill>
                <a:srgbClr val="8b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707520" y="63039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47920" y="2362320"/>
            <a:ext cx="7016760" cy="2971800"/>
            <a:chOff x="1447920" y="2362320"/>
            <a:chExt cx="7016760" cy="2971800"/>
          </a:xfrm>
        </p:grpSpPr>
        <p:sp>
          <p:nvSpPr>
            <p:cNvPr id="270" name=""/>
            <p:cNvSpPr/>
            <p:nvPr/>
          </p:nvSpPr>
          <p:spPr>
            <a:xfrm>
              <a:off x="3434040" y="309888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a0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48640" y="309888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963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7856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963e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7856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963e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0888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49357d"/>
                </a:gs>
                <a:gs pos="50000">
                  <a:srgbClr val="8963e9"/>
                </a:gs>
                <a:gs pos="100000">
                  <a:srgbClr val="49357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37320" y="250848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8963e9">
                    <a:alpha val="0"/>
                  </a:srgbClr>
                </a:gs>
                <a:gs pos="100000">
                  <a:srgbClr val="563e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01040" y="258444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067b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4792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067b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78240" y="24926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3763"/>
                </a:gs>
                <a:gs pos="50000">
                  <a:srgbClr val="3067b8"/>
                </a:gs>
                <a:gs pos="100000">
                  <a:srgbClr val="1937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79680" y="24955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3067b8">
                    <a:alpha val="0"/>
                  </a:srgbClr>
                </a:gs>
                <a:gs pos="100000">
                  <a:srgbClr val="1e41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63920" y="257976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1689120" y="2602080"/>
              <a:ext cx="1503360" cy="1511280"/>
              <a:chOff x="1689120" y="2602080"/>
              <a:chExt cx="1503360" cy="1511280"/>
            </a:xfrm>
          </p:grpSpPr>
          <p:sp>
            <p:nvSpPr>
              <p:cNvPr id="283" name=""/>
              <p:cNvSpPr/>
              <p:nvPr/>
            </p:nvSpPr>
            <p:spPr>
              <a:xfrm>
                <a:off x="168912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0820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2368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0540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396396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0c6f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6396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495b72"/>
                </a:gs>
                <a:gs pos="100000">
                  <a:srgbClr val="a0c6f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9428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566a85"/>
                </a:gs>
                <a:gs pos="50000">
                  <a:srgbClr val="a0c6f8"/>
                </a:gs>
                <a:gs pos="100000">
                  <a:srgbClr val="566a8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95720" y="250200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a0c6f8">
                    <a:alpha val="0"/>
                  </a:srgbClr>
                </a:gs>
                <a:gs pos="100000">
                  <a:srgbClr val="657d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79960" y="258444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205520" y="2602080"/>
              <a:ext cx="1503360" cy="1511280"/>
              <a:chOff x="4205520" y="2602080"/>
              <a:chExt cx="1503360" cy="1511280"/>
            </a:xfrm>
          </p:grpSpPr>
          <p:sp>
            <p:nvSpPr>
              <p:cNvPr id="293" name=""/>
              <p:cNvSpPr/>
              <p:nvPr/>
            </p:nvSpPr>
            <p:spPr>
              <a:xfrm>
                <a:off x="420552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22460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008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2180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729480" y="2602080"/>
              <a:ext cx="1505160" cy="1511280"/>
              <a:chOff x="6729480" y="2602080"/>
              <a:chExt cx="1505160" cy="1511280"/>
            </a:xfrm>
          </p:grpSpPr>
          <p:sp>
            <p:nvSpPr>
              <p:cNvPr id="298" name=""/>
              <p:cNvSpPr/>
              <p:nvPr/>
            </p:nvSpPr>
            <p:spPr>
              <a:xfrm>
                <a:off x="6729480" y="260208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48560" y="261036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64040" y="262476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846120" y="266364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492200" y="485784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0680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3760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04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7956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0064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752480" y="1619280"/>
            <a:ext cx="7086600" cy="4476600"/>
            <a:chOff x="1752480" y="1619280"/>
            <a:chExt cx="7086600" cy="4476600"/>
          </a:xfrm>
        </p:grpSpPr>
        <p:sp>
          <p:nvSpPr>
            <p:cNvPr id="311" name="未知"/>
            <p:cNvSpPr/>
            <p:nvPr/>
          </p:nvSpPr>
          <p:spPr>
            <a:xfrm>
              <a:off x="1752480" y="205740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14caee"/>
                </a:gs>
                <a:gs pos="100000">
                  <a:srgbClr val="a0c6f8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5812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0876400">
              <a:off x="40021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33720" y="382896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54240" y="38386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1880" y="385452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64040" y="389880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5132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0826600">
              <a:off x="2158920" y="44384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2082600" y="3448080"/>
              <a:ext cx="1371240" cy="1441080"/>
              <a:chOff x="2082600" y="3448080"/>
              <a:chExt cx="1371240" cy="1441080"/>
            </a:xfrm>
          </p:grpSpPr>
          <p:sp>
            <p:nvSpPr>
              <p:cNvPr id="321" name=""/>
              <p:cNvSpPr/>
              <p:nvPr/>
            </p:nvSpPr>
            <p:spPr>
              <a:xfrm>
                <a:off x="208260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00600" y="345636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13560" y="34696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185200" y="350640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36304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19810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57400" y="20764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70000" y="20811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81160" y="20923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351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543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47920" y="21528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0320" y="16192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79680" y="16225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86160" y="16286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22520" y="16477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40520" y="184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476720" y="1828800"/>
            <a:ext cx="7282440" cy="3770280"/>
            <a:chOff x="1476720" y="1828800"/>
            <a:chExt cx="7282440" cy="3770280"/>
          </a:xfrm>
        </p:grpSpPr>
        <p:sp>
          <p:nvSpPr>
            <p:cNvPr id="341" name=""/>
            <p:cNvSpPr/>
            <p:nvPr/>
          </p:nvSpPr>
          <p:spPr>
            <a:xfrm rot="17973000">
              <a:off x="528552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a0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3465600">
              <a:off x="533592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a0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4368800">
              <a:off x="411696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a0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7534800">
              <a:off x="407880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a0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1804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a0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0800000">
              <a:off x="35078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a0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288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802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9112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946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802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7672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1480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8592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ce4f5"/>
                </a:gs>
                <a:gs pos="100000">
                  <a:srgbClr val="14ca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0032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ce4f5"/>
                </a:gs>
                <a:gs pos="100000">
                  <a:srgbClr val="14ca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0544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ce4f5"/>
                </a:gs>
                <a:gs pos="100000">
                  <a:srgbClr val="14ca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243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ce4f5"/>
                </a:gs>
                <a:gs pos="100000">
                  <a:srgbClr val="14ca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0544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ce4f5"/>
                </a:gs>
                <a:gs pos="100000">
                  <a:srgbClr val="14ca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1984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ce4f5"/>
                </a:gs>
                <a:gs pos="100000">
                  <a:srgbClr val="14ca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6888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963e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67080" y="2895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963e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86240" y="2987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9357d"/>
                </a:gs>
                <a:gs pos="50000">
                  <a:srgbClr val="8963e9"/>
                </a:gs>
                <a:gs pos="100000">
                  <a:srgbClr val="49357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2440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067b8">
                    <a:alpha val="0"/>
                  </a:srgbClr>
                </a:gs>
                <a:gs pos="100000">
                  <a:srgbClr val="1e41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5428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475160" y="3087720"/>
              <a:ext cx="1290600" cy="1278000"/>
              <a:chOff x="4475160" y="3087720"/>
              <a:chExt cx="1290600" cy="1278000"/>
            </a:xfrm>
          </p:grpSpPr>
          <p:sp>
            <p:nvSpPr>
              <p:cNvPr id="366" name=""/>
              <p:cNvSpPr/>
              <p:nvPr/>
            </p:nvSpPr>
            <p:spPr>
              <a:xfrm>
                <a:off x="447516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9172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0504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7488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473832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632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1676520"/>
            <a:ext cx="6781320" cy="4006440"/>
            <a:chOff x="1676520" y="1676520"/>
            <a:chExt cx="6781320" cy="4006440"/>
          </a:xfrm>
        </p:grpSpPr>
        <p:sp>
          <p:nvSpPr>
            <p:cNvPr id="375" name=""/>
            <p:cNvSpPr/>
            <p:nvPr/>
          </p:nvSpPr>
          <p:spPr>
            <a:xfrm>
              <a:off x="16765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14caee"/>
                </a:gs>
                <a:gs pos="100000">
                  <a:srgbClr val="e1f7fb"/>
                </a:gs>
              </a:gsLst>
              <a:lin ang="5400000"/>
            </a:gradFill>
            <a:ln w="25560">
              <a:solidFill>
                <a:srgbClr val="14ca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6" name=""/>
            <p:cNvGraphicFramePr/>
            <p:nvPr/>
          </p:nvGraphicFramePr>
          <p:xfrm>
            <a:off x="1861200" y="2292840"/>
            <a:ext cx="292824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61200" y="229284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8" name=""/>
            <p:cNvSpPr/>
            <p:nvPr/>
          </p:nvSpPr>
          <p:spPr>
            <a:xfrm>
              <a:off x="198468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95d6d"/>
                </a:gs>
                <a:gs pos="50000">
                  <a:srgbClr val="14caee"/>
                </a:gs>
                <a:gs pos="100000">
                  <a:srgbClr val="095d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081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5068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289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0c6f8"/>
                </a:gs>
                <a:gs pos="100000">
                  <a:srgbClr val="e4eefc"/>
                </a:gs>
              </a:gsLst>
              <a:lin ang="5400000"/>
            </a:gradFill>
            <a:ln w="25560">
              <a:solidFill>
                <a:srgbClr val="a0c6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3"/>
            <a:stretch/>
          </p:blipFill>
          <p:spPr>
            <a:xfrm>
              <a:off x="5313600" y="229284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543744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5b72"/>
                </a:gs>
                <a:gs pos="50000">
                  <a:srgbClr val="a0c6f8"/>
                </a:gs>
                <a:gs pos="100000">
                  <a:srgbClr val="495b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605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03080" y="17996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707520" y="63039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798560" y="1832040"/>
            <a:ext cx="2170080" cy="4034880"/>
            <a:chOff x="1798560" y="1832040"/>
            <a:chExt cx="2170080" cy="4034880"/>
          </a:xfrm>
        </p:grpSpPr>
        <p:sp>
          <p:nvSpPr>
            <p:cNvPr id="390" name=""/>
            <p:cNvSpPr/>
            <p:nvPr/>
          </p:nvSpPr>
          <p:spPr>
            <a:xfrm>
              <a:off x="17985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3204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493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493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0504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4932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2543040" y="1832040"/>
              <a:ext cx="642960" cy="642600"/>
              <a:chOff x="2543040" y="1832040"/>
              <a:chExt cx="642960" cy="642600"/>
            </a:xfrm>
          </p:grpSpPr>
          <p:sp>
            <p:nvSpPr>
              <p:cNvPr id="397" name=""/>
              <p:cNvSpPr/>
              <p:nvPr/>
            </p:nvSpPr>
            <p:spPr>
              <a:xfrm>
                <a:off x="254304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54952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55744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56392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59776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6830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748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160880" y="1832040"/>
            <a:ext cx="2166840" cy="4034880"/>
            <a:chOff x="4160880" y="1832040"/>
            <a:chExt cx="2166840" cy="4034880"/>
          </a:xfrm>
        </p:grpSpPr>
        <p:sp>
          <p:nvSpPr>
            <p:cNvPr id="405" name=""/>
            <p:cNvSpPr/>
            <p:nvPr/>
          </p:nvSpPr>
          <p:spPr>
            <a:xfrm>
              <a:off x="41608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943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116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116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053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118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197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258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611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454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372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64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08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516720" y="1832040"/>
            <a:ext cx="2170080" cy="4034880"/>
            <a:chOff x="6516720" y="1832040"/>
            <a:chExt cx="2170080" cy="4034880"/>
          </a:xfrm>
        </p:grpSpPr>
        <p:sp>
          <p:nvSpPr>
            <p:cNvPr id="419" name=""/>
            <p:cNvSpPr/>
            <p:nvPr/>
          </p:nvSpPr>
          <p:spPr>
            <a:xfrm>
              <a:off x="65232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563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739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739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267680" y="1832040"/>
              <a:ext cx="642960" cy="642600"/>
              <a:chOff x="7267680" y="1832040"/>
              <a:chExt cx="642960" cy="642600"/>
            </a:xfrm>
          </p:grpSpPr>
          <p:sp>
            <p:nvSpPr>
              <p:cNvPr id="424" name=""/>
              <p:cNvSpPr/>
              <p:nvPr/>
            </p:nvSpPr>
            <p:spPr>
              <a:xfrm>
                <a:off x="72676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741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820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885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224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74077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991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167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610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0" y="1752480"/>
            <a:ext cx="9144000" cy="4188960"/>
            <a:chOff x="0" y="1752480"/>
            <a:chExt cx="9144000" cy="4188960"/>
          </a:xfrm>
        </p:grpSpPr>
        <p:grpSp>
          <p:nvGrpSpPr>
            <p:cNvPr id="435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1379520" y="2609640"/>
              <a:ext cx="1931760" cy="3265200"/>
              <a:chOff x="1379520" y="2609640"/>
              <a:chExt cx="1931760" cy="326520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1785240" y="3450240"/>
                <a:ext cx="1526040" cy="2424600"/>
                <a:chOff x="1785240" y="3450240"/>
                <a:chExt cx="1526040" cy="242460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1785240" y="3607920"/>
                  <a:ext cx="1420200" cy="2266920"/>
                  <a:chOff x="1785240" y="3607920"/>
                  <a:chExt cx="1420200" cy="2266920"/>
                </a:xfrm>
              </p:grpSpPr>
              <p:sp>
                <p:nvSpPr>
                  <p:cNvPr id="441" name="未知"/>
                  <p:cNvSpPr/>
                  <p:nvPr/>
                </p:nvSpPr>
                <p:spPr>
                  <a:xfrm rot="3876600">
                    <a:off x="135756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未知"/>
                  <p:cNvSpPr/>
                  <p:nvPr/>
                </p:nvSpPr>
                <p:spPr>
                  <a:xfrm rot="3876600">
                    <a:off x="2724840" y="53740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2221560" y="3450240"/>
                  <a:ext cx="1089720" cy="1739520"/>
                  <a:chOff x="2221560" y="3450240"/>
                  <a:chExt cx="1089720" cy="1739520"/>
                </a:xfrm>
              </p:grpSpPr>
              <p:sp>
                <p:nvSpPr>
                  <p:cNvPr id="444" name="未知"/>
                  <p:cNvSpPr/>
                  <p:nvPr/>
                </p:nvSpPr>
                <p:spPr>
                  <a:xfrm flipV="1" rot="3876600">
                    <a:off x="1892880" y="41310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未知"/>
                  <p:cNvSpPr/>
                  <p:nvPr/>
                </p:nvSpPr>
                <p:spPr>
                  <a:xfrm flipV="1" rot="3876600">
                    <a:off x="2926800" y="48132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379520" y="2609640"/>
                <a:ext cx="1270440" cy="1309320"/>
                <a:chOff x="1379520" y="2609640"/>
                <a:chExt cx="1270440" cy="13093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3795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3795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463400" y="26946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463400" y="269748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518120" y="275256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1533240" y="2768040"/>
                  <a:ext cx="962280" cy="992880"/>
                  <a:chOff x="1533240" y="2768040"/>
                  <a:chExt cx="962280" cy="9928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1533240" y="276804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1545480" y="277344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55200" y="278280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1607760" y="280836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"/>
              <p:cNvSpPr/>
              <p:nvPr/>
            </p:nvSpPr>
            <p:spPr>
              <a:xfrm rot="3925800">
                <a:off x="174636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3925800">
                <a:off x="220788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127320" y="2609640"/>
              <a:ext cx="1931040" cy="3265200"/>
              <a:chOff x="3127320" y="2609640"/>
              <a:chExt cx="1931040" cy="326520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3531960" y="3450240"/>
                <a:ext cx="1526400" cy="2424600"/>
                <a:chOff x="3531960" y="3450240"/>
                <a:chExt cx="1526400" cy="242460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3531960" y="3607920"/>
                  <a:ext cx="1420200" cy="2266920"/>
                  <a:chOff x="3531960" y="3607920"/>
                  <a:chExt cx="1420200" cy="2266920"/>
                </a:xfrm>
              </p:grpSpPr>
              <p:sp>
                <p:nvSpPr>
                  <p:cNvPr id="462" name="未知"/>
                  <p:cNvSpPr/>
                  <p:nvPr/>
                </p:nvSpPr>
                <p:spPr>
                  <a:xfrm rot="3876600">
                    <a:off x="310428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未知"/>
                  <p:cNvSpPr/>
                  <p:nvPr/>
                </p:nvSpPr>
                <p:spPr>
                  <a:xfrm rot="3876600">
                    <a:off x="4471560" y="537372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3968280" y="3450240"/>
                  <a:ext cx="1090080" cy="1739520"/>
                  <a:chOff x="3968280" y="3450240"/>
                  <a:chExt cx="1090080" cy="1739520"/>
                </a:xfrm>
              </p:grpSpPr>
              <p:sp>
                <p:nvSpPr>
                  <p:cNvPr id="465" name="未知"/>
                  <p:cNvSpPr/>
                  <p:nvPr/>
                </p:nvSpPr>
                <p:spPr>
                  <a:xfrm flipV="1" rot="3876600">
                    <a:off x="3639960" y="413100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未知"/>
                  <p:cNvSpPr/>
                  <p:nvPr/>
                </p:nvSpPr>
                <p:spPr>
                  <a:xfrm flipV="1" rot="3876600">
                    <a:off x="4673880" y="48121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7" name=""/>
              <p:cNvGrpSpPr/>
              <p:nvPr/>
            </p:nvGrpSpPr>
            <p:grpSpPr>
              <a:xfrm>
                <a:off x="3127320" y="2609640"/>
                <a:ext cx="1270440" cy="1309320"/>
                <a:chOff x="3127320" y="2609640"/>
                <a:chExt cx="1270440" cy="13093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31273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1273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211200" y="26946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211200" y="269748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265920" y="275256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3281040" y="2768040"/>
                  <a:ext cx="962280" cy="992880"/>
                  <a:chOff x="3281040" y="2768040"/>
                  <a:chExt cx="962280" cy="99288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3281040" y="276804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3293280" y="277344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3303000" y="278280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355560" y="280836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8" name=""/>
              <p:cNvSpPr/>
              <p:nvPr/>
            </p:nvSpPr>
            <p:spPr>
              <a:xfrm rot="3925800">
                <a:off x="348768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3925800">
                <a:off x="394992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930920" y="2609640"/>
              <a:ext cx="1931760" cy="3265200"/>
              <a:chOff x="4930920" y="2609640"/>
              <a:chExt cx="1931760" cy="326520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5336640" y="3450240"/>
                <a:ext cx="1526040" cy="2424600"/>
                <a:chOff x="5336640" y="3450240"/>
                <a:chExt cx="1526040" cy="242460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5336640" y="3607920"/>
                  <a:ext cx="1420200" cy="2266920"/>
                  <a:chOff x="5336640" y="3607920"/>
                  <a:chExt cx="1420200" cy="2266920"/>
                </a:xfrm>
              </p:grpSpPr>
              <p:sp>
                <p:nvSpPr>
                  <p:cNvPr id="483" name="未知"/>
                  <p:cNvSpPr/>
                  <p:nvPr/>
                </p:nvSpPr>
                <p:spPr>
                  <a:xfrm rot="3876600">
                    <a:off x="490896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未知"/>
                  <p:cNvSpPr/>
                  <p:nvPr/>
                </p:nvSpPr>
                <p:spPr>
                  <a:xfrm rot="3876600">
                    <a:off x="6276240" y="53740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772960" y="3450240"/>
                  <a:ext cx="1089720" cy="1739520"/>
                  <a:chOff x="5772960" y="3450240"/>
                  <a:chExt cx="1089720" cy="1739520"/>
                </a:xfrm>
              </p:grpSpPr>
              <p:sp>
                <p:nvSpPr>
                  <p:cNvPr id="486" name="未知"/>
                  <p:cNvSpPr/>
                  <p:nvPr/>
                </p:nvSpPr>
                <p:spPr>
                  <a:xfrm flipV="1" rot="3876600">
                    <a:off x="5444280" y="41310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未知"/>
                  <p:cNvSpPr/>
                  <p:nvPr/>
                </p:nvSpPr>
                <p:spPr>
                  <a:xfrm flipV="1" rot="3876600">
                    <a:off x="6478200" y="48132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930920" y="2609640"/>
                <a:ext cx="1272240" cy="1309320"/>
                <a:chOff x="4930920" y="2609640"/>
                <a:chExt cx="1272240" cy="13093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930920" y="260964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930920" y="260964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015160" y="26946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015160" y="269748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069880" y="275256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4" name=""/>
                <p:cNvGrpSpPr/>
                <p:nvPr/>
              </p:nvGrpSpPr>
              <p:grpSpPr>
                <a:xfrm>
                  <a:off x="5085000" y="2768040"/>
                  <a:ext cx="963720" cy="992880"/>
                  <a:chOff x="5085000" y="2768040"/>
                  <a:chExt cx="963720" cy="99288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5085000" y="276804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097240" y="277344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5107320" y="278280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5159520" y="280836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9" name=""/>
              <p:cNvSpPr/>
              <p:nvPr/>
            </p:nvSpPr>
            <p:spPr>
              <a:xfrm rot="3925800">
                <a:off x="530100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3925800">
                <a:off x="576288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707160" y="2465280"/>
              <a:ext cx="2122200" cy="3476160"/>
              <a:chOff x="6707160" y="2465280"/>
              <a:chExt cx="2122200" cy="347616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7303320" y="3516840"/>
                <a:ext cx="1526040" cy="2424600"/>
                <a:chOff x="7303320" y="3516840"/>
                <a:chExt cx="1526040" cy="2424600"/>
              </a:xfrm>
            </p:grpSpPr>
            <p:grpSp>
              <p:nvGrpSpPr>
                <p:cNvPr id="503" name=""/>
                <p:cNvGrpSpPr/>
                <p:nvPr/>
              </p:nvGrpSpPr>
              <p:grpSpPr>
                <a:xfrm>
                  <a:off x="7303320" y="3674520"/>
                  <a:ext cx="1420200" cy="2266920"/>
                  <a:chOff x="7303320" y="3674520"/>
                  <a:chExt cx="1420200" cy="2266920"/>
                </a:xfrm>
              </p:grpSpPr>
              <p:sp>
                <p:nvSpPr>
                  <p:cNvPr id="504" name="未知"/>
                  <p:cNvSpPr/>
                  <p:nvPr/>
                </p:nvSpPr>
                <p:spPr>
                  <a:xfrm rot="3876600">
                    <a:off x="6875640" y="45615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未知"/>
                  <p:cNvSpPr/>
                  <p:nvPr/>
                </p:nvSpPr>
                <p:spPr>
                  <a:xfrm rot="3876600">
                    <a:off x="8242920" y="54406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7739640" y="3516840"/>
                  <a:ext cx="1089720" cy="1739520"/>
                  <a:chOff x="7739640" y="3516840"/>
                  <a:chExt cx="1089720" cy="1739520"/>
                </a:xfrm>
              </p:grpSpPr>
              <p:sp>
                <p:nvSpPr>
                  <p:cNvPr id="507" name="未知"/>
                  <p:cNvSpPr/>
                  <p:nvPr/>
                </p:nvSpPr>
                <p:spPr>
                  <a:xfrm flipV="1" rot="3876600">
                    <a:off x="7410960" y="41976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未知"/>
                  <p:cNvSpPr/>
                  <p:nvPr/>
                </p:nvSpPr>
                <p:spPr>
                  <a:xfrm flipV="1" rot="3876600">
                    <a:off x="8444880" y="48798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9" name=""/>
              <p:cNvSpPr/>
              <p:nvPr/>
            </p:nvSpPr>
            <p:spPr>
              <a:xfrm>
                <a:off x="6707160" y="246528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07160" y="246528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808680" y="256860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10480" y="257148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73840" y="263664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6892920" y="2655720"/>
                <a:ext cx="1157400" cy="1190160"/>
                <a:chOff x="6892920" y="2655720"/>
                <a:chExt cx="1157400" cy="11901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892920" y="265572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907680" y="266220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919560" y="267372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982560" y="270396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 rot="3925800">
                <a:off x="7253280" y="4569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3925800">
                <a:off x="7713720" y="4290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1719000" y="1752480"/>
              <a:ext cx="6056640" cy="407880"/>
              <a:chOff x="1719000" y="1752480"/>
              <a:chExt cx="6056640" cy="407880"/>
            </a:xfrm>
          </p:grpSpPr>
          <p:sp>
            <p:nvSpPr>
              <p:cNvPr id="522" name=""/>
              <p:cNvSpPr/>
              <p:nvPr/>
            </p:nvSpPr>
            <p:spPr>
              <a:xfrm>
                <a:off x="171900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47292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21928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009560" y="1752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6" name=""/>
              <p:cNvCxnSpPr>
                <a:stCxn id="522" idx="3"/>
                <a:endCxn id="523" idx="1"/>
              </p:cNvCxnSpPr>
              <p:nvPr/>
            </p:nvCxnSpPr>
            <p:spPr>
              <a:xfrm>
                <a:off x="2455560" y="197604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7" name=""/>
              <p:cNvCxnSpPr>
                <a:stCxn id="523" idx="3"/>
                <a:endCxn id="524" idx="1"/>
              </p:cNvCxnSpPr>
              <p:nvPr/>
            </p:nvCxnSpPr>
            <p:spPr>
              <a:xfrm>
                <a:off x="4209480" y="197604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8" name=""/>
              <p:cNvCxnSpPr/>
              <p:nvPr/>
            </p:nvCxnSpPr>
            <p:spPr>
              <a:xfrm>
                <a:off x="5955840" y="198072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676520" y="2133720"/>
            <a:ext cx="6858000" cy="3428640"/>
            <a:chOff x="1676520" y="2133720"/>
            <a:chExt cx="6858000" cy="3428640"/>
          </a:xfrm>
        </p:grpSpPr>
        <p:sp>
          <p:nvSpPr>
            <p:cNvPr id="532" name=""/>
            <p:cNvSpPr/>
            <p:nvPr/>
          </p:nvSpPr>
          <p:spPr>
            <a:xfrm>
              <a:off x="59713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ad9f2"/>
                </a:gs>
                <a:gs pos="100000">
                  <a:srgbClr val="14caee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239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b91ee"/>
                </a:gs>
                <a:gs pos="100000">
                  <a:srgbClr val="8963e9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6765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bd6f9"/>
                </a:gs>
                <a:gs pos="100000">
                  <a:srgbClr val="a0c6f8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842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bd6f9"/>
                </a:gs>
                <a:gs pos="100000">
                  <a:srgbClr val="a0c6f8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927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b91ee"/>
                </a:gs>
                <a:gs pos="100000">
                  <a:srgbClr val="8963e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099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d9f2"/>
                </a:gs>
                <a:gs pos="100000">
                  <a:srgbClr val="14cae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70632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374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1418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4592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524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813320" y="1634760"/>
            <a:ext cx="6215400" cy="1324800"/>
            <a:chOff x="1813320" y="1634760"/>
            <a:chExt cx="6215400" cy="1324800"/>
          </a:xfrm>
        </p:grpSpPr>
        <p:sp>
          <p:nvSpPr>
            <p:cNvPr id="545" name=""/>
            <p:cNvSpPr/>
            <p:nvPr/>
          </p:nvSpPr>
          <p:spPr>
            <a:xfrm rot="3418800">
              <a:off x="20210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8963e9"/>
                </a:gs>
                <a:gs pos="100000">
                  <a:srgbClr val="3f2d6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2944080" y="2016000"/>
              <a:ext cx="901080" cy="124200"/>
              <a:chOff x="2944080" y="2016000"/>
              <a:chExt cx="901080" cy="124200"/>
            </a:xfrm>
          </p:grpSpPr>
          <p:sp>
            <p:nvSpPr>
              <p:cNvPr id="547" name=""/>
              <p:cNvSpPr/>
              <p:nvPr/>
            </p:nvSpPr>
            <p:spPr>
              <a:xfrm>
                <a:off x="29440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030480" y="20167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708720" y="20178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78180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 rot="3418800">
              <a:off x="3685680" y="1780560"/>
              <a:ext cx="874080" cy="970920"/>
            </a:xfrm>
            <a:prstGeom prst="rect">
              <a:avLst/>
            </a:prstGeom>
            <a:solidFill>
              <a:srgbClr val="14ca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4608720" y="2016000"/>
              <a:ext cx="901080" cy="124200"/>
              <a:chOff x="4608720" y="2016000"/>
              <a:chExt cx="901080" cy="124200"/>
            </a:xfrm>
          </p:grpSpPr>
          <p:sp>
            <p:nvSpPr>
              <p:cNvPr id="553" name=""/>
              <p:cNvSpPr/>
              <p:nvPr/>
            </p:nvSpPr>
            <p:spPr>
              <a:xfrm>
                <a:off x="46087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695120" y="20167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73360" y="20178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4644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 rot="3418800">
              <a:off x="5281560" y="17802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8963e9"/>
                </a:gs>
                <a:gs pos="100000">
                  <a:srgbClr val="3f2d6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6273360" y="2016000"/>
              <a:ext cx="1178640" cy="124200"/>
              <a:chOff x="6273360" y="2016000"/>
              <a:chExt cx="1178640" cy="124200"/>
            </a:xfrm>
          </p:grpSpPr>
          <p:sp>
            <p:nvSpPr>
              <p:cNvPr id="559" name=""/>
              <p:cNvSpPr/>
              <p:nvPr/>
            </p:nvSpPr>
            <p:spPr>
              <a:xfrm>
                <a:off x="627336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38640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73440" y="20178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68840" y="20566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 rot="3418800">
              <a:off x="6946200" y="1780200"/>
              <a:ext cx="874080" cy="971280"/>
            </a:xfrm>
            <a:prstGeom prst="rect">
              <a:avLst/>
            </a:prstGeom>
            <a:solidFill>
              <a:srgbClr val="14ca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1283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23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70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0653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1348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28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5238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2194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632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728000" y="1249920"/>
            <a:ext cx="6879600" cy="4804560"/>
            <a:chOff x="1728000" y="1249920"/>
            <a:chExt cx="6879600" cy="4804560"/>
          </a:xfrm>
        </p:grpSpPr>
        <p:sp>
          <p:nvSpPr>
            <p:cNvPr id="575" name=""/>
            <p:cNvSpPr/>
            <p:nvPr/>
          </p:nvSpPr>
          <p:spPr>
            <a:xfrm>
              <a:off x="2925720" y="4465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01600">
              <a:off x="2070000" y="227628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01600">
              <a:off x="2126880" y="211428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0601600">
              <a:off x="2041200" y="210024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rot="20602200">
              <a:off x="2019240" y="213120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601600">
              <a:off x="2050920" y="211140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rot="20602200">
              <a:off x="2033280" y="211896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601600">
              <a:off x="3587760" y="282888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03040" y="30513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08160" y="21369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84320" y="25941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6910200" y="312732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539200">
              <a:off x="2045520" y="212976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5209920" y="360864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84320" y="3584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31840" y="4346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26720" y="41943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20601600">
              <a:off x="3689280" y="308160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5386320" y="400392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70632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062080" y="1066680"/>
            <a:ext cx="5786280" cy="5078520"/>
            <a:chOff x="2062080" y="1066680"/>
            <a:chExt cx="5786280" cy="5078520"/>
          </a:xfrm>
        </p:grpSpPr>
        <p:sp>
          <p:nvSpPr>
            <p:cNvPr id="597" name=""/>
            <p:cNvSpPr/>
            <p:nvPr/>
          </p:nvSpPr>
          <p:spPr>
            <a:xfrm>
              <a:off x="597672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91160" y="3612960"/>
              <a:ext cx="1257120" cy="349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24600" y="5638680"/>
              <a:ext cx="1823760" cy="506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9068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3770000">
              <a:off x="5524200" y="3504960"/>
              <a:ext cx="960480" cy="1918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0856000">
              <a:off x="353808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4476600" y="1749240"/>
              <a:ext cx="1702800" cy="1836360"/>
              <a:chOff x="4476600" y="1749240"/>
              <a:chExt cx="1702800" cy="1836360"/>
            </a:xfrm>
          </p:grpSpPr>
          <p:sp>
            <p:nvSpPr>
              <p:cNvPr id="604" name=""/>
              <p:cNvSpPr/>
              <p:nvPr/>
            </p:nvSpPr>
            <p:spPr>
              <a:xfrm rot="18394200">
                <a:off x="5650920" y="1961640"/>
                <a:ext cx="59580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4476600" y="1997640"/>
                <a:ext cx="1609560" cy="1587960"/>
                <a:chOff x="4476600" y="1997640"/>
                <a:chExt cx="1609560" cy="15879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4476600" y="1997640"/>
                  <a:ext cx="1609560" cy="158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67b8"/>
                    </a:gs>
                    <a:gs pos="100000">
                      <a:srgbClr val="0b182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未知"/>
                <p:cNvSpPr/>
                <p:nvPr/>
              </p:nvSpPr>
              <p:spPr>
                <a:xfrm>
                  <a:off x="4660560" y="2023920"/>
                  <a:ext cx="1241640" cy="599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067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"/>
              <p:cNvSpPr/>
              <p:nvPr/>
            </p:nvSpPr>
            <p:spPr>
              <a:xfrm>
                <a:off x="4563360" y="26888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5886360" y="1066680"/>
              <a:ext cx="891720" cy="861840"/>
              <a:chOff x="5886360" y="1066680"/>
              <a:chExt cx="891720" cy="86184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5886360" y="1066680"/>
                <a:ext cx="871560" cy="861840"/>
                <a:chOff x="5886360" y="1066680"/>
                <a:chExt cx="871560" cy="8618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588636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c6f8"/>
                    </a:gs>
                    <a:gs pos="100000">
                      <a:srgbClr val="48597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未知"/>
                <p:cNvSpPr/>
                <p:nvPr/>
              </p:nvSpPr>
              <p:spPr>
                <a:xfrm>
                  <a:off x="598572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c6f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5906880" y="13986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062080" y="2392200"/>
              <a:ext cx="1744560" cy="1790640"/>
              <a:chOff x="2062080" y="2392200"/>
              <a:chExt cx="1744560" cy="179064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062080" y="2392200"/>
                <a:ext cx="1744560" cy="1790640"/>
                <a:chOff x="2062080" y="2392200"/>
                <a:chExt cx="1744560" cy="179064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06208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caee"/>
                    </a:gs>
                    <a:gs pos="100000">
                      <a:srgbClr val="0e91a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未知"/>
                <p:cNvSpPr/>
                <p:nvPr/>
              </p:nvSpPr>
              <p:spPr>
                <a:xfrm>
                  <a:off x="226152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ca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215640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5817960" y="3652560"/>
              <a:ext cx="2013120" cy="1989000"/>
              <a:chOff x="5817960" y="3652560"/>
              <a:chExt cx="2013120" cy="198900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5817960" y="3652560"/>
                <a:ext cx="2013120" cy="1989000"/>
                <a:chOff x="5817960" y="3652560"/>
                <a:chExt cx="2013120" cy="19890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581796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3e9"/>
                    </a:gs>
                    <a:gs pos="100000">
                      <a:srgbClr val="4a35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未知"/>
                <p:cNvSpPr/>
                <p:nvPr/>
              </p:nvSpPr>
              <p:spPr>
                <a:xfrm>
                  <a:off x="604800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963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610632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"/>
          <p:cNvSpPr/>
          <p:nvPr/>
        </p:nvSpPr>
        <p:spPr>
          <a:xfrm>
            <a:off x="70632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707520" y="63039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47840" y="1981080"/>
            <a:ext cx="5081760" cy="568440"/>
            <a:chOff x="2247840" y="1981080"/>
            <a:chExt cx="5081760" cy="568440"/>
          </a:xfrm>
        </p:grpSpPr>
        <p:sp>
          <p:nvSpPr>
            <p:cNvPr id="98" name=""/>
            <p:cNvSpPr/>
            <p:nvPr/>
          </p:nvSpPr>
          <p:spPr>
            <a:xfrm>
              <a:off x="2529000" y="243504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247840" y="2291040"/>
              <a:ext cx="258480" cy="258480"/>
              <a:chOff x="2247840" y="2291040"/>
              <a:chExt cx="258480" cy="258480"/>
            </a:xfrm>
          </p:grpSpPr>
          <p:sp>
            <p:nvSpPr>
              <p:cNvPr id="100" name=""/>
              <p:cNvSpPr/>
              <p:nvPr/>
            </p:nvSpPr>
            <p:spPr>
              <a:xfrm rot="2700000">
                <a:off x="2285640" y="232884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rot="18900000">
                <a:off x="2285640" y="232884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3336120" y="198108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47840" y="2895480"/>
            <a:ext cx="5081760" cy="568440"/>
            <a:chOff x="2247840" y="2895480"/>
            <a:chExt cx="5081760" cy="568440"/>
          </a:xfrm>
        </p:grpSpPr>
        <p:sp>
          <p:nvSpPr>
            <p:cNvPr id="104" name=""/>
            <p:cNvSpPr/>
            <p:nvPr/>
          </p:nvSpPr>
          <p:spPr>
            <a:xfrm>
              <a:off x="2529000" y="334944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247840" y="3205440"/>
              <a:ext cx="258480" cy="258480"/>
              <a:chOff x="2247840" y="3205440"/>
              <a:chExt cx="258480" cy="258480"/>
            </a:xfrm>
          </p:grpSpPr>
          <p:sp>
            <p:nvSpPr>
              <p:cNvPr id="106" name=""/>
              <p:cNvSpPr/>
              <p:nvPr/>
            </p:nvSpPr>
            <p:spPr>
              <a:xfrm rot="2700000">
                <a:off x="2285640" y="324324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rot="18900000">
                <a:off x="2285640" y="324324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336120" y="289548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47840" y="3813120"/>
            <a:ext cx="5081760" cy="568440"/>
            <a:chOff x="2247840" y="3813120"/>
            <a:chExt cx="5081760" cy="568440"/>
          </a:xfrm>
        </p:grpSpPr>
        <p:sp>
          <p:nvSpPr>
            <p:cNvPr id="110" name=""/>
            <p:cNvSpPr/>
            <p:nvPr/>
          </p:nvSpPr>
          <p:spPr>
            <a:xfrm>
              <a:off x="2529000" y="42670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247840" y="4123080"/>
              <a:ext cx="258480" cy="258480"/>
              <a:chOff x="2247840" y="4123080"/>
              <a:chExt cx="258480" cy="258480"/>
            </a:xfrm>
          </p:grpSpPr>
          <p:sp>
            <p:nvSpPr>
              <p:cNvPr id="112" name=""/>
              <p:cNvSpPr/>
              <p:nvPr/>
            </p:nvSpPr>
            <p:spPr>
              <a:xfrm rot="2700000">
                <a:off x="2285640" y="41608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18900000">
                <a:off x="2285640" y="416088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336120" y="38131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247840" y="4724280"/>
            <a:ext cx="5081760" cy="568440"/>
            <a:chOff x="2247840" y="4724280"/>
            <a:chExt cx="5081760" cy="568440"/>
          </a:xfrm>
        </p:grpSpPr>
        <p:sp>
          <p:nvSpPr>
            <p:cNvPr id="116" name=""/>
            <p:cNvSpPr/>
            <p:nvPr/>
          </p:nvSpPr>
          <p:spPr>
            <a:xfrm>
              <a:off x="2529000" y="517824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247840" y="5034240"/>
              <a:ext cx="258480" cy="258480"/>
              <a:chOff x="2247840" y="5034240"/>
              <a:chExt cx="258480" cy="258480"/>
            </a:xfrm>
          </p:grpSpPr>
          <p:sp>
            <p:nvSpPr>
              <p:cNvPr id="118" name=""/>
              <p:cNvSpPr/>
              <p:nvPr/>
            </p:nvSpPr>
            <p:spPr>
              <a:xfrm rot="2700000">
                <a:off x="2285640" y="507204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rot="18900000">
                <a:off x="2285640" y="5072040"/>
                <a:ext cx="182880" cy="182520"/>
              </a:xfrm>
              <a:prstGeom prst="rtTriangl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336120" y="472428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123720" y="1980720"/>
            <a:ext cx="4419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1111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124080" y="1219320"/>
            <a:ext cx="4953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067b8"/>
                    </a:gs>
                    <a:gs pos="100000">
                      <a:srgbClr val="162f54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067b8"/>
                  </a:gs>
                  <a:gs pos="100000">
                    <a:srgbClr val="162f54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628" name=""/>
          <p:cNvSpPr/>
          <p:nvPr/>
        </p:nvSpPr>
        <p:spPr>
          <a:xfrm>
            <a:off x="3517560" y="645336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963e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04800"/>
            <a:ext cx="670068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8b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8b1111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8b1111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8b1111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8b1111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632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05120" y="1746360"/>
            <a:ext cx="5867280" cy="1301760"/>
            <a:chOff x="1905120" y="1746360"/>
            <a:chExt cx="5867280" cy="1301760"/>
          </a:xfrm>
        </p:grpSpPr>
        <p:sp>
          <p:nvSpPr>
            <p:cNvPr id="127" name=""/>
            <p:cNvSpPr/>
            <p:nvPr/>
          </p:nvSpPr>
          <p:spPr>
            <a:xfrm>
              <a:off x="1905120" y="17463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033280" y="1865880"/>
              <a:ext cx="1130760" cy="1064520"/>
              <a:chOff x="2033280" y="1865880"/>
              <a:chExt cx="1130760" cy="1064520"/>
            </a:xfrm>
          </p:grpSpPr>
          <p:sp>
            <p:nvSpPr>
              <p:cNvPr id="129" name=""/>
              <p:cNvSpPr/>
              <p:nvPr/>
            </p:nvSpPr>
            <p:spPr>
              <a:xfrm>
                <a:off x="2033280" y="186588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0c6f8"/>
                  </a:gs>
                  <a:gs pos="100000">
                    <a:srgbClr val="6f89a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2103840" y="193428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dffa"/>
                  </a:gs>
                  <a:gs pos="50000">
                    <a:srgbClr val="a0c6f8">
                      <a:alpha val="0"/>
                    </a:srgbClr>
                  </a:gs>
                  <a:gs pos="100000">
                    <a:srgbClr val="cadff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159280" y="21553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318840" y="19476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905120" y="3276720"/>
            <a:ext cx="5867280" cy="1301760"/>
            <a:chOff x="1905120" y="3276720"/>
            <a:chExt cx="5867280" cy="1301760"/>
          </a:xfrm>
        </p:grpSpPr>
        <p:sp>
          <p:nvSpPr>
            <p:cNvPr id="134" name=""/>
            <p:cNvSpPr/>
            <p:nvPr/>
          </p:nvSpPr>
          <p:spPr>
            <a:xfrm>
              <a:off x="1905120" y="32767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33280" y="3396240"/>
              <a:ext cx="1130760" cy="1064520"/>
              <a:chOff x="2033280" y="3396240"/>
              <a:chExt cx="1130760" cy="1064520"/>
            </a:xfrm>
          </p:grpSpPr>
          <p:sp>
            <p:nvSpPr>
              <p:cNvPr id="136" name=""/>
              <p:cNvSpPr/>
              <p:nvPr/>
            </p:nvSpPr>
            <p:spPr>
              <a:xfrm>
                <a:off x="2033280" y="33962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88dee"/>
                  </a:gs>
                  <a:gs pos="100000">
                    <a:srgbClr val="8963e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2103840" y="34646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963e9">
                      <a:alpha val="0"/>
                    </a:srgbClr>
                  </a:gs>
                  <a:gs pos="100000">
                    <a:srgbClr val="ccbcf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159280" y="36871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318840" y="34549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905120" y="4816440"/>
            <a:ext cx="5867280" cy="1301760"/>
            <a:chOff x="1905120" y="4816440"/>
            <a:chExt cx="5867280" cy="1301760"/>
          </a:xfrm>
        </p:grpSpPr>
        <p:sp>
          <p:nvSpPr>
            <p:cNvPr id="141" name=""/>
            <p:cNvSpPr/>
            <p:nvPr/>
          </p:nvSpPr>
          <p:spPr>
            <a:xfrm>
              <a:off x="1905120" y="48164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033280" y="4935960"/>
              <a:ext cx="1130760" cy="1064520"/>
              <a:chOff x="2033280" y="4935960"/>
              <a:chExt cx="1130760" cy="1064520"/>
            </a:xfrm>
          </p:grpSpPr>
          <p:sp>
            <p:nvSpPr>
              <p:cNvPr id="143" name=""/>
              <p:cNvSpPr/>
              <p:nvPr/>
            </p:nvSpPr>
            <p:spPr>
              <a:xfrm>
                <a:off x="2033280" y="49359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b9dd1"/>
                  </a:gs>
                  <a:gs pos="100000">
                    <a:srgbClr val="3067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2103840" y="50043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67b8">
                      <a:alpha val="0"/>
                    </a:srgbClr>
                  </a:gs>
                  <a:gs pos="100000">
                    <a:srgbClr val="99b4d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159280" y="5226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318840" y="49946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905120" y="3429000"/>
            <a:ext cx="2286000" cy="2666880"/>
            <a:chOff x="1905120" y="3429000"/>
            <a:chExt cx="2286000" cy="2666880"/>
          </a:xfrm>
        </p:grpSpPr>
        <p:sp>
          <p:nvSpPr>
            <p:cNvPr id="149" name=""/>
            <p:cNvSpPr/>
            <p:nvPr/>
          </p:nvSpPr>
          <p:spPr>
            <a:xfrm>
              <a:off x="1905120" y="34290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00520" y="36291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未知"/>
          <p:cNvSpPr/>
          <p:nvPr/>
        </p:nvSpPr>
        <p:spPr>
          <a:xfrm>
            <a:off x="3984480" y="333216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dcf3"/>
              </a:gs>
              <a:gs pos="100000">
                <a:srgbClr val="14ca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809880" y="1704960"/>
            <a:ext cx="2998440" cy="1601280"/>
            <a:chOff x="3809880" y="1704960"/>
            <a:chExt cx="2998440" cy="1601280"/>
          </a:xfrm>
        </p:grpSpPr>
        <p:grpSp>
          <p:nvGrpSpPr>
            <p:cNvPr id="153" name=""/>
            <p:cNvGrpSpPr/>
            <p:nvPr/>
          </p:nvGrpSpPr>
          <p:grpSpPr>
            <a:xfrm>
              <a:off x="3809880" y="1704960"/>
              <a:ext cx="2998440" cy="1601280"/>
              <a:chOff x="3809880" y="1704960"/>
              <a:chExt cx="2998440" cy="160128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3809880" y="1847880"/>
                <a:ext cx="2998440" cy="1458360"/>
                <a:chOff x="3809880" y="1847880"/>
                <a:chExt cx="2998440" cy="1458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842640" y="18943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2f70"/>
                    </a:gs>
                    <a:gs pos="100000">
                      <a:srgbClr val="8963e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809880" y="18478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3e9"/>
                    </a:gs>
                    <a:gs pos="100000">
                      <a:srgbClr val="c9b9f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951000" y="17049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a0c6f8"/>
                  </a:gs>
                  <a:gs pos="100000">
                    <a:srgbClr val="495b7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85920" y="17128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ceafb"/>
                  </a:gs>
                  <a:gs pos="100000">
                    <a:srgbClr val="a0c6f8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012920" y="17254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a0c6f8">
                      <a:alpha val="48235"/>
                    </a:srgbClr>
                  </a:gs>
                  <a:gs pos="100000">
                    <a:srgbClr val="7e9cc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144680" y="17524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a0c6f8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644720" y="1905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324480" y="3429000"/>
            <a:ext cx="2286000" cy="2666880"/>
            <a:chOff x="6324480" y="3429000"/>
            <a:chExt cx="2286000" cy="2666880"/>
          </a:xfrm>
        </p:grpSpPr>
        <p:sp>
          <p:nvSpPr>
            <p:cNvPr id="164" name=""/>
            <p:cNvSpPr/>
            <p:nvPr/>
          </p:nvSpPr>
          <p:spPr>
            <a:xfrm>
              <a:off x="6324480" y="34290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72160" y="36576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未知"/>
          <p:cNvSpPr/>
          <p:nvPr/>
        </p:nvSpPr>
        <p:spPr>
          <a:xfrm flipH="1">
            <a:off x="5636520" y="33321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ccf7"/>
              </a:gs>
              <a:gs pos="100000">
                <a:srgbClr val="8963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8b1111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371600" y="1722240"/>
            <a:ext cx="7328520" cy="4583520"/>
            <a:chOff x="1371600" y="1722240"/>
            <a:chExt cx="7328520" cy="4583520"/>
          </a:xfrm>
        </p:grpSpPr>
        <p:sp>
          <p:nvSpPr>
            <p:cNvPr id="169" name="未知"/>
            <p:cNvSpPr/>
            <p:nvPr/>
          </p:nvSpPr>
          <p:spPr>
            <a:xfrm rot="20241600">
              <a:off x="200160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056200">
              <a:off x="495252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056200">
              <a:off x="761976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056200">
              <a:off x="350496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056200">
              <a:off x="609552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056200">
              <a:off x="266652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3088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963e9"/>
                </a:gs>
                <a:gs pos="100000">
                  <a:srgbClr val="2f22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564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a0c6f8"/>
                </a:gs>
                <a:gs pos="100000">
                  <a:srgbClr val="323d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7972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14caee"/>
                </a:gs>
                <a:gs pos="100000">
                  <a:srgbClr val="0747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4824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7400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3067b8"/>
                </a:gs>
                <a:gs pos="100000">
                  <a:srgbClr val="1023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328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58760" y="2436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81000" y="2652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808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2020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84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1156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"/>
            <p:cNvCxnSpPr/>
            <p:nvPr/>
          </p:nvCxnSpPr>
          <p:spPr>
            <a:xfrm flipH="1">
              <a:off x="149652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3716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b1111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0632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52480" y="1905120"/>
            <a:ext cx="6476760" cy="4125600"/>
            <a:chOff x="1752480" y="1905120"/>
            <a:chExt cx="6476760" cy="4125600"/>
          </a:xfrm>
        </p:grpSpPr>
        <p:sp>
          <p:nvSpPr>
            <p:cNvPr id="192" name=""/>
            <p:cNvSpPr/>
            <p:nvPr/>
          </p:nvSpPr>
          <p:spPr>
            <a:xfrm>
              <a:off x="4216320" y="421020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2f54"/>
                </a:gs>
                <a:gs pos="50000">
                  <a:srgbClr val="3067b8"/>
                </a:gs>
                <a:gs pos="100000">
                  <a:srgbClr val="162f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16320" y="370404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2f54"/>
                </a:gs>
                <a:gs pos="50000">
                  <a:srgbClr val="3067b8"/>
                </a:gs>
                <a:gs pos="100000">
                  <a:srgbClr val="162f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16320" y="319716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2f54"/>
                </a:gs>
                <a:gs pos="50000">
                  <a:srgbClr val="3067b8"/>
                </a:gs>
                <a:gs pos="100000">
                  <a:srgbClr val="162f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91880" y="3416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1880" y="392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91880" y="442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82720" y="298008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2480" y="247320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2680" y="269028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39760" y="247320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10320" y="269028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09040" y="298008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2520" y="190512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95d6d"/>
                </a:gs>
                <a:gs pos="50000">
                  <a:srgbClr val="14caee"/>
                </a:gs>
                <a:gs pos="100000">
                  <a:srgbClr val="095d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85720" y="261828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9920" y="211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2720" y="544104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69920" y="5662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65200" y="486180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7520" y="63039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52480" y="2209680"/>
            <a:ext cx="6705720" cy="3352680"/>
            <a:chOff x="1752480" y="2209680"/>
            <a:chExt cx="6705720" cy="3352680"/>
          </a:xfrm>
        </p:grpSpPr>
        <p:grpSp>
          <p:nvGrpSpPr>
            <p:cNvPr id="214" name=""/>
            <p:cNvGrpSpPr/>
            <p:nvPr/>
          </p:nvGrpSpPr>
          <p:grpSpPr>
            <a:xfrm>
              <a:off x="3618720" y="2209680"/>
              <a:ext cx="2900160" cy="2706120"/>
              <a:chOff x="3618720" y="2209680"/>
              <a:chExt cx="2900160" cy="2706120"/>
            </a:xfrm>
          </p:grpSpPr>
          <p:sp>
            <p:nvSpPr>
              <p:cNvPr id="215" name=""/>
              <p:cNvSpPr/>
              <p:nvPr/>
            </p:nvSpPr>
            <p:spPr>
              <a:xfrm flipH="1" rot="16200000">
                <a:off x="353736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0a1a1"/>
                  </a:gs>
                  <a:gs pos="100000">
                    <a:srgbClr val="8b111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5400000">
                <a:off x="614088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0a1a1"/>
                  </a:gs>
                  <a:gs pos="100000">
                    <a:srgbClr val="8b1111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0800000">
                <a:off x="484812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0a1a1"/>
                  </a:gs>
                  <a:gs pos="100000">
                    <a:srgbClr val="8b111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1536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4820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16952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963e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16952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28904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49357d"/>
                  </a:gs>
                  <a:gs pos="50000">
                    <a:srgbClr val="8963e9"/>
                  </a:gs>
                  <a:gs pos="100000">
                    <a:srgbClr val="49357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8904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75248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2f54"/>
                </a:gs>
                <a:gs pos="50000">
                  <a:srgbClr val="3067b8"/>
                </a:gs>
                <a:gs pos="100000">
                  <a:srgbClr val="162f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248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2f54"/>
                </a:gs>
                <a:gs pos="50000">
                  <a:srgbClr val="3067b8"/>
                </a:gs>
                <a:gs pos="100000">
                  <a:srgbClr val="162f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5248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2f54"/>
                </a:gs>
                <a:gs pos="50000">
                  <a:srgbClr val="3067b8"/>
                </a:gs>
                <a:gs pos="100000">
                  <a:srgbClr val="162f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984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b72"/>
                </a:gs>
                <a:gs pos="50000">
                  <a:srgbClr val="a0c6f8"/>
                </a:gs>
                <a:gs pos="100000">
                  <a:srgbClr val="495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2984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b72"/>
                </a:gs>
                <a:gs pos="50000">
                  <a:srgbClr val="a0c6f8"/>
                </a:gs>
                <a:gs pos="100000">
                  <a:srgbClr val="495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2984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5b72"/>
                </a:gs>
                <a:gs pos="50000">
                  <a:srgbClr val="a0c6f8"/>
                </a:gs>
                <a:gs pos="100000">
                  <a:srgbClr val="495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8480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1200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0896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0896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0896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0692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0692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0692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b1111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633320" y="2362320"/>
            <a:ext cx="6748200" cy="3352680"/>
            <a:chOff x="1633320" y="2362320"/>
            <a:chExt cx="6748200" cy="3352680"/>
          </a:xfrm>
        </p:grpSpPr>
        <p:sp>
          <p:nvSpPr>
            <p:cNvPr id="241" name="未知"/>
            <p:cNvSpPr/>
            <p:nvPr/>
          </p:nvSpPr>
          <p:spPr>
            <a:xfrm>
              <a:off x="7856280" y="2362320"/>
              <a:ext cx="5187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5365440" y="2362320"/>
              <a:ext cx="301608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7332480" y="3203640"/>
              <a:ext cx="5202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4616280" y="3203640"/>
              <a:ext cx="32414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6808680" y="4035600"/>
              <a:ext cx="5169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6287760" y="4869000"/>
              <a:ext cx="5205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3127320" y="4873680"/>
              <a:ext cx="368100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45560" y="4869000"/>
              <a:ext cx="202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633680" y="4038840"/>
              <a:ext cx="28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1633320" y="3210120"/>
              <a:ext cx="368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633320" y="2368800"/>
              <a:ext cx="451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95320" y="236232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95320" y="323388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95320" y="405144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95320" y="48690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3693960" y="2525760"/>
              <a:ext cx="165852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0120" y="2903760"/>
              <a:ext cx="2496960" cy="30456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17720" y="3743280"/>
              <a:ext cx="2720880" cy="2984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3873240" y="4035600"/>
              <a:ext cx="345888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75040" y="4578480"/>
              <a:ext cx="2944440" cy="2984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25520" y="5415120"/>
              <a:ext cx="3168360" cy="29700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33840" y="2686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33840" y="3513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33840" y="4376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33840" y="5183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633680" y="5703840"/>
              <a:ext cx="14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06320" y="99036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5:31:10Z</dcterms:created>
  <dc:creator/>
  <dc:description/>
  <dc:language>en-US</dc:language>
  <cp:lastModifiedBy>GZB</cp:lastModifiedBy>
  <cp:lastPrinted>1899-12-30T00:00:00Z</cp:lastPrinted>
  <dcterms:modified xsi:type="dcterms:W3CDTF">2014-06-07T06:45:03Z</dcterms:modified>
  <cp:revision>2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