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64CE9-791F-478A-B3F6-D5F2979A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B2832-AA9E-4DEE-9636-E239F945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43124-4527-4DAA-B56D-E9DAC69E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66F3C-0A7E-413E-B652-52AC2A64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E657D-3C02-45FF-AFD1-B6F18C18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DE89B-1785-4830-A9E9-BD382B07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2AA20-77A7-42DF-8450-A910FD12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28D13-1235-4F5A-B508-B9990159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0E92E-1808-42DA-BFAD-4CE77313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3057A-A810-4FAD-B93B-C6D4D5E5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B1CDB-F1D9-4B66-8837-5B87CF63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2A148-0488-40EF-8D9D-74DA9D76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hyperlink" Target="http://www.nordri.net/" TargetMode="External"/><Relationship Id="rId9" Type="http://schemas.openxmlformats.org/officeDocument/2006/relationships/hyperlink" Target="http://www.nordridesign.com/" TargetMode="External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n/" TargetMode="External"/><Relationship Id="rId15" Type="http://schemas.openxmlformats.org/officeDocument/2006/relationships/hyperlink" Target="http://creativecommons.org/licenses/by-nc/2.5/cn/legalcode" TargetMode="External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37.xml"/><Relationship Id="rId19" Type="http://schemas.openxmlformats.org/officeDocument/2006/relationships/slideLayout" Target="../slideLayouts/slideLayout38.xml"/><Relationship Id="rId20" Type="http://schemas.openxmlformats.org/officeDocument/2006/relationships/slideLayout" Target="../slideLayouts/slideLayout39.xml"/><Relationship Id="rId21" Type="http://schemas.openxmlformats.org/officeDocument/2006/relationships/slideLayout" Target="../slideLayouts/slideLayout40.xml"/><Relationship Id="rId22" Type="http://schemas.openxmlformats.org/officeDocument/2006/relationships/slideLayout" Target="../slideLayouts/slideLayout41.xml"/><Relationship Id="rId23" Type="http://schemas.openxmlformats.org/officeDocument/2006/relationships/slideLayout" Target="../slideLayouts/slideLayout42.xml"/><Relationship Id="rId24" Type="http://schemas.openxmlformats.org/officeDocument/2006/relationships/slideLayout" Target="../slideLayouts/slideLayout43.xml"/><Relationship Id="rId25" Type="http://schemas.openxmlformats.org/officeDocument/2006/relationships/slideLayout" Target="../slideLayouts/slideLayout44.xml"/><Relationship Id="rId26" Type="http://schemas.openxmlformats.org/officeDocument/2006/relationships/slideLayout" Target="../slideLayouts/slideLayout45.xml"/><Relationship Id="rId27" Type="http://schemas.openxmlformats.org/officeDocument/2006/relationships/slideLayout" Target="../slideLayouts/slideLayout46.xml"/><Relationship Id="rId28" Type="http://schemas.openxmlformats.org/officeDocument/2006/relationships/slideLayout" Target="../slideLayouts/slideLayout47.xml"/><Relationship Id="rId2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61640" cy="1486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3FE20E4-01CB-4FEC-B771-EF630048D894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14400" y="-23760"/>
            <a:ext cx="9177480" cy="6881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486080"/>
            <a:ext cx="9182160" cy="1800000"/>
          </a:xfrm>
          <a:prstGeom prst="rect">
            <a:avLst/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413000"/>
            <a:ext cx="9182160" cy="17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03640"/>
            <a:ext cx="9182160" cy="171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3639960"/>
            <a:ext cx="9180360" cy="3218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4400" y="-23760"/>
            <a:ext cx="9177480" cy="6881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3639960"/>
            <a:ext cx="9180360" cy="3218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0F9E-6503-4A78-BC2A-8667F52CE47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91DA-A6D1-412F-8138-1D90D7AB0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581120" y="2435400"/>
            <a:ext cx="1647720" cy="669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3832200" y="2565360"/>
            <a:ext cx="1479600" cy="447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rcRect l="0" t="0" r="394" b="0"/>
          <a:stretch/>
        </p:blipFill>
        <p:spPr>
          <a:xfrm>
            <a:off x="6066000" y="2583000"/>
            <a:ext cx="1415880" cy="4251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>
            <a:hlinkClick r:id="rId8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>
            <a:hlinkClick r:id="rId9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>
            <a:hlinkClick r:id="rId10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>
            <a:hlinkClick r:id="rId11"/>
          </p:cNvPr>
          <p:cNvSpPr/>
          <p:nvPr/>
        </p:nvSpPr>
        <p:spPr>
          <a:xfrm>
            <a:off x="2368080" y="3859920"/>
            <a:ext cx="30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本作品采用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进行许可。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12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13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4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i="1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15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i="1" lang="en-US" sz="1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2" descr="cc"/>
          <p:cNvPicPr/>
          <p:nvPr/>
        </p:nvPicPr>
        <p:blipFill>
          <a:blip r:embed="rId16"/>
          <a:stretch/>
        </p:blipFill>
        <p:spPr>
          <a:xfrm>
            <a:off x="3635280" y="1125360"/>
            <a:ext cx="2017800" cy="517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349800" y="1125360"/>
            <a:ext cx="0" cy="576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7">
            <a:grayscl/>
          </a:blip>
          <a:srcRect l="0" t="0" r="394" b="0"/>
          <a:stretch/>
        </p:blipFill>
        <p:spPr>
          <a:xfrm>
            <a:off x="1258920" y="1095480"/>
            <a:ext cx="1942920" cy="585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4d4d4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中国专业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8"/>
    <p:sldLayoutId id="2147483689" r:id="rId19"/>
    <p:sldLayoutId id="2147483690" r:id="rId20"/>
    <p:sldLayoutId id="2147483691" r:id="rId21"/>
    <p:sldLayoutId id="2147483692" r:id="rId22"/>
    <p:sldLayoutId id="2147483693" r:id="rId23"/>
    <p:sldLayoutId id="2147483694" r:id="rId24"/>
    <p:sldLayoutId id="2147483695" r:id="rId25"/>
    <p:sldLayoutId id="2147483696" r:id="rId26"/>
    <p:sldLayoutId id="2147483697" r:id="rId27"/>
    <p:sldLayoutId id="2147483698" r:id="rId28"/>
    <p:sldLayoutId id="2147483699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68360" y="2588760"/>
            <a:ext cx="82072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466560" y="4869000"/>
            <a:ext cx="2338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i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88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89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5b8cc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2a568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00285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66b2f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98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1477800" y="1989000"/>
            <a:ext cx="618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75600" y="306864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285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3DDCA-A184-4985-AA5E-CAF1679088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10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6DFCC-C89D-4FDE-9949-FB528EDDDD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雨林木风</cp:lastModifiedBy>
  <cp:lastPrinted>1899-12-30T00:00:00Z</cp:lastPrinted>
  <dcterms:modified xsi:type="dcterms:W3CDTF">2014-05-17T05:57:03Z</dcterms:modified>
  <cp:revision>28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