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F79-34FF-4F59-9092-C0C19B7F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F06-C02F-42BF-A09A-152AE767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1A8-5B78-4D99-BF72-1B4FC3F8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563-C528-4D91-9BCE-8C27165C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077-BFC3-4FE1-B198-30EE8F33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3DE-43BA-490F-99BB-8FCE0D92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7C4-BA65-4BEC-9B43-B3C9C2E1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554-8292-4B6B-A4A0-1C6FCC51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7772400" cy="51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797-59B5-41DA-8E55-35C10935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172-3FD1-478F-AE42-586B5A70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4D0-6D0E-4B2C-8249-ACEC2FA5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12E-2C61-4015-9450-9AFDB998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65800"/>
            <a:ext cx="190512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65800"/>
            <a:ext cx="289584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65800"/>
            <a:ext cx="190512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808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2D57-1A43-4815-B512-ECB43B4ED24C}" type="slidenum">
              <a:rPr b="0" lang="zh-TW" sz="1400" spc="-1" strike="noStrike">
                <a:solidFill>
                  <a:srgbClr val="80808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36920" y="544500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  <a:ea typeface="PMingLiU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11280" y="333360"/>
            <a:ext cx="763272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6"/>
          <p:cNvSpPr/>
          <p:nvPr/>
        </p:nvSpPr>
        <p:spPr>
          <a:xfrm>
            <a:off x="684360" y="404640"/>
            <a:ext cx="718920" cy="432000"/>
          </a:xfrm>
          <a:prstGeom prst="pie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  <a:ea typeface="PMingLiU"/>
            </a:endParaRPr>
          </a:p>
        </p:txBody>
      </p:sp>
      <p:sp>
        <p:nvSpPr>
          <p:cNvPr id="46" name=""/>
          <p:cNvSpPr/>
          <p:nvPr/>
        </p:nvSpPr>
        <p:spPr>
          <a:xfrm>
            <a:off x="466560" y="6454800"/>
            <a:ext cx="52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8:17:24Z</dcterms:created>
  <dc:creator/>
  <dc:description/>
  <dc:language>en-US</dc:language>
  <cp:lastModifiedBy>echo</cp:lastModifiedBy>
  <dcterms:modified xsi:type="dcterms:W3CDTF">2014-11-02T00:37:43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