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72C-9FD7-4280-9EE1-939EBB56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84A-B4AE-43A3-B247-843E362A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5C2-31EC-4291-9038-679C7C43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BA0-368A-48B7-9CCE-FB86D17A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132-0034-4A60-B69E-12E0357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17D-1F20-42D1-9FEE-0042E56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0A9-8163-4A24-9724-7D69874B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F13-5B32-40F8-AA27-562291B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DF9-6B0B-4846-9F61-52371896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879-87EF-4132-89A2-25A579C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E61-08FC-4A66-B340-91E2515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669-C6CC-4B06-9AFA-E7A4A50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112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470-5A0E-465B-9920-30437200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8360" y="6702480"/>
            <a:ext cx="777960" cy="13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 flipH="1" rot="10800000">
            <a:off x="8388360" y="6668640"/>
            <a:ext cx="28908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95640" y="1125360"/>
            <a:ext cx="460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cc66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170172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cc66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0880" y="6645240"/>
            <a:ext cx="828720" cy="20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0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25T05:56:05Z</dcterms:modified>
  <cp:revision>7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