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F58-F7C0-4A61-818B-C0E28782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1F3-423F-4BA7-BDC1-9AE49DC0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0C6-C0FF-4A4D-8C01-D4D184B0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B32-C3E9-4400-9F6F-CA08EB4E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A14-F956-41C6-9475-49D0E8B1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E20-C296-48DA-80C9-E14F5E5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8D8-7974-421E-A3C5-F97BA859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0DE-FFFD-4DB4-8EFA-6D3B6A2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064-DAB7-4CAF-A5CE-659CF7D1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D30-AA1C-435E-ACED-1F62DFCF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153-4A1E-4538-98C8-52D4988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F30-DAA3-484C-BD01-15F90F8F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F1EC-4005-4285-9EA3-DF4F3077C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71520" y="3273120"/>
            <a:ext cx="51433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87196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13240" y="4000320"/>
            <a:ext cx="420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87196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13800" y="6670800"/>
            <a:ext cx="1309680" cy="13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8719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2860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FR" sz="3200" spc="-1" strike="noStrike">
                <a:solidFill>
                  <a:srgbClr val="48719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65788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6:05:09Z</dcterms:created>
  <dc:creator>Eric</dc:creator>
  <dc:description/>
  <dc:language>en-US</dc:language>
  <cp:lastModifiedBy>Admin</cp:lastModifiedBy>
  <cp:lastPrinted>1899-12-30T00:00:00Z</cp:lastPrinted>
  <dcterms:modified xsi:type="dcterms:W3CDTF">2014-05-13T13:57:01Z</dcterms:modified>
  <cp:revision>30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