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98A-85E5-4297-BC61-AA4F80D2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4F3-DE22-4E53-A79F-C138F20A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5D2-87E4-4908-9956-48A03E18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923-BE8F-4392-9E50-D2C0BF77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1C4F-D67E-4574-A53F-E4E4FA65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139-7ED0-4587-A43D-220B8077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588-E0A1-4F17-9F41-6C8E51C1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0D6-B3E6-4900-9D0D-C700AB35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9DB-6FAE-4F70-BBF0-766120F3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0B9-4654-461D-B962-4298D7E6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B0C-110E-4D94-A9ED-7094B898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822-B0A9-43BC-913F-8D0871B8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F756-FCAB-4AB9-8049-D1E1D4B6D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8896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5892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918560" y="4876920"/>
            <a:ext cx="1190520" cy="28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25800" y="4803840"/>
            <a:ext cx="15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68000" y="206280"/>
            <a:ext cx="64184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7498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68000" y="1199880"/>
            <a:ext cx="64184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774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7498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774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7498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7078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7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749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078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7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749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7525800" y="4732200"/>
            <a:ext cx="15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000" y="206280"/>
            <a:ext cx="64184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68000" y="1199880"/>
            <a:ext cx="64184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075480" y="4660920"/>
            <a:ext cx="3819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5:10:40Z</dcterms:created>
  <dc:creator>Ric6000</dc:creator>
  <dc:description/>
  <dc:language>en-US</dc:language>
  <cp:lastModifiedBy>Ric6000</cp:lastModifiedBy>
  <cp:lastPrinted>1899-12-30T00:00:00Z</cp:lastPrinted>
  <dcterms:modified xsi:type="dcterms:W3CDTF">2014-05-21T14:38:03Z</dcterms:modified>
  <cp:revision>1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