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0439400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000" y="37450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37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9900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636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0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9900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7636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22000" y="1511280"/>
            <a:ext cx="9396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93963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22000" y="258480"/>
            <a:ext cx="93963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22000" y="1511280"/>
            <a:ext cx="9396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7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000" y="37450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37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9900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7636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200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9900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7636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2000" y="1511280"/>
            <a:ext cx="9396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93963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93963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2000" y="258480"/>
            <a:ext cx="93963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37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2000" y="37450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37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9900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7636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200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9900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87636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7E2-4CF7-4403-AF8E-A1771DFC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22000" y="1511280"/>
            <a:ext cx="9396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598-0BA8-407C-9B51-6E548986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93963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D6C-4EF1-4048-BE3C-3D905B42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4DA-F303-4F4B-A677-DB8A933E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4F3-B499-495B-B9F8-B0D15E16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522000" y="258480"/>
            <a:ext cx="93963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DFA-6E72-474F-9A43-1782E72C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0F8E-5217-485A-8658-D5251CEF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37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2E5C-11BD-4B4D-90E2-A13BBEC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4F1-F5D8-407E-864A-CE99AE8F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2000" y="37450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3B1C-F29E-4CBE-A07E-980DA199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337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A1E-215B-4C78-AACB-894E4202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9900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76360" y="15112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200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69900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876360" y="3745080"/>
            <a:ext cx="302544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5F2-28A8-46D2-8FA4-4DC8B235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2000" y="258480"/>
            <a:ext cx="93963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7000" y="37450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22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000" y="1511280"/>
            <a:ext cx="458532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000" y="3745080"/>
            <a:ext cx="9396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3"/>
          <a:stretch/>
        </p:blipFill>
        <p:spPr>
          <a:xfrm>
            <a:off x="4680" y="0"/>
            <a:ext cx="1043172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2000" y="1516320"/>
            <a:ext cx="939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2" descr=""/>
          <p:cNvPicPr/>
          <p:nvPr/>
        </p:nvPicPr>
        <p:blipFill>
          <a:blip r:embed="rId2"/>
          <a:stretch/>
        </p:blipFill>
        <p:spPr>
          <a:xfrm>
            <a:off x="4680" y="0"/>
            <a:ext cx="10431720" cy="6480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22000" y="1516320"/>
            <a:ext cx="939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alibri"/>
              <a:buChar char="–"/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Calibri"/>
              <a:buChar char="–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Calibri"/>
              <a:buChar char="»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2" descr=""/>
          <p:cNvPicPr/>
          <p:nvPr/>
        </p:nvPicPr>
        <p:blipFill>
          <a:blip r:embed="rId2"/>
          <a:stretch/>
        </p:blipFill>
        <p:spPr>
          <a:xfrm>
            <a:off x="4680" y="0"/>
            <a:ext cx="10431720" cy="6480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56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2000" y="1516320"/>
            <a:ext cx="939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22000" y="258480"/>
            <a:ext cx="939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22000" y="1511280"/>
            <a:ext cx="939636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1"/>
          </p:nvPr>
        </p:nvSpPr>
        <p:spPr>
          <a:xfrm>
            <a:off x="522360" y="6005160"/>
            <a:ext cx="24350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2EA8-5F05-4CC6-94BA-6D38BDC9996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2"/>
          </p:nvPr>
        </p:nvSpPr>
        <p:spPr>
          <a:xfrm>
            <a:off x="3566880" y="6005160"/>
            <a:ext cx="3306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3"/>
          </p:nvPr>
        </p:nvSpPr>
        <p:spPr>
          <a:xfrm>
            <a:off x="7482960" y="6005160"/>
            <a:ext cx="24354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CB36-BD4C-4E9D-85D6-68B81769FA7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10441080" cy="648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47720" y="5111640"/>
            <a:ext cx="8253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-802080" y="6049800"/>
            <a:ext cx="35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4160" y="289080"/>
            <a:ext cx="87138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输入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标题 1"/>
          <p:cNvSpPr/>
          <p:nvPr/>
        </p:nvSpPr>
        <p:spPr>
          <a:xfrm>
            <a:off x="755640" y="1442880"/>
            <a:ext cx="89312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791240" y="3730680"/>
            <a:ext cx="5181480" cy="1652400"/>
          </a:xfrm>
          <a:prstGeom prst="rect">
            <a:avLst/>
          </a:prstGeom>
          <a:ln w="0">
            <a:noFill/>
          </a:ln>
        </p:spPr>
      </p:pic>
      <p:sp>
        <p:nvSpPr>
          <p:cNvPr id="164" name="标题 1"/>
          <p:cNvSpPr/>
          <p:nvPr/>
        </p:nvSpPr>
        <p:spPr>
          <a:xfrm>
            <a:off x="614520" y="289080"/>
            <a:ext cx="8713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Calibri"/>
                <a:ea typeface="宋体"/>
              </a:rPr>
              <a:t>单击输入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755640" y="1442880"/>
            <a:ext cx="89312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5f5f5f"/>
                </a:solidFill>
                <a:latin typeface="Calibri"/>
                <a:ea typeface="宋体"/>
              </a:rPr>
              <a:t>单击输入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66920" y="5041800"/>
            <a:ext cx="60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667800" cy="6480000"/>
            <a:chOff x="0" y="0"/>
            <a:chExt cx="9667800" cy="6480000"/>
          </a:xfrm>
        </p:grpSpPr>
        <p:sp>
          <p:nvSpPr>
            <p:cNvPr id="168" name="矩形 4"/>
            <p:cNvSpPr/>
            <p:nvPr/>
          </p:nvSpPr>
          <p:spPr>
            <a:xfrm>
              <a:off x="224280" y="0"/>
              <a:ext cx="85712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966780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Box 7"/>
            <p:cNvSpPr/>
            <p:nvPr/>
          </p:nvSpPr>
          <p:spPr>
            <a:xfrm rot="20926800">
              <a:off x="2197080" y="3374640"/>
              <a:ext cx="53294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0T01:54:00Z</dcterms:created>
  <dc:creator>USER</dc:creator>
  <dc:description/>
  <dc:language>en-US</dc:language>
  <cp:lastModifiedBy>微软中国</cp:lastModifiedBy>
  <dcterms:modified xsi:type="dcterms:W3CDTF">2014-11-06T01:32:39Z</dcterms:modified>
  <cp:revision>1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