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3215-3E8F-4848-A69D-FE1EA895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C42D-E1A3-4DF6-B95E-AC349B1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FC64-22FA-4E49-9727-8CFC8948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D9931-F89D-4F39-B5C9-1FF429F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F0E1-429C-497B-B414-92F13FC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EA677-ADAD-45AF-AD66-5811EEB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624CE-9CD2-4976-9A59-9DE953A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C45B6-18D3-4558-8CB4-3BCFB8C2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17D0-F268-424B-B13F-C82B762B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FE4B-02B6-4FB4-8017-4907937A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CEDD6-0CC5-409E-893C-510264B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7772C-555E-4D58-AEC3-52FC9471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3040-DD5B-47AB-A52F-82A4E03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6C617-AA9A-472E-9C97-ACE9661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77C3-929A-47BE-B7A5-25F7348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4D916-431F-4FE4-B118-4DA5745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DB8B5-B02B-475F-9F99-2BBC4E5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D7A4B-5023-4C4A-B6E1-7CE1323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29581-9D7C-41B6-9D61-7438864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8ACB4-6D43-4987-9991-52D962A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F79E-CB33-41D4-8A00-61888007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CEC30-929B-459F-8846-BE9D6442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B834D-E4E0-4F34-A559-EEAC4F0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4B091-8BA3-4B87-B561-DE7CEB9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0937-648C-4A14-940F-0627E91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68985-6A0E-4AC6-B008-776365E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4A78F-8743-4C4D-A262-FE58923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51154-3632-4C46-B13F-97917FC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A47C6-1BA4-41B9-990D-4C0CA3B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B37D5-922C-4989-95B0-48FAEC5E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55E-8A16-4AE2-A033-618E126F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2194-09F7-47B3-8F21-D876DC7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52FDA-8B52-4307-83B1-23F88828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459EC-2F7C-439A-ACD7-DA19ADEB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BE026-52BB-496A-8A81-7F1FF9C8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A879-67F5-4EC3-AFFB-91F11218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8DA2D-FA4D-4F13-964E-59282949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1B07-FD95-41EB-8A1C-CC39A0DC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ED3E8-9DCA-4AC7-B380-C9FFC728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C8D46-35A5-478E-8982-04A2F75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6623-0453-43CB-ABE1-A85092B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A20-3447-473B-88CA-20251579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BA077-B7BA-4B70-AEAB-F04289B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6ABBC-8359-40CD-9276-62C961EF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38EC-FBAE-4127-84E3-47318EB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FA91C-F96F-431D-B7F1-CB649E78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BBB0-4984-4633-84D1-14EE6B19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6D2F4-7196-4BFA-85AF-CCE2ABC4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7C368-B5C8-4250-8497-DE732EF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995C7-D897-40CC-9294-9A32906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8E87-7C66-402C-A528-27592927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5DADC-7763-4764-9394-664D8EE7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334-FF0E-4380-8A62-33A31219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812D5-B2BD-4A5E-8D4B-1E32C5F9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861AA-ACAD-4448-AAA6-D12144A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ED2A3-D53D-4659-9BAB-821867C5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044B7-223D-40B8-98A0-20511CC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242E9-3375-4E2C-8464-632A89F4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33806-75ED-4C1C-9AF0-1A775220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7F58E-8702-46B9-820F-50E17AE8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5D2-EAF0-4089-BF27-DFE0DA39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706-3578-4F39-8F28-CFEFB03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010-08B9-472A-9440-D7463AA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FE2-B498-4297-8D04-3B0ECFE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5D9-B55C-405A-A472-838CCEB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F9B-659B-46D7-902E-9AE5184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53E-0BF9-43AF-9335-A87C2DC2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B30-3DBB-4CE0-BEF8-3832D779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508-0039-40AB-BBB0-66DCCBF6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5CBE-06D6-4486-83C6-C9D0A7A2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F569-44F6-4615-9BD8-31B85BE6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2E9-7167-4203-BC7D-B27BBDD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53FC-3B9E-4A9B-B0BF-8D1DD3F9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BFE-47D9-4918-95A2-3B9144D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43AD-8D97-4C4E-98A3-658B8E6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EC80-1148-462A-94D4-CF2E326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1D0A-B592-45A0-891A-4B0CD5D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C5FD-DEE8-4F81-ADC7-2D1170F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AA4-5E88-4DBF-8853-091CA7B3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A3E2-7DEC-4E22-8266-44362202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71D4-8751-4ED2-9AA5-FED3BB8E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63E9-5ACF-4E06-96F6-DC90892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DACD-D924-43C1-9F1B-AFA45D78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47C0-91B4-4C9D-ABF5-5A11995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2B01-6449-44AC-80F0-98AB1398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A8C7-6F3A-425D-8747-3258374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96BC-03D6-489F-801C-E1C638B5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0878-70F4-43BA-A108-5BC311C5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96C6-5DB4-4A8E-81CF-D4B540E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31F9-F177-42A9-A2FE-76565078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CC82-AC27-46D5-A9FA-C2987EC2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2DA6-E15A-4902-8199-F39ABC11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ADEE-8620-46A1-B4C1-09BE9679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648A-E34A-47BE-B5E9-D1A364EF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37BF-D3AF-435D-80E9-622985E8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7DF4-82CE-4E60-BD92-4E13259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0A88-5B9E-4FBB-8501-9245939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407A-908F-4E30-BEDF-3C361FDD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58FC-62F1-485D-8829-2561C8B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5F89-1E9D-4F5D-8360-53C973D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552D-5C47-470A-A420-D4B90807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BF4D-B3B0-41CB-9C18-FD3BF2C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9EFD-F0D6-48CF-8A86-5373DD0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EC31-56FF-4EC2-9067-BFF14391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159E-F5E9-4557-B5AB-D82765E1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C447-241F-4EDB-8817-2B464E9B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BA36-1CCE-4825-9A71-C7206F0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B83E-354E-47E5-894C-8F1E509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ADA9-91AD-4ED5-81E1-8CC4FDC5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A59D-35BC-4E7E-9A0E-96EE426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69613-7952-4DCC-AEC9-01068DD5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50842-C185-48D3-9DB2-1719F61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A21F-0AD4-43D5-8F52-6DF4A44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E4F9-2482-44F5-8FDD-DB7C69C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E9F64-396E-4D92-AEC9-51559D9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C74F-E0F4-4057-AA67-6601837E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1AA8-6D32-45C8-B672-3401C91D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D27F7-47CE-4E9F-A2C0-EE4353F3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7627-32CF-42BD-A4D5-7B92281D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E516-C4A0-4888-830C-BF1C18B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5352-8659-4287-98AD-AEFA24A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10C4-26FE-4C3C-93F4-CDB8A7A7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8A08-9CEC-4459-87B3-D3E61ED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5495-7D36-4BA0-B822-2A07D3A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6A29-10A1-4066-A35D-B4C31265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6946-9D68-49E0-9B55-7877731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6191-492C-4FB2-8F60-3065206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CBBBC-EC34-497B-884B-C320F7B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A7C0-6C7A-4250-AA0B-B6515FAC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DF70B-10BA-4BEF-8251-67030F92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75E8-8F3F-4749-B51A-FAA651B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E0E6A-2900-43E6-86AD-62576FFF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B08C-F052-4BD3-8C3A-8C9D8866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0809-D923-4C7F-A89C-07C1CDB8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A5AE-AD51-44DC-A5A4-750228D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9C67-28FA-4562-8D67-4C5A2E3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4181C-0D00-461E-A52C-B5F2691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D41B-EC85-40FC-9BE2-A0F31CC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517AF-CC3C-49F3-8929-6E833D2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57A75-B1C3-4E3A-9547-9242387E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F441F-34BD-4350-984E-B3EC6712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74759-21EA-4FD6-8739-9FA0E4E4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9B98-8B30-418C-B698-DF4F14D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7EFE-620D-4F8B-ACF4-37E4A4E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" name="Line 113"/>
            <p:cNvSpPr/>
            <p:nvPr/>
          </p:nvSpPr>
          <p:spPr>
            <a:xfrm>
              <a:off x="179280" y="549360"/>
              <a:ext cx="87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Line 114"/>
            <p:cNvSpPr/>
            <p:nvPr/>
          </p:nvSpPr>
          <p:spPr>
            <a:xfrm>
              <a:off x="179280" y="115920"/>
              <a:ext cx="874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Line 115"/>
            <p:cNvSpPr/>
            <p:nvPr/>
          </p:nvSpPr>
          <p:spPr>
            <a:xfrm>
              <a:off x="1763640" y="189000"/>
              <a:ext cx="14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" name="矩形 2"/>
          <p:cNvSpPr/>
          <p:nvPr/>
        </p:nvSpPr>
        <p:spPr>
          <a:xfrm>
            <a:off x="16513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Gulim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FD4-D575-4D9D-BE7B-702C0694C48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C2CC-6145-4686-A030-B260B513D83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69A-F217-454E-A111-3E8A3612EAC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783-A82A-4584-9C26-7A8A1F29B2F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25F-8553-421D-9ABE-7413A50DE804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55E-D59C-4CC8-BABD-AEE3CC43A8A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338-2CB3-4D81-AE39-99BA56DE5D1F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51F8-F708-4A97-B7FC-EFB7F08117E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491B-0F47-445B-B6D0-1BCB899BE3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6FD-9E0F-4F18-8535-C40BFA029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1CB0-85CD-43DF-914A-8727C1677ED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1DF7-DA20-498A-9E08-D69889F5418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F9B-4458-408B-86D2-AB4D22A209F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B059-C894-4618-B081-172E86E1B30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B2B-8A3E-40A3-801A-213CB8F1E5C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390-C830-43BB-B073-1594D2BA103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978-FAC2-4B49-979B-4631DB19225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C939-9522-4FD8-A6A9-219369E27E0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BAC-0786-47BE-A3D1-930C17A231A5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68D5-32F5-4915-A0E9-FDB639B7994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AC4-CC36-429D-9835-5776598FB837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25C-7BA5-42E5-9529-495E35A75616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8E1-D8A0-4457-BDD7-FD7DB1B04906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B7D-1238-45DD-9252-C66DB39EDBF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722"/>
          <p:cNvSpPr/>
          <p:nvPr/>
        </p:nvSpPr>
        <p:spPr>
          <a:xfrm>
            <a:off x="1477800" y="5157720"/>
            <a:ext cx="6407280" cy="1366920"/>
          </a:xfrm>
          <a:prstGeom prst="rect">
            <a:avLst/>
          </a:prstGeom>
          <a:solidFill>
            <a:srgbClr val="bbe0e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AutoShape 1787"/>
          <p:cNvSpPr/>
          <p:nvPr/>
        </p:nvSpPr>
        <p:spPr>
          <a:xfrm>
            <a:off x="3625920" y="5796000"/>
            <a:ext cx="85392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AutoShape 1788"/>
          <p:cNvSpPr/>
          <p:nvPr/>
        </p:nvSpPr>
        <p:spPr>
          <a:xfrm>
            <a:off x="5405400" y="58053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AutoShape 1789"/>
          <p:cNvSpPr/>
          <p:nvPr/>
        </p:nvSpPr>
        <p:spPr>
          <a:xfrm>
            <a:off x="6780240" y="5805360"/>
            <a:ext cx="1079640" cy="2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AutoShape 1786"/>
          <p:cNvSpPr/>
          <p:nvPr/>
        </p:nvSpPr>
        <p:spPr>
          <a:xfrm>
            <a:off x="1798560" y="5805360"/>
            <a:ext cx="757440" cy="216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AutoShape 1776"/>
          <p:cNvSpPr/>
          <p:nvPr/>
        </p:nvSpPr>
        <p:spPr>
          <a:xfrm>
            <a:off x="6497640" y="1763640"/>
            <a:ext cx="1873080" cy="2519280"/>
          </a:xfrm>
          <a:custGeom>
            <a:avLst/>
            <a:gdLst>
              <a:gd name="textAreaLeft" fmla="*/ 52200 w 1873080"/>
              <a:gd name="textAreaRight" fmla="*/ 1820880 w 187308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50">
                <a:moveTo>
                  <a:pt x="2067" y="0"/>
                </a:moveTo>
                <a:arcTo wR="2067" hR="2067" stAng="16200000" swAng="-5400000"/>
                <a:lnTo>
                  <a:pt x="0" y="26983"/>
                </a:lnTo>
                <a:arcTo wR="2067" hR="2067" stAng="10800000" swAng="-5400000"/>
                <a:lnTo>
                  <a:pt x="19533" y="29050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969696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AutoShape 1775"/>
          <p:cNvSpPr/>
          <p:nvPr/>
        </p:nvSpPr>
        <p:spPr>
          <a:xfrm>
            <a:off x="6469200" y="1728720"/>
            <a:ext cx="1873080" cy="2519280"/>
          </a:xfrm>
          <a:custGeom>
            <a:avLst/>
            <a:gdLst>
              <a:gd name="textAreaLeft" fmla="*/ 52200 w 1873080"/>
              <a:gd name="textAreaRight" fmla="*/ 1820880 w 187308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50">
                <a:moveTo>
                  <a:pt x="2067" y="0"/>
                </a:moveTo>
                <a:arcTo wR="2067" hR="2067" stAng="16200000" swAng="-5400000"/>
                <a:lnTo>
                  <a:pt x="0" y="26983"/>
                </a:lnTo>
                <a:arcTo wR="2067" hR="2067" stAng="10800000" swAng="-5400000"/>
                <a:lnTo>
                  <a:pt x="19533" y="29050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c0c0c0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AutoShape 1774"/>
          <p:cNvSpPr/>
          <p:nvPr/>
        </p:nvSpPr>
        <p:spPr>
          <a:xfrm>
            <a:off x="6443640" y="1700280"/>
            <a:ext cx="1873440" cy="2519280"/>
          </a:xfrm>
          <a:custGeom>
            <a:avLst/>
            <a:gdLst>
              <a:gd name="textAreaLeft" fmla="*/ 52200 w 1873440"/>
              <a:gd name="textAreaRight" fmla="*/ 1821240 w 1873440"/>
              <a:gd name="textAreaTop" fmla="*/ 52200 h 2519280"/>
              <a:gd name="textAreaBottom" fmla="*/ 2467080 h 2519280"/>
            </a:gdLst>
            <a:ahLst/>
            <a:rect l="textAreaLeft" t="textAreaTop" r="textAreaRight" b="textAreaBottom"/>
            <a:pathLst>
              <a:path w="21600" h="29045">
                <a:moveTo>
                  <a:pt x="2067" y="0"/>
                </a:moveTo>
                <a:arcTo wR="2067" hR="2067" stAng="16200000" swAng="-5400000"/>
                <a:lnTo>
                  <a:pt x="0" y="26978"/>
                </a:lnTo>
                <a:arcTo wR="2067" hR="2067" stAng="10800000" swAng="-5400000"/>
                <a:lnTo>
                  <a:pt x="19533" y="29045"/>
                </a:lnTo>
                <a:arcTo wR="2067" hR="2067" stAng="5400000" swAng="-5400000"/>
                <a:lnTo>
                  <a:pt x="21600" y="2067"/>
                </a:lnTo>
                <a:arcTo wR="2067" hR="2067" stAng="0" swAng="-5400000"/>
                <a:close/>
              </a:path>
            </a:pathLst>
          </a:cu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43" name="Object 1518" descr=""/>
          <p:cNvPicPr/>
          <p:nvPr/>
        </p:nvPicPr>
        <p:blipFill>
          <a:blip r:embed="rId1"/>
          <a:stretch/>
        </p:blipFill>
        <p:spPr>
          <a:xfrm>
            <a:off x="1306440" y="1227240"/>
            <a:ext cx="4969080" cy="4064040"/>
          </a:xfrm>
          <a:prstGeom prst="rect">
            <a:avLst/>
          </a:prstGeom>
          <a:ln w="0">
            <a:noFill/>
          </a:ln>
        </p:spPr>
      </p:pic>
      <p:sp>
        <p:nvSpPr>
          <p:cNvPr id="544" name="Line 1557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Line 1558"/>
          <p:cNvSpPr/>
          <p:nvPr/>
        </p:nvSpPr>
        <p:spPr>
          <a:xfrm>
            <a:off x="1459080" y="6041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Line 1561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Line 1562"/>
          <p:cNvSpPr/>
          <p:nvPr/>
        </p:nvSpPr>
        <p:spPr>
          <a:xfrm>
            <a:off x="1246320" y="62038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Line 1565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Line 1566"/>
          <p:cNvSpPr/>
          <p:nvPr/>
        </p:nvSpPr>
        <p:spPr>
          <a:xfrm>
            <a:off x="1233360" y="611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Line 1568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Line 1569"/>
          <p:cNvSpPr/>
          <p:nvPr/>
        </p:nvSpPr>
        <p:spPr>
          <a:xfrm>
            <a:off x="122400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Line 1571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Line 1572"/>
          <p:cNvSpPr/>
          <p:nvPr/>
        </p:nvSpPr>
        <p:spPr>
          <a:xfrm>
            <a:off x="1243080" y="60516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Line 1574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Line 1575"/>
          <p:cNvSpPr/>
          <p:nvPr/>
        </p:nvSpPr>
        <p:spPr>
          <a:xfrm>
            <a:off x="1233360" y="605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Line 1598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Line 1599"/>
          <p:cNvSpPr/>
          <p:nvPr/>
        </p:nvSpPr>
        <p:spPr>
          <a:xfrm>
            <a:off x="4414680" y="6276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Line 1600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Line 1601"/>
          <p:cNvSpPr/>
          <p:nvPr/>
        </p:nvSpPr>
        <p:spPr>
          <a:xfrm>
            <a:off x="4402080" y="61912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Line 1602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Line 1603"/>
          <p:cNvSpPr/>
          <p:nvPr/>
        </p:nvSpPr>
        <p:spPr>
          <a:xfrm>
            <a:off x="4389480" y="6124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Line 1612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Line 1613"/>
          <p:cNvSpPr/>
          <p:nvPr/>
        </p:nvSpPr>
        <p:spPr>
          <a:xfrm>
            <a:off x="3259080" y="61866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Line 1616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Line 1617"/>
          <p:cNvSpPr/>
          <p:nvPr/>
        </p:nvSpPr>
        <p:spPr>
          <a:xfrm>
            <a:off x="3046320" y="6348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Line 1620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Line 1621"/>
          <p:cNvSpPr/>
          <p:nvPr/>
        </p:nvSpPr>
        <p:spPr>
          <a:xfrm>
            <a:off x="3033720" y="6262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Line 1623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Line 1624"/>
          <p:cNvSpPr/>
          <p:nvPr/>
        </p:nvSpPr>
        <p:spPr>
          <a:xfrm>
            <a:off x="3024360" y="6195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Line 1626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Line 1627"/>
          <p:cNvSpPr/>
          <p:nvPr/>
        </p:nvSpPr>
        <p:spPr>
          <a:xfrm>
            <a:off x="3043080" y="6195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Line 1629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Line 1630"/>
          <p:cNvSpPr/>
          <p:nvPr/>
        </p:nvSpPr>
        <p:spPr>
          <a:xfrm>
            <a:off x="3033720" y="62024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Text Box 1702"/>
          <p:cNvSpPr/>
          <p:nvPr/>
        </p:nvSpPr>
        <p:spPr>
          <a:xfrm>
            <a:off x="1573200" y="6004080"/>
            <a:ext cx="14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Brand Identity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Text Box 1703"/>
          <p:cNvSpPr/>
          <p:nvPr/>
        </p:nvSpPr>
        <p:spPr>
          <a:xfrm>
            <a:off x="3606840" y="5762520"/>
            <a:ext cx="108108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Text Box 1704"/>
          <p:cNvSpPr/>
          <p:nvPr/>
        </p:nvSpPr>
        <p:spPr>
          <a:xfrm>
            <a:off x="3373560" y="6004080"/>
            <a:ext cx="1331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Web site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Multimedia Desig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Character Applic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Text Box 1705"/>
          <p:cNvSpPr/>
          <p:nvPr/>
        </p:nvSpPr>
        <p:spPr>
          <a:xfrm>
            <a:off x="5384880" y="5762520"/>
            <a:ext cx="101592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Text Box 1706"/>
          <p:cNvSpPr/>
          <p:nvPr/>
        </p:nvSpPr>
        <p:spPr>
          <a:xfrm>
            <a:off x="5145120" y="6004080"/>
            <a:ext cx="19810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Fashion illustrati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Visual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Trebuchet MS"/>
                <a:ea typeface="Gulim"/>
              </a:rPr>
              <a:t>Web element character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Line 1708"/>
          <p:cNvSpPr/>
          <p:nvPr/>
        </p:nvSpPr>
        <p:spPr>
          <a:xfrm>
            <a:off x="3005280" y="5499000"/>
            <a:ext cx="1440" cy="89388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Line 1709"/>
          <p:cNvSpPr/>
          <p:nvPr/>
        </p:nvSpPr>
        <p:spPr>
          <a:xfrm>
            <a:off x="4910040" y="5373720"/>
            <a:ext cx="1800" cy="101916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Line 1710"/>
          <p:cNvSpPr/>
          <p:nvPr/>
        </p:nvSpPr>
        <p:spPr>
          <a:xfrm>
            <a:off x="6472080" y="5499000"/>
            <a:ext cx="1800" cy="89388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Text Box 1711"/>
          <p:cNvSpPr/>
          <p:nvPr/>
        </p:nvSpPr>
        <p:spPr>
          <a:xfrm>
            <a:off x="6769080" y="5762520"/>
            <a:ext cx="16905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WOLRD WID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Text Box 1712"/>
          <p:cNvSpPr/>
          <p:nvPr/>
        </p:nvSpPr>
        <p:spPr>
          <a:xfrm>
            <a:off x="1768320" y="5762520"/>
            <a:ext cx="8589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otum"/>
                <a:ea typeface="Dotum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84" name="Group 51"/>
          <p:cNvGrpSpPr/>
          <p:nvPr/>
        </p:nvGrpSpPr>
        <p:grpSpPr>
          <a:xfrm>
            <a:off x="2173320" y="5497560"/>
            <a:ext cx="5181120" cy="328680"/>
            <a:chOff x="2173320" y="5497560"/>
            <a:chExt cx="5181120" cy="328680"/>
          </a:xfrm>
        </p:grpSpPr>
        <p:sp>
          <p:nvSpPr>
            <p:cNvPr id="585" name="Line 1714"/>
            <p:cNvSpPr/>
            <p:nvPr/>
          </p:nvSpPr>
          <p:spPr>
            <a:xfrm>
              <a:off x="217332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Line 1715"/>
            <p:cNvSpPr/>
            <p:nvPr/>
          </p:nvSpPr>
          <p:spPr>
            <a:xfrm>
              <a:off x="407772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Line 1716"/>
            <p:cNvSpPr/>
            <p:nvPr/>
          </p:nvSpPr>
          <p:spPr>
            <a:xfrm>
              <a:off x="5829480" y="5497560"/>
              <a:ext cx="108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Line 1717"/>
            <p:cNvSpPr/>
            <p:nvPr/>
          </p:nvSpPr>
          <p:spPr>
            <a:xfrm>
              <a:off x="7353000" y="5497560"/>
              <a:ext cx="1440" cy="328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89" name="Line 1718"/>
          <p:cNvSpPr/>
          <p:nvPr/>
        </p:nvSpPr>
        <p:spPr>
          <a:xfrm>
            <a:off x="2173320" y="5497560"/>
            <a:ext cx="518148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Text Box 1720"/>
          <p:cNvSpPr/>
          <p:nvPr/>
        </p:nvSpPr>
        <p:spPr>
          <a:xfrm>
            <a:off x="3949560" y="5113440"/>
            <a:ext cx="1944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. I. D 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  <a:ea typeface="Gulim"/>
              </a:rPr>
              <a:t>d i v i s i o n   p r o c e s s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Text Box 1735"/>
          <p:cNvSpPr/>
          <p:nvPr/>
        </p:nvSpPr>
        <p:spPr>
          <a:xfrm>
            <a:off x="6443640" y="206208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+ C o m p a n y _ T I T L 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Oval 1742"/>
          <p:cNvSpPr/>
          <p:nvPr/>
        </p:nvSpPr>
        <p:spPr>
          <a:xfrm>
            <a:off x="665964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AutoShape 1739"/>
          <p:cNvSpPr/>
          <p:nvPr/>
        </p:nvSpPr>
        <p:spPr>
          <a:xfrm>
            <a:off x="667548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Oval 1746"/>
          <p:cNvSpPr/>
          <p:nvPr/>
        </p:nvSpPr>
        <p:spPr>
          <a:xfrm>
            <a:off x="687564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AutoShape 1748"/>
          <p:cNvSpPr/>
          <p:nvPr/>
        </p:nvSpPr>
        <p:spPr>
          <a:xfrm>
            <a:off x="689148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Oval 1750"/>
          <p:cNvSpPr/>
          <p:nvPr/>
        </p:nvSpPr>
        <p:spPr>
          <a:xfrm>
            <a:off x="7091280" y="1844640"/>
            <a:ext cx="9072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AutoShape 1752"/>
          <p:cNvSpPr/>
          <p:nvPr/>
        </p:nvSpPr>
        <p:spPr>
          <a:xfrm>
            <a:off x="710712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Oval 1754"/>
          <p:cNvSpPr/>
          <p:nvPr/>
        </p:nvSpPr>
        <p:spPr>
          <a:xfrm>
            <a:off x="730728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AutoShape 1756"/>
          <p:cNvSpPr/>
          <p:nvPr/>
        </p:nvSpPr>
        <p:spPr>
          <a:xfrm>
            <a:off x="732312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Oval 1758"/>
          <p:cNvSpPr/>
          <p:nvPr/>
        </p:nvSpPr>
        <p:spPr>
          <a:xfrm>
            <a:off x="752328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AutoShape 1760"/>
          <p:cNvSpPr/>
          <p:nvPr/>
        </p:nvSpPr>
        <p:spPr>
          <a:xfrm>
            <a:off x="7539120" y="1508040"/>
            <a:ext cx="60120" cy="399960"/>
          </a:xfrm>
          <a:custGeom>
            <a:avLst/>
            <a:gdLst>
              <a:gd name="textAreaLeft" fmla="*/ 8640 w 60120"/>
              <a:gd name="textAreaRight" fmla="*/ 51480 w 6012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971">
                <a:moveTo>
                  <a:pt x="10800" y="0"/>
                </a:moveTo>
                <a:arcTo wR="10800" hR="10800" stAng="16200000" swAng="-5400000"/>
                <a:lnTo>
                  <a:pt x="0" y="132171"/>
                </a:lnTo>
                <a:arcTo wR="10800" hR="10800" stAng="10800000" swAng="-5400000"/>
                <a:lnTo>
                  <a:pt x="10800" y="142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Oval 1762"/>
          <p:cNvSpPr/>
          <p:nvPr/>
        </p:nvSpPr>
        <p:spPr>
          <a:xfrm>
            <a:off x="7738920" y="1844640"/>
            <a:ext cx="9072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AutoShape 1764"/>
          <p:cNvSpPr/>
          <p:nvPr/>
        </p:nvSpPr>
        <p:spPr>
          <a:xfrm>
            <a:off x="775476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Oval 1766"/>
          <p:cNvSpPr/>
          <p:nvPr/>
        </p:nvSpPr>
        <p:spPr>
          <a:xfrm>
            <a:off x="7954920" y="1844640"/>
            <a:ext cx="90360" cy="90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AutoShape 1768"/>
          <p:cNvSpPr/>
          <p:nvPr/>
        </p:nvSpPr>
        <p:spPr>
          <a:xfrm>
            <a:off x="7970760" y="1508040"/>
            <a:ext cx="60480" cy="399960"/>
          </a:xfrm>
          <a:custGeom>
            <a:avLst/>
            <a:gdLst>
              <a:gd name="textAreaLeft" fmla="*/ 8640 w 60480"/>
              <a:gd name="textAreaRight" fmla="*/ 51840 w 60480"/>
              <a:gd name="textAreaTop" fmla="*/ 8640 h 399960"/>
              <a:gd name="textAreaBottom" fmla="*/ 391320 h 399960"/>
            </a:gdLst>
            <a:ahLst/>
            <a:rect l="textAreaLeft" t="textAreaTop" r="textAreaRight" b="textAreaBottom"/>
            <a:pathLst>
              <a:path w="21600" h="142125">
                <a:moveTo>
                  <a:pt x="10800" y="0"/>
                </a:moveTo>
                <a:arcTo wR="10800" hR="10800" stAng="16200000" swAng="-5400000"/>
                <a:lnTo>
                  <a:pt x="0" y="131325"/>
                </a:lnTo>
                <a:arcTo wR="10800" hR="10800" stAng="10800000" swAng="-5400000"/>
                <a:lnTo>
                  <a:pt x="10800" y="1421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Line 1778"/>
          <p:cNvSpPr/>
          <p:nvPr/>
        </p:nvSpPr>
        <p:spPr>
          <a:xfrm>
            <a:off x="6540480" y="2276640"/>
            <a:ext cx="165564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Text Box 1779"/>
          <p:cNvSpPr/>
          <p:nvPr/>
        </p:nvSpPr>
        <p:spPr>
          <a:xfrm>
            <a:off x="6516720" y="227664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Mixing Business With Pleasure sponsored by Set aside time for fun and relaxation 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08" name="Group 75"/>
          <p:cNvGrpSpPr/>
          <p:nvPr/>
        </p:nvGrpSpPr>
        <p:grpSpPr>
          <a:xfrm>
            <a:off x="6521400" y="3573360"/>
            <a:ext cx="1728720" cy="459000"/>
            <a:chOff x="6521400" y="3573360"/>
            <a:chExt cx="1728720" cy="459000"/>
          </a:xfrm>
        </p:grpSpPr>
        <p:sp>
          <p:nvSpPr>
            <p:cNvPr id="609" name="Text Box 1780"/>
            <p:cNvSpPr/>
            <p:nvPr/>
          </p:nvSpPr>
          <p:spPr>
            <a:xfrm>
              <a:off x="6521400" y="357336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BUSINESS is new low-cost and easy-to-use Web-site design tool will help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Line 1781"/>
            <p:cNvSpPr/>
            <p:nvPr/>
          </p:nvSpPr>
          <p:spPr>
            <a:xfrm>
              <a:off x="6540480" y="3573360"/>
              <a:ext cx="165564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11" name="Group 78"/>
          <p:cNvGrpSpPr/>
          <p:nvPr/>
        </p:nvGrpSpPr>
        <p:grpSpPr>
          <a:xfrm>
            <a:off x="6521400" y="2736720"/>
            <a:ext cx="1728720" cy="824040"/>
            <a:chOff x="6521400" y="2736720"/>
            <a:chExt cx="1728720" cy="824040"/>
          </a:xfrm>
        </p:grpSpPr>
        <p:sp>
          <p:nvSpPr>
            <p:cNvPr id="612" name="Text Box 1784"/>
            <p:cNvSpPr/>
            <p:nvPr/>
          </p:nvSpPr>
          <p:spPr>
            <a:xfrm>
              <a:off x="6521400" y="2736720"/>
              <a:ext cx="172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RestaurantRow.com strives to bring you the best and most current information about a variety of topics to enhance your dining experience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Over time, we will be adding.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Line 1785"/>
            <p:cNvSpPr/>
            <p:nvPr/>
          </p:nvSpPr>
          <p:spPr>
            <a:xfrm>
              <a:off x="6540480" y="2736720"/>
              <a:ext cx="165564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14" name="Text Box 1790"/>
          <p:cNvSpPr/>
          <p:nvPr/>
        </p:nvSpPr>
        <p:spPr>
          <a:xfrm>
            <a:off x="6618240" y="5992920"/>
            <a:ext cx="121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BUSINESS is new low-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cost and easy-to-us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Gulim"/>
                <a:ea typeface="Gulim"/>
              </a:rPr>
              <a:t>Web-site design.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8T01:38:43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