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186-FC70-483F-ACE7-63C1B2E4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29E-63CF-4283-9F6F-A02A9D7F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E57-C520-4945-9731-5E0812A9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B73-1E4E-46A0-9872-8B8D3499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5B8-1D21-4409-9484-7DC80002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BF5-AE5C-4C0D-BF84-A4186A72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334-7A6F-41AE-8821-A5939DE7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317-DF79-4E29-A431-4B871416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46B-956D-4412-AF86-6E1F4BE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ED1-EA3E-4782-87F8-457B4B7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DAE-3289-4A17-8F0B-1BF4544B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4BA-5306-42C1-BA65-3ACDCB71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5560" y="115920"/>
            <a:ext cx="8812440" cy="436680"/>
            <a:chOff x="115560" y="115920"/>
            <a:chExt cx="8812440" cy="436680"/>
          </a:xfrm>
        </p:grpSpPr>
        <p:sp>
          <p:nvSpPr>
            <p:cNvPr id="1" name="Rectangle 111"/>
            <p:cNvSpPr/>
            <p:nvPr/>
          </p:nvSpPr>
          <p:spPr>
            <a:xfrm>
              <a:off x="1834920" y="189000"/>
              <a:ext cx="561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" name="Rectangle 112"/>
            <p:cNvSpPr/>
            <p:nvPr/>
          </p:nvSpPr>
          <p:spPr>
            <a:xfrm>
              <a:off x="115560" y="13500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Powerdiagram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79280" y="549360"/>
              <a:ext cx="8748720" cy="1440"/>
              <a:chOff x="179280" y="549360"/>
              <a:chExt cx="8748720" cy="1440"/>
            </a:xfrm>
          </p:grpSpPr>
          <p:sp>
            <p:nvSpPr>
              <p:cNvPr id="4" name="Line 113"/>
              <p:cNvSpPr/>
              <p:nvPr/>
            </p:nvSpPr>
            <p:spPr>
              <a:xfrm>
                <a:off x="179280" y="54936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" name=""/>
              <p:cNvSpPr txBox="1"/>
              <p:nvPr/>
            </p:nvSpPr>
            <p:spPr>
              <a:xfrm>
                <a:off x="179280" y="54936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179280" y="115920"/>
              <a:ext cx="8748720" cy="1440"/>
              <a:chOff x="179280" y="115920"/>
              <a:chExt cx="8748720" cy="1440"/>
            </a:xfrm>
          </p:grpSpPr>
          <p:sp>
            <p:nvSpPr>
              <p:cNvPr id="7" name="Line 114"/>
              <p:cNvSpPr/>
              <p:nvPr/>
            </p:nvSpPr>
            <p:spPr>
              <a:xfrm>
                <a:off x="179280" y="11592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" name=""/>
              <p:cNvSpPr txBox="1"/>
              <p:nvPr/>
            </p:nvSpPr>
            <p:spPr>
              <a:xfrm>
                <a:off x="179280" y="11592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763640" y="189000"/>
              <a:ext cx="1440" cy="287280"/>
              <a:chOff x="1763640" y="189000"/>
              <a:chExt cx="1440" cy="287280"/>
            </a:xfrm>
          </p:grpSpPr>
          <p:sp>
            <p:nvSpPr>
              <p:cNvPr id="10" name="Line 115"/>
              <p:cNvSpPr/>
              <p:nvPr/>
            </p:nvSpPr>
            <p:spPr>
              <a:xfrm>
                <a:off x="1763640" y="189000"/>
                <a:ext cx="14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" name=""/>
              <p:cNvSpPr txBox="1"/>
              <p:nvPr/>
            </p:nvSpPr>
            <p:spPr>
              <a:xfrm>
                <a:off x="1763640" y="189000"/>
                <a:ext cx="144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" name="矩形 2"/>
          <p:cNvSpPr/>
          <p:nvPr/>
        </p:nvSpPr>
        <p:spPr>
          <a:xfrm>
            <a:off x="1685520" y="8388360"/>
            <a:ext cx="58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宋体"/>
              </a:rPr>
              <a:t>更多精彩，请移步：让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宋体"/>
              </a:rPr>
              <a:t>飞起来丨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http://pptshare.qzone.qq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3AFC-B394-4520-A345-9C76CFA22A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770"/>
          <p:cNvSpPr/>
          <p:nvPr/>
        </p:nvSpPr>
        <p:spPr>
          <a:xfrm>
            <a:off x="3049560" y="1293840"/>
            <a:ext cx="2952720" cy="2952720"/>
          </a:xfrm>
          <a:prstGeom prst="pie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63600" y="2959200"/>
            <a:ext cx="4888080" cy="1892160"/>
            <a:chOff x="2163600" y="2959200"/>
            <a:chExt cx="4888080" cy="1892160"/>
          </a:xfrm>
        </p:grpSpPr>
        <p:grpSp>
          <p:nvGrpSpPr>
            <p:cNvPr id="94" name=""/>
            <p:cNvGrpSpPr/>
            <p:nvPr/>
          </p:nvGrpSpPr>
          <p:grpSpPr>
            <a:xfrm>
              <a:off x="2163600" y="2959200"/>
              <a:ext cx="1471680" cy="1440"/>
              <a:chOff x="2163600" y="2959200"/>
              <a:chExt cx="1471680" cy="1440"/>
            </a:xfrm>
          </p:grpSpPr>
          <p:sp>
            <p:nvSpPr>
              <p:cNvPr id="95" name="Line 2703"/>
              <p:cNvSpPr/>
              <p:nvPr/>
            </p:nvSpPr>
            <p:spPr>
              <a:xfrm>
                <a:off x="2163600" y="2959200"/>
                <a:ext cx="147168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2163600" y="2959200"/>
                <a:ext cx="1471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639520" y="3335040"/>
              <a:ext cx="1136880" cy="1257480"/>
              <a:chOff x="2639520" y="3335040"/>
              <a:chExt cx="1136880" cy="1257480"/>
            </a:xfrm>
          </p:grpSpPr>
          <p:sp>
            <p:nvSpPr>
              <p:cNvPr id="98" name="Line 2707"/>
              <p:cNvSpPr/>
              <p:nvPr/>
            </p:nvSpPr>
            <p:spPr>
              <a:xfrm flipV="1">
                <a:off x="2639880" y="3335040"/>
                <a:ext cx="1136520" cy="12574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 rot="10800000">
                <a:off x="2639520" y="3335040"/>
                <a:ext cx="1136520" cy="125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609440" y="3789360"/>
              <a:ext cx="2160" cy="1062000"/>
              <a:chOff x="4609440" y="3789360"/>
              <a:chExt cx="2160" cy="1062000"/>
            </a:xfrm>
          </p:grpSpPr>
          <p:sp>
            <p:nvSpPr>
              <p:cNvPr id="101" name="Line 2708"/>
              <p:cNvSpPr/>
              <p:nvPr/>
            </p:nvSpPr>
            <p:spPr>
              <a:xfrm flipV="1">
                <a:off x="4609800" y="3789360"/>
                <a:ext cx="1800" cy="10620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 rot="10800000">
                <a:off x="4609440" y="3789360"/>
                <a:ext cx="1800" cy="106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5040" y="3339720"/>
              <a:ext cx="1528560" cy="1181160"/>
              <a:chOff x="5045040" y="3339720"/>
              <a:chExt cx="1528560" cy="1181160"/>
            </a:xfrm>
          </p:grpSpPr>
          <p:sp>
            <p:nvSpPr>
              <p:cNvPr id="104" name="Line 2709"/>
              <p:cNvSpPr/>
              <p:nvPr/>
            </p:nvSpPr>
            <p:spPr>
              <a:xfrm flipH="1" flipV="1">
                <a:off x="5045040" y="3339720"/>
                <a:ext cx="1528560" cy="118116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 rot="10800000">
                <a:off x="5045040" y="3339720"/>
                <a:ext cx="1528560" cy="11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580000" y="2959200"/>
              <a:ext cx="1471680" cy="1440"/>
              <a:chOff x="5580000" y="2959200"/>
              <a:chExt cx="1471680" cy="1440"/>
            </a:xfrm>
          </p:grpSpPr>
          <p:sp>
            <p:nvSpPr>
              <p:cNvPr id="107" name="Line 2753"/>
              <p:cNvSpPr/>
              <p:nvPr/>
            </p:nvSpPr>
            <p:spPr>
              <a:xfrm>
                <a:off x="5580000" y="2959200"/>
                <a:ext cx="147168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5580000" y="2959200"/>
                <a:ext cx="1471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109" name="Object 2752" descr=""/>
          <p:cNvPicPr/>
          <p:nvPr/>
        </p:nvPicPr>
        <p:blipFill>
          <a:blip r:embed="rId1"/>
          <a:stretch/>
        </p:blipFill>
        <p:spPr>
          <a:xfrm>
            <a:off x="1844640" y="981000"/>
            <a:ext cx="5400720" cy="36036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1258920" y="115560"/>
            <a:ext cx="6191280" cy="5713560"/>
            <a:chOff x="1258920" y="115560"/>
            <a:chExt cx="6191280" cy="5713560"/>
          </a:xfrm>
        </p:grpSpPr>
        <p:sp>
          <p:nvSpPr>
            <p:cNvPr id="111" name="AutoShape 2741"/>
            <p:cNvSpPr/>
            <p:nvPr/>
          </p:nvSpPr>
          <p:spPr>
            <a:xfrm rot="10800000">
              <a:off x="1258920" y="115200"/>
              <a:ext cx="6191280" cy="57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332000" y="3861000"/>
              <a:ext cx="5830920" cy="1944000"/>
              <a:chOff x="1332000" y="3861000"/>
              <a:chExt cx="5830920" cy="1944000"/>
            </a:xfrm>
          </p:grpSpPr>
          <p:sp>
            <p:nvSpPr>
              <p:cNvPr id="113" name="Rectangle 2743"/>
              <p:cNvSpPr/>
              <p:nvPr/>
            </p:nvSpPr>
            <p:spPr>
              <a:xfrm>
                <a:off x="6804000" y="4221000"/>
                <a:ext cx="358920" cy="36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4" name="Rectangle 2744"/>
              <p:cNvSpPr/>
              <p:nvPr/>
            </p:nvSpPr>
            <p:spPr>
              <a:xfrm>
                <a:off x="5219640" y="5445000"/>
                <a:ext cx="358920" cy="36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5" name="Rectangle 2745"/>
              <p:cNvSpPr/>
              <p:nvPr/>
            </p:nvSpPr>
            <p:spPr>
              <a:xfrm>
                <a:off x="2987640" y="5373360"/>
                <a:ext cx="358920" cy="36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6" name="Rectangle 2746"/>
              <p:cNvSpPr/>
              <p:nvPr/>
            </p:nvSpPr>
            <p:spPr>
              <a:xfrm>
                <a:off x="1332000" y="3861000"/>
                <a:ext cx="358920" cy="36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1943280" y="5899320"/>
            <a:ext cx="1440" cy="1440"/>
            <a:chOff x="1943280" y="5899320"/>
            <a:chExt cx="1440" cy="1440"/>
          </a:xfrm>
        </p:grpSpPr>
        <p:sp>
          <p:nvSpPr>
            <p:cNvPr id="118" name="Line 1557"/>
            <p:cNvSpPr/>
            <p:nvPr/>
          </p:nvSpPr>
          <p:spPr>
            <a:xfrm>
              <a:off x="1943280" y="5899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1943280" y="5899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43280" y="5899320"/>
            <a:ext cx="1440" cy="1440"/>
            <a:chOff x="1943280" y="5899320"/>
            <a:chExt cx="1440" cy="1440"/>
          </a:xfrm>
        </p:grpSpPr>
        <p:sp>
          <p:nvSpPr>
            <p:cNvPr id="121" name="Line 1558"/>
            <p:cNvSpPr/>
            <p:nvPr/>
          </p:nvSpPr>
          <p:spPr>
            <a:xfrm>
              <a:off x="1943280" y="5899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943280" y="5899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730520" y="6060960"/>
            <a:ext cx="1440" cy="1800"/>
            <a:chOff x="1730520" y="6060960"/>
            <a:chExt cx="1440" cy="1800"/>
          </a:xfrm>
        </p:grpSpPr>
        <p:sp>
          <p:nvSpPr>
            <p:cNvPr id="124" name="Line 1561"/>
            <p:cNvSpPr/>
            <p:nvPr/>
          </p:nvSpPr>
          <p:spPr>
            <a:xfrm>
              <a:off x="1730520" y="606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1730520" y="606096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30520" y="6060960"/>
            <a:ext cx="1440" cy="1800"/>
            <a:chOff x="1730520" y="6060960"/>
            <a:chExt cx="1440" cy="1800"/>
          </a:xfrm>
        </p:grpSpPr>
        <p:sp>
          <p:nvSpPr>
            <p:cNvPr id="127" name="Line 1562"/>
            <p:cNvSpPr/>
            <p:nvPr/>
          </p:nvSpPr>
          <p:spPr>
            <a:xfrm>
              <a:off x="1730520" y="606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1730520" y="606096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717560" y="5915160"/>
            <a:ext cx="1800" cy="1440"/>
            <a:chOff x="1717560" y="5915160"/>
            <a:chExt cx="1800" cy="1440"/>
          </a:xfrm>
        </p:grpSpPr>
        <p:sp>
          <p:nvSpPr>
            <p:cNvPr id="130" name="Line 1574"/>
            <p:cNvSpPr/>
            <p:nvPr/>
          </p:nvSpPr>
          <p:spPr>
            <a:xfrm>
              <a:off x="1717560" y="59151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717560" y="591516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17560" y="5915160"/>
            <a:ext cx="1800" cy="1440"/>
            <a:chOff x="1717560" y="5915160"/>
            <a:chExt cx="1800" cy="1440"/>
          </a:xfrm>
        </p:grpSpPr>
        <p:sp>
          <p:nvSpPr>
            <p:cNvPr id="133" name="Line 1575"/>
            <p:cNvSpPr/>
            <p:nvPr/>
          </p:nvSpPr>
          <p:spPr>
            <a:xfrm>
              <a:off x="1717560" y="59151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1717560" y="591516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898880" y="6134040"/>
            <a:ext cx="1800" cy="1800"/>
            <a:chOff x="4898880" y="6134040"/>
            <a:chExt cx="1800" cy="1800"/>
          </a:xfrm>
        </p:grpSpPr>
        <p:sp>
          <p:nvSpPr>
            <p:cNvPr id="136" name="Line 1598"/>
            <p:cNvSpPr/>
            <p:nvPr/>
          </p:nvSpPr>
          <p:spPr>
            <a:xfrm>
              <a:off x="4898880" y="61340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898880" y="613404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898880" y="6134040"/>
            <a:ext cx="1800" cy="1800"/>
            <a:chOff x="4898880" y="6134040"/>
            <a:chExt cx="1800" cy="1800"/>
          </a:xfrm>
        </p:grpSpPr>
        <p:sp>
          <p:nvSpPr>
            <p:cNvPr id="139" name="Line 1599"/>
            <p:cNvSpPr/>
            <p:nvPr/>
          </p:nvSpPr>
          <p:spPr>
            <a:xfrm>
              <a:off x="4898880" y="61340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98880" y="613404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873680" y="5981760"/>
            <a:ext cx="1440" cy="1440"/>
            <a:chOff x="4873680" y="5981760"/>
            <a:chExt cx="1440" cy="1440"/>
          </a:xfrm>
        </p:grpSpPr>
        <p:sp>
          <p:nvSpPr>
            <p:cNvPr id="142" name="Line 1602"/>
            <p:cNvSpPr/>
            <p:nvPr/>
          </p:nvSpPr>
          <p:spPr>
            <a:xfrm>
              <a:off x="4873680" y="5981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873680" y="59817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873680" y="5981760"/>
            <a:ext cx="1440" cy="1440"/>
            <a:chOff x="4873680" y="5981760"/>
            <a:chExt cx="1440" cy="1440"/>
          </a:xfrm>
        </p:grpSpPr>
        <p:sp>
          <p:nvSpPr>
            <p:cNvPr id="145" name="Line 1603"/>
            <p:cNvSpPr/>
            <p:nvPr/>
          </p:nvSpPr>
          <p:spPr>
            <a:xfrm>
              <a:off x="4873680" y="5981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873680" y="59817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508200" y="6043680"/>
            <a:ext cx="236520" cy="163440"/>
            <a:chOff x="3508200" y="6043680"/>
            <a:chExt cx="236520" cy="163440"/>
          </a:xfrm>
        </p:grpSpPr>
        <p:grpSp>
          <p:nvGrpSpPr>
            <p:cNvPr id="148" name=""/>
            <p:cNvGrpSpPr/>
            <p:nvPr/>
          </p:nvGrpSpPr>
          <p:grpSpPr>
            <a:xfrm>
              <a:off x="3743280" y="6043680"/>
              <a:ext cx="1440" cy="1440"/>
              <a:chOff x="3743280" y="6043680"/>
              <a:chExt cx="1440" cy="1440"/>
            </a:xfrm>
          </p:grpSpPr>
          <p:sp>
            <p:nvSpPr>
              <p:cNvPr id="149" name="Line 1612"/>
              <p:cNvSpPr/>
              <p:nvPr/>
            </p:nvSpPr>
            <p:spPr>
              <a:xfrm>
                <a:off x="3743280" y="6043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3743280" y="6043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743280" y="6043680"/>
              <a:ext cx="1440" cy="1440"/>
              <a:chOff x="3743280" y="6043680"/>
              <a:chExt cx="1440" cy="1440"/>
            </a:xfrm>
          </p:grpSpPr>
          <p:sp>
            <p:nvSpPr>
              <p:cNvPr id="152" name="Line 1613"/>
              <p:cNvSpPr/>
              <p:nvPr/>
            </p:nvSpPr>
            <p:spPr>
              <a:xfrm>
                <a:off x="3743280" y="6043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3743280" y="6043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530520" y="6205680"/>
              <a:ext cx="1440" cy="1440"/>
              <a:chOff x="3530520" y="6205680"/>
              <a:chExt cx="1440" cy="1440"/>
            </a:xfrm>
          </p:grpSpPr>
          <p:sp>
            <p:nvSpPr>
              <p:cNvPr id="155" name="Line 1616"/>
              <p:cNvSpPr/>
              <p:nvPr/>
            </p:nvSpPr>
            <p:spPr>
              <a:xfrm>
                <a:off x="3530520" y="6205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3530520" y="6205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530520" y="6205680"/>
              <a:ext cx="1440" cy="1440"/>
              <a:chOff x="3530520" y="6205680"/>
              <a:chExt cx="1440" cy="1440"/>
            </a:xfrm>
          </p:grpSpPr>
          <p:sp>
            <p:nvSpPr>
              <p:cNvPr id="158" name="Line 1617"/>
              <p:cNvSpPr/>
              <p:nvPr/>
            </p:nvSpPr>
            <p:spPr>
              <a:xfrm>
                <a:off x="3530520" y="6205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3530520" y="6205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517560" y="6120000"/>
              <a:ext cx="1800" cy="1440"/>
              <a:chOff x="3517560" y="6120000"/>
              <a:chExt cx="1800" cy="1440"/>
            </a:xfrm>
          </p:grpSpPr>
          <p:sp>
            <p:nvSpPr>
              <p:cNvPr id="161" name="Line 1620"/>
              <p:cNvSpPr/>
              <p:nvPr/>
            </p:nvSpPr>
            <p:spPr>
              <a:xfrm>
                <a:off x="3517560" y="612000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3517560" y="612000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517560" y="6120000"/>
              <a:ext cx="1800" cy="1440"/>
              <a:chOff x="3517560" y="6120000"/>
              <a:chExt cx="1800" cy="1440"/>
            </a:xfrm>
          </p:grpSpPr>
          <p:sp>
            <p:nvSpPr>
              <p:cNvPr id="164" name="Line 1621"/>
              <p:cNvSpPr/>
              <p:nvPr/>
            </p:nvSpPr>
            <p:spPr>
              <a:xfrm>
                <a:off x="3517560" y="612000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3517560" y="612000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508200" y="6053040"/>
              <a:ext cx="1440" cy="1800"/>
              <a:chOff x="3508200" y="6053040"/>
              <a:chExt cx="1440" cy="1800"/>
            </a:xfrm>
          </p:grpSpPr>
          <p:sp>
            <p:nvSpPr>
              <p:cNvPr id="167" name="Line 1623"/>
              <p:cNvSpPr/>
              <p:nvPr/>
            </p:nvSpPr>
            <p:spPr>
              <a:xfrm>
                <a:off x="3508200" y="60530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3508200" y="60530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508200" y="6053040"/>
              <a:ext cx="1440" cy="1800"/>
              <a:chOff x="3508200" y="6053040"/>
              <a:chExt cx="1440" cy="1800"/>
            </a:xfrm>
          </p:grpSpPr>
          <p:sp>
            <p:nvSpPr>
              <p:cNvPr id="170" name="Line 1624"/>
              <p:cNvSpPr/>
              <p:nvPr/>
            </p:nvSpPr>
            <p:spPr>
              <a:xfrm>
                <a:off x="3508200" y="60530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3508200" y="60530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27280" y="6053040"/>
              <a:ext cx="1440" cy="1800"/>
              <a:chOff x="3527280" y="6053040"/>
              <a:chExt cx="1440" cy="1800"/>
            </a:xfrm>
          </p:grpSpPr>
          <p:sp>
            <p:nvSpPr>
              <p:cNvPr id="173" name="Line 1626"/>
              <p:cNvSpPr/>
              <p:nvPr/>
            </p:nvSpPr>
            <p:spPr>
              <a:xfrm>
                <a:off x="3527280" y="60530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3527280" y="60530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527280" y="6053040"/>
              <a:ext cx="1440" cy="1800"/>
              <a:chOff x="3527280" y="6053040"/>
              <a:chExt cx="1440" cy="1800"/>
            </a:xfrm>
          </p:grpSpPr>
          <p:sp>
            <p:nvSpPr>
              <p:cNvPr id="176" name="Line 1627"/>
              <p:cNvSpPr/>
              <p:nvPr/>
            </p:nvSpPr>
            <p:spPr>
              <a:xfrm>
                <a:off x="3527280" y="60530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3527280" y="60530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517560" y="6059520"/>
              <a:ext cx="1800" cy="1800"/>
              <a:chOff x="3517560" y="6059520"/>
              <a:chExt cx="1800" cy="1800"/>
            </a:xfrm>
          </p:grpSpPr>
          <p:sp>
            <p:nvSpPr>
              <p:cNvPr id="179" name="Line 1629"/>
              <p:cNvSpPr/>
              <p:nvPr/>
            </p:nvSpPr>
            <p:spPr>
              <a:xfrm>
                <a:off x="3517560" y="6059520"/>
                <a:ext cx="180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3517560" y="6059520"/>
                <a:ext cx="1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17560" y="6059520"/>
              <a:ext cx="1800" cy="1800"/>
              <a:chOff x="3517560" y="6059520"/>
              <a:chExt cx="1800" cy="1800"/>
            </a:xfrm>
          </p:grpSpPr>
          <p:sp>
            <p:nvSpPr>
              <p:cNvPr id="182" name="Line 1630"/>
              <p:cNvSpPr/>
              <p:nvPr/>
            </p:nvSpPr>
            <p:spPr>
              <a:xfrm>
                <a:off x="3517560" y="6059520"/>
                <a:ext cx="180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3517560" y="6059520"/>
                <a:ext cx="1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84" name="Oval 2705"/>
          <p:cNvSpPr/>
          <p:nvPr/>
        </p:nvSpPr>
        <p:spPr>
          <a:xfrm>
            <a:off x="6702480" y="2401920"/>
            <a:ext cx="1204920" cy="12016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Oval 2706"/>
          <p:cNvSpPr/>
          <p:nvPr/>
        </p:nvSpPr>
        <p:spPr>
          <a:xfrm>
            <a:off x="6653160" y="2349360"/>
            <a:ext cx="1201680" cy="120204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Oval 2711"/>
          <p:cNvSpPr/>
          <p:nvPr/>
        </p:nvSpPr>
        <p:spPr>
          <a:xfrm>
            <a:off x="784080" y="2193840"/>
            <a:ext cx="1762200" cy="1760760"/>
          </a:xfrm>
          <a:prstGeom prst="ellipse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Oval 2712"/>
          <p:cNvSpPr/>
          <p:nvPr/>
        </p:nvSpPr>
        <p:spPr>
          <a:xfrm>
            <a:off x="708120" y="2117880"/>
            <a:ext cx="1762200" cy="176040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Oval 2725"/>
          <p:cNvSpPr/>
          <p:nvPr/>
        </p:nvSpPr>
        <p:spPr>
          <a:xfrm>
            <a:off x="6037200" y="4387680"/>
            <a:ext cx="1343160" cy="13417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Oval 2726"/>
          <p:cNvSpPr/>
          <p:nvPr/>
        </p:nvSpPr>
        <p:spPr>
          <a:xfrm>
            <a:off x="5979960" y="4330800"/>
            <a:ext cx="1343160" cy="134136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Oval 2728"/>
          <p:cNvSpPr/>
          <p:nvPr/>
        </p:nvSpPr>
        <p:spPr>
          <a:xfrm>
            <a:off x="1598760" y="4335480"/>
            <a:ext cx="1650960" cy="164628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Oval 2729"/>
          <p:cNvSpPr/>
          <p:nvPr/>
        </p:nvSpPr>
        <p:spPr>
          <a:xfrm>
            <a:off x="1530360" y="4264200"/>
            <a:ext cx="1647720" cy="164772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Oval 2731"/>
          <p:cNvSpPr/>
          <p:nvPr/>
        </p:nvSpPr>
        <p:spPr>
          <a:xfrm>
            <a:off x="3811680" y="4857840"/>
            <a:ext cx="1552320" cy="15494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Oval 2732"/>
          <p:cNvSpPr/>
          <p:nvPr/>
        </p:nvSpPr>
        <p:spPr>
          <a:xfrm>
            <a:off x="3747960" y="4792680"/>
            <a:ext cx="1549440" cy="154764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Freeform 2738"/>
          <p:cNvSpPr/>
          <p:nvPr/>
        </p:nvSpPr>
        <p:spPr>
          <a:xfrm>
            <a:off x="1763640" y="1628640"/>
            <a:ext cx="6648480" cy="214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AutoShape 2742"/>
          <p:cNvSpPr/>
          <p:nvPr/>
        </p:nvSpPr>
        <p:spPr>
          <a:xfrm rot="1754400">
            <a:off x="6916320" y="4176360"/>
            <a:ext cx="249120" cy="249120"/>
          </a:xfrm>
          <a:prstGeom prst="flowChartMerg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AutoShape 2757"/>
          <p:cNvSpPr/>
          <p:nvPr/>
        </p:nvSpPr>
        <p:spPr>
          <a:xfrm rot="4375200">
            <a:off x="5354280" y="5459400"/>
            <a:ext cx="249120" cy="249120"/>
          </a:xfrm>
          <a:prstGeom prst="flowChartMerg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AutoShape 2758"/>
          <p:cNvSpPr/>
          <p:nvPr/>
        </p:nvSpPr>
        <p:spPr>
          <a:xfrm rot="6443400">
            <a:off x="3131640" y="5473440"/>
            <a:ext cx="249120" cy="249480"/>
          </a:xfrm>
          <a:prstGeom prst="flowChartMerg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AutoShape 2759"/>
          <p:cNvSpPr/>
          <p:nvPr/>
        </p:nvSpPr>
        <p:spPr>
          <a:xfrm rot="9871800">
            <a:off x="1457280" y="3985920"/>
            <a:ext cx="249120" cy="249120"/>
          </a:xfrm>
          <a:prstGeom prst="flowChartMerg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Rectangle 2760"/>
          <p:cNvSpPr/>
          <p:nvPr/>
        </p:nvSpPr>
        <p:spPr>
          <a:xfrm>
            <a:off x="6670800" y="24883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+ International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Rectangle 2761"/>
          <p:cNvSpPr/>
          <p:nvPr/>
        </p:nvSpPr>
        <p:spPr>
          <a:xfrm>
            <a:off x="6078960" y="445536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+ Business tip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Rectangle 2762"/>
          <p:cNvSpPr/>
          <p:nvPr/>
        </p:nvSpPr>
        <p:spPr>
          <a:xfrm>
            <a:off x="3956760" y="49032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+ Reservation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Rectangle 2763"/>
          <p:cNvSpPr/>
          <p:nvPr/>
        </p:nvSpPr>
        <p:spPr>
          <a:xfrm>
            <a:off x="1734120" y="4403160"/>
            <a:ext cx="122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+ News &amp; Trend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Rectangle 2764"/>
          <p:cNvSpPr/>
          <p:nvPr/>
        </p:nvSpPr>
        <p:spPr>
          <a:xfrm>
            <a:off x="952200" y="22377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+ Entertainme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Rectangle 2765"/>
          <p:cNvSpPr/>
          <p:nvPr/>
        </p:nvSpPr>
        <p:spPr>
          <a:xfrm>
            <a:off x="6732720" y="2708280"/>
            <a:ext cx="107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Mixing Business With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Pleasuresponsor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compan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Rectangle 2766"/>
          <p:cNvSpPr/>
          <p:nvPr/>
        </p:nvSpPr>
        <p:spPr>
          <a:xfrm>
            <a:off x="6030720" y="4680360"/>
            <a:ext cx="129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Here it is! What all our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readers have bee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of the season's top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fashion looks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Rectangle 2767"/>
          <p:cNvSpPr/>
          <p:nvPr/>
        </p:nvSpPr>
        <p:spPr>
          <a:xfrm>
            <a:off x="3821400" y="5130000"/>
            <a:ext cx="15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catwalk images of th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trendiest styles and colors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Your personal look book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and fashion guide, no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matter your lifestyl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Rectangle 2768"/>
          <p:cNvSpPr/>
          <p:nvPr/>
        </p:nvSpPr>
        <p:spPr>
          <a:xfrm>
            <a:off x="826920" y="2476080"/>
            <a:ext cx="151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'Timeless' Marilyn Monroe Exhibit Opens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Lagerfeld's Paris triumph at H&amp;M falls flat in Lond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Zip into fashion when selecting that winter jacket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Rectangle 2769"/>
          <p:cNvSpPr/>
          <p:nvPr/>
        </p:nvSpPr>
        <p:spPr>
          <a:xfrm>
            <a:off x="1657440" y="4615920"/>
            <a:ext cx="143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keep a link with the fashio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Our Premium Fashion sectio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includes the latest fashion, beauty, news, articles, and more!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2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7:00Z</dcterms:created>
  <dc:creator>VitaminD</dc:creator>
  <dc:description>更多精彩_x005F_x000d_
让PPT飞起来_x005F_x000d_
http://pptshare.qzone.qq.com</dc:description>
  <dc:language>en-US</dc:language>
  <cp:lastModifiedBy>a</cp:lastModifiedBy>
  <dcterms:modified xsi:type="dcterms:W3CDTF">2014-10-28T01:41:51Z</dcterms:modified>
  <cp:revision>112</cp:revision>
  <dc:subject/>
  <dc:title>PowerDiagram数据分析类PPT图表50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