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21.gif" ContentType="image/gif"/>
  <Override PartName="/ppt/media/image19.gif" ContentType="image/gif"/>
  <Override PartName="/ppt/media/image1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4.gif" ContentType="image/gif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D759-29E8-4BEB-80D5-20AC65FC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D02F-1427-4CF4-B805-162D2188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1A67-1CB4-434F-9749-6F5CB9E8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5B38-5671-4238-8A3C-8AE48660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5990-7B61-48E5-85C3-93D0CE78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C21D-1732-4B22-A854-C75698B7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E792-8B4B-4117-8262-F299ECBB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3C8-5A47-48FE-BF63-77AFD9F5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D381-624E-4011-BFCF-01D1F601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A41F-FE9D-484C-8996-5077E7C0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8871-7238-4017-8023-B3F1DB65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8EA2-CA76-4998-9438-0081A39F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600"/>
            </a:gs>
            <a:gs pos="100000">
              <a:srgbClr val="a2e0a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D7DC-534C-42E0-8C2C-B68231ED5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image" Target="../media/image20.gif"/><Relationship Id="rId9" Type="http://schemas.openxmlformats.org/officeDocument/2006/relationships/image" Target="../media/image21.gif"/><Relationship Id="rId10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600"/>
            </a:gs>
            <a:gs pos="100000">
              <a:srgbClr val="a2e0a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flipH="1">
            <a:off x="809280" y="366840"/>
            <a:ext cx="1096920" cy="1811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34120" y="2587680"/>
            <a:ext cx="1428840" cy="1700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60720" y="2584440"/>
            <a:ext cx="1409760" cy="1630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11280" y="4581360"/>
            <a:ext cx="1692360" cy="2054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79520" y="2637000"/>
            <a:ext cx="2008080" cy="157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175520" y="476280"/>
            <a:ext cx="1428840" cy="1749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932360" y="404640"/>
            <a:ext cx="1746360" cy="1811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843280" y="404640"/>
            <a:ext cx="1627200" cy="177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2771640" y="4689360"/>
            <a:ext cx="1947960" cy="1764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5221440" y="2579760"/>
            <a:ext cx="1385640" cy="1635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5364000" y="4608360"/>
            <a:ext cx="1167120" cy="184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7396200" y="4610160"/>
            <a:ext cx="11206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600"/>
            </a:gs>
            <a:gs pos="100000">
              <a:srgbClr val="a2e0a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25760" y="2276640"/>
            <a:ext cx="1478160" cy="2089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48280" y="2349360"/>
            <a:ext cx="1560600" cy="2059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46080" y="4654440"/>
            <a:ext cx="1538280" cy="2060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046160" y="2205000"/>
            <a:ext cx="1438200" cy="218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948280" y="117360"/>
            <a:ext cx="1684440" cy="1936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3311640" y="117360"/>
            <a:ext cx="1654200" cy="1886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612720" y="117360"/>
            <a:ext cx="1871640" cy="1886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3311640" y="4654440"/>
            <a:ext cx="1825560" cy="1870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6002280" y="4680000"/>
            <a:ext cx="1506600" cy="1844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88720" y="6342120"/>
            <a:ext cx="42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4:33:50Z</dcterms:created>
  <dc:creator>Administrator</dc:creator>
  <dc:description/>
  <dc:language>en-US</dc:language>
  <cp:lastModifiedBy/>
  <dcterms:modified xsi:type="dcterms:W3CDTF">2014-11-02T00:40:0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