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79C6-7DA3-49AD-817B-DF4765AD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DE9-63CE-404A-ADEB-5EC1B67C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F9A-A11F-40E8-9016-A623BEF4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372A-204E-4364-A850-76C85717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E61A-5348-42C3-B94F-494509EC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719F-954D-4AC1-AE3A-4E4C5833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30EA-E082-4085-BAC3-BB76B3A4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CEF7-CBBF-462A-AD64-9E701192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8BEA-24FF-430F-867A-AA761DAA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62D3-F820-4A06-B42C-595B6F9C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A9AF-B481-4814-A934-3368DEED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A6BE-1243-41EF-A8B9-FB269DAC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D51B-D676-4E7F-8A0F-6818493E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2445-6F16-478E-BAA1-B70897DF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8E9D-B232-4D3E-B7FA-6F7475DB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EEDB-A187-4CE6-B698-617A4400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A20A-006D-4B05-BC40-6297DBE2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5DE-0F68-4AF2-BB89-63B81438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3FBB4-B065-4F81-AF22-6DA2C7AD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B4D3C-F798-460D-8086-503AFD37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FFB1B-6718-4384-BC8D-D05123CB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E73-276E-4029-A2CE-FE87D83F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FC9EE-2C4F-495E-920D-2093935E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180FF-02D0-472D-9C03-9F1111C5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E8EB-185B-437E-83D9-4BD6FE71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2A80A-D0E3-4822-802B-B47614BA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A6932-CA60-4452-9F2F-1B7E6AC6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2E91F-1BCE-4A1A-8925-566CC7EA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65285-25E0-4412-900F-3D8D8C93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59D85-52A0-4606-BD7B-B246645C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3D64-2203-4D84-A239-A3CDDDFE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54F-C988-4C02-BB3D-D02D2C5E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211-9565-4895-8E3F-9322A273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23D-344D-41D4-8746-DDE6C9DB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FF3-64D3-4A20-8983-A4987891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7B1-E342-4426-91B3-B49FB9FD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5416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920" y="6095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5400" y="6095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095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97F1-E7A7-4D4B-9484-D595E3B42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981080"/>
            <a:ext cx="6858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5905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638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08B5-0597-4E86-B05D-A11864324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6668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5638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CF1F-1B0B-4C08-9406-C3D6378D0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1981080"/>
            <a:ext cx="6858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23520" y="3580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54160"/>
            <a:ext cx="701028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标题 1"/>
          <p:cNvSpPr/>
          <p:nvPr/>
        </p:nvSpPr>
        <p:spPr>
          <a:xfrm>
            <a:off x="3276720" y="2571840"/>
            <a:ext cx="43099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感谢您的关注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16320" y="53341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9T03:20:24Z</dcterms:created>
  <dc:creator/>
  <dc:description/>
  <dc:language>en-US</dc:language>
  <cp:lastModifiedBy>微软用户</cp:lastModifiedBy>
  <dcterms:modified xsi:type="dcterms:W3CDTF">2014-05-19T05:06:5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