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2E7B-2000-40A5-99DB-87923D7B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C63D-C252-4C47-8E45-B6922A5A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AC3F-824E-442C-9EF6-5663CFF9E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AACB-07E9-46FE-9E7B-5E0B9D12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B28C1-8D38-486E-8EEA-A997CF0253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3AA19-567A-4DBB-927C-997D7C16D8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69695-B50E-4B2E-81E7-E070CA16FA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1A1D4-76D4-4186-9FEB-8A7EB29C22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F33C0-27EF-4EEF-BC22-13323919DA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B42E7-AACA-4691-B944-45BD5AE9A1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58A7C-DC5F-432B-B043-C86E26D03D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9073-EE52-43F2-9F96-9842BB93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59A84-1CFB-4143-B928-5861D3B545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0E1FE-0D26-4A28-BFD3-93D4DEDB83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F203B-AAD8-4194-A91C-69D6134DF7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1C17E-1230-4E16-AAF2-EDEA989A6C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6A9BB-BEA8-47EF-AB44-7B770F358BF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D6E585-9A01-414F-B834-AAD333D3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D8E38D-F82A-49D6-8FFF-00046773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3C6D5C-BEAA-4003-A9E1-028FE7B0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3BBAA9-6252-4899-BFED-A7E9DDD3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31D533-8850-4BAF-890D-299F232F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4F49-AE02-4CA1-821B-9F5CD75E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CB9C3B-99A3-4FF8-A5D1-8F2FEBB0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00D30A-5BB7-46D1-A99C-6BECE1E8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B58C3C-58FF-4C49-9A57-75D01587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774670-CD12-4AC4-AA36-E4B6BDF0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C29999-F8FA-4658-A31D-B53DA663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542476-D975-4AC6-9454-EC2371E9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74CE7F-F251-46E6-86EB-9CDB00F5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97D1D2-4402-457F-9988-889A09B2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8ADC39-8B6D-4280-AA66-BDCFC7B0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DFEA59-1915-4AE5-A271-FBA23E02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CA60-AF10-4006-B08C-F6D24192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F23B83-F4DD-4C05-8211-C01B137E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A19E89-2AD4-49CE-88E8-69F92621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17E533-7C49-4D54-A48E-20844366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5426D9-00A6-4D96-B09C-C3AE77C9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C0EB38-42BD-4B35-B3CA-E0FFEB04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236270-D686-4EC5-84E2-83A42793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8BEC2C-B9C8-4FAF-A93A-50C23614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221FF7-10D5-487A-8662-E0E7C0D2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50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3324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8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50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3324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0F5551-9682-419E-B050-35DD0D73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0C46-6214-4565-A59A-5A8C2BDB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C1D0-7767-429F-8E92-D6ED480B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6332-C2CB-4B42-AD36-5A17571A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40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A121-D5CD-41DE-82DB-AAC4A99C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7949-32EF-4E66-A84F-879513FC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913280"/>
            <a:ext cx="9144000" cy="194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   </a:t>
            </a:r>
            <a:fld id="{4030CEAE-268E-401A-8416-D1C50DB074CD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810560" cy="5522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3850920" y="6165720"/>
            <a:ext cx="187308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age  </a:t>
            </a:r>
            <a:fld id="{45E75ADF-2FA0-4F14-99E6-1B1F1EA340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4913280"/>
            <a:ext cx="9144000" cy="1944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   </a:t>
            </a:r>
            <a:fld id="{1FB59C8E-02AE-47B8-9EDC-C5A40F972147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913280"/>
            <a:ext cx="9144000" cy="1944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   </a:t>
            </a:r>
            <a:fld id="{474B4E3D-18E5-43BF-BE97-72F9CC57AA2B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630840" y="6165720"/>
            <a:ext cx="237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14080" y="6165720"/>
            <a:ext cx="6249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2T06:30:07Z</dcterms:created>
  <dc:creator>BillGates</dc:creator>
  <dc:description/>
  <dc:language>en-US</dc:language>
  <cp:lastModifiedBy>dl-server</cp:lastModifiedBy>
  <cp:lastPrinted>1899-12-30T00:00:00Z</cp:lastPrinted>
  <dcterms:modified xsi:type="dcterms:W3CDTF">2014-06-07T08:12:11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