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DEB-286B-49CB-8E44-93810433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7F3-2CAB-49D6-8776-4776D809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B16-E19F-4732-BE26-0098D677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54E-059F-407D-BC3E-ADBF3514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BF7-FAE8-4B91-88CF-31F8EE87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06FB-E61F-4E02-8E50-28A8702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90BA-4A65-47EA-B63E-BDF3388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B251-E14F-4E29-AFB6-4B12907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B93-B079-4E6B-B83A-065CD4E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0145-8377-49F3-BA64-99B2A44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30E7-E15B-4DA1-A29C-EF54317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7EB-420D-4750-AEAC-246222E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5D4-FD42-44C1-AF4F-69D8ADA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7C95-8CC5-4CA9-972E-248F241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9C8-7722-43D4-B87F-08F2AF0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FCB3-44B9-4C4A-88BA-51713B1C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2E4-73D2-44E5-A371-EAD970C7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A8C-B817-4FCC-A9A1-0439E0F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792-8E4D-43EA-8E7A-45982B1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338-C376-4FCE-B856-B766D21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906-AC88-4BE1-A2B0-06B9465D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C0E-DF63-4EC8-9E81-75A2902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058-C133-436F-AD03-B0848A1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5BA-AE79-40ED-ADB2-7C12FD0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eij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c8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c8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c8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c8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2320"/>
            <a:ext cx="9140760" cy="1219320"/>
            <a:chOff x="0" y="-22320"/>
            <a:chExt cx="9140760" cy="1219320"/>
          </a:xfrm>
        </p:grpSpPr>
        <p:sp>
          <p:nvSpPr>
            <p:cNvPr id="5" name="Rectangle 81"/>
            <p:cNvSpPr/>
            <p:nvPr/>
          </p:nvSpPr>
          <p:spPr>
            <a:xfrm>
              <a:off x="0" y="-22320"/>
              <a:ext cx="9140760" cy="121932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30196"/>
                  </a:srgbClr>
                </a:gs>
                <a:gs pos="100000">
                  <a:srgbClr val="5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" name="Rectangle 83"/>
            <p:cNvSpPr/>
            <p:nvPr/>
          </p:nvSpPr>
          <p:spPr>
            <a:xfrm>
              <a:off x="0" y="-20880"/>
              <a:ext cx="9140760" cy="107424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>
                    <a:alpha val="3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907-991B-47F2-945A-8FAC40CCBE66}" type="slidenum">
              <a:rPr b="0" lang="en-US" sz="1400" spc="-1" strike="noStrike">
                <a:solidFill>
                  <a:srgbClr val="c8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beij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0" y="981000"/>
            <a:ext cx="9144000" cy="2158560"/>
            <a:chOff x="0" y="981000"/>
            <a:chExt cx="9144000" cy="2158560"/>
          </a:xfrm>
        </p:grpSpPr>
        <p:sp>
          <p:nvSpPr>
            <p:cNvPr id="47" name="Rectangle 81"/>
            <p:cNvSpPr/>
            <p:nvPr/>
          </p:nvSpPr>
          <p:spPr>
            <a:xfrm>
              <a:off x="0" y="981000"/>
              <a:ext cx="9144000" cy="21585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30196"/>
                  </a:srgbClr>
                </a:gs>
                <a:gs pos="100000">
                  <a:srgbClr val="5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" name="Rectangle 83"/>
            <p:cNvSpPr/>
            <p:nvPr/>
          </p:nvSpPr>
          <p:spPr>
            <a:xfrm>
              <a:off x="0" y="983520"/>
              <a:ext cx="9144000" cy="1901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>
                    <a:alpha val="3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12C5-A338-4A9F-B4C7-DC6ED29A5F45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c80000"/>
              </a:solidFill>
              <a:latin typeface="黑体"/>
            </a:endParaRPr>
          </a:p>
          <a:p>
            <a:pPr lvl="2" marL="914400" algn="ctr">
              <a:spcBef>
                <a:spcPts val="601"/>
              </a:spcBef>
              <a:buClr>
                <a:srgbClr val="c80000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c80000"/>
              </a:solidFill>
              <a:latin typeface="黑体"/>
            </a:endParaRPr>
          </a:p>
          <a:p>
            <a:pPr lvl="3" marL="1371600" algn="ctr">
              <a:spcBef>
                <a:spcPts val="499"/>
              </a:spcBef>
              <a:buClr>
                <a:srgbClr val="c80000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4" marL="1828800" algn="ctr">
              <a:spcBef>
                <a:spcPts val="499"/>
              </a:spcBef>
              <a:buClr>
                <a:srgbClr val="c80000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5" marL="1828800">
              <a:spcBef>
                <a:spcPts val="4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6" marL="1828800">
              <a:spcBef>
                <a:spcPts val="4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3:20:16Z</dcterms:created>
  <dc:creator/>
  <dc:description/>
  <dc:language>en-US</dc:language>
  <cp:lastModifiedBy>acer</cp:lastModifiedBy>
  <dcterms:modified xsi:type="dcterms:W3CDTF">2014-11-06T01:34:37Z</dcterms:modified>
  <cp:revision>5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