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772440"/>
            <a:ext cx="264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724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440"/>
            <a:ext cx="822960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72400" cy="110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72400" cy="1108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24000" y="3502080"/>
            <a:ext cx="6400800" cy="766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6778800" cy="8654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8000" y="1198080"/>
            <a:ext cx="6778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616572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e66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PoweredTemplates.com</dc:creator>
  <dc:description/>
  <dc:language>en-US</dc:language>
  <cp:lastModifiedBy>Inna</cp:lastModifiedBy>
  <dcterms:modified xsi:type="dcterms:W3CDTF">2014-11-02T01:15:19Z</dcterms:modified>
  <cp:revision>8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