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2E2A-1073-4F19-A927-76F6B6A4F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2B92-0A12-4386-B5EF-EE9C7FE48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26FB-70E1-4E75-882D-BCE7A9DC7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1B72-D1C7-4731-9877-66DA1C8A5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14DD-62B3-4860-883D-A59BAE02A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21D8-F87D-41F2-97E5-566DBD9F8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AA5D-8769-4C08-8513-58C9C2595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7233-2673-4F28-9D44-48B2E7248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5788-E2F6-42B4-97BC-4D4593AC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7ECE-68FE-4715-81F2-9A7C3E2E2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E2F7-0B11-42B1-8D18-468CBAE6D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A58-A88F-4ED6-B995-9560631A6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BBE1DDD-C732-4CFD-8F8E-FB1FF2F6F78C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7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468360" y="4221000"/>
            <a:ext cx="4813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-4344840" y="4456080"/>
            <a:ext cx="4813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5950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A01930B-7D8B-4A0D-8872-BA6933BBFE4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g3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357880" y="46404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5651640" y="3718080"/>
            <a:ext cx="246528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122280" y="41187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1586520" y="6237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1c1c1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ilovePPT.ORG</cp:lastModifiedBy>
  <cp:lastPrinted>1899-12-30T00:00:00Z</cp:lastPrinted>
  <dcterms:modified xsi:type="dcterms:W3CDTF">2014-05-23T12:45:09Z</dcterms:modified>
  <cp:revision>2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