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7.jpeg" ContentType="image/jpeg"/>
  <Override PartName="/ppt/media/image6.gif" ContentType="image/gi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8DAB9-C7FC-4CD6-85C9-11A03720A7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9152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95280" y="3772080"/>
            <a:ext cx="829152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FC4FC-6A4D-428B-AD66-4F1D69FCF0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404604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44000" y="980640"/>
            <a:ext cx="404604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95280" y="3772080"/>
            <a:ext cx="404604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44000" y="3772080"/>
            <a:ext cx="404604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91102-07C5-422B-B19F-A01012240A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266976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8960" y="980640"/>
            <a:ext cx="266976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02640" y="980640"/>
            <a:ext cx="266976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95280" y="3772080"/>
            <a:ext cx="266976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8960" y="3772080"/>
            <a:ext cx="266976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02640" y="3772080"/>
            <a:ext cx="266976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8866D-D214-4D7F-A31B-59A582A41E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95280" y="980640"/>
            <a:ext cx="8291520" cy="53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9152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404604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4000" y="980640"/>
            <a:ext cx="404604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95280" y="226800"/>
            <a:ext cx="71294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404604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4000" y="980640"/>
            <a:ext cx="404604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5280" y="3772080"/>
            <a:ext cx="404604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95280" y="980640"/>
            <a:ext cx="8291520" cy="53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FDDD9-3BDE-4B39-995F-D77E79140F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404604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4000" y="980640"/>
            <a:ext cx="404604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44000" y="3772080"/>
            <a:ext cx="404604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404604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4000" y="980640"/>
            <a:ext cx="404604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5280" y="3772080"/>
            <a:ext cx="829152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9152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95280" y="3772080"/>
            <a:ext cx="829152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404604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4000" y="980640"/>
            <a:ext cx="404604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95280" y="3772080"/>
            <a:ext cx="404604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44000" y="3772080"/>
            <a:ext cx="404604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266976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98960" y="980640"/>
            <a:ext cx="266976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02640" y="980640"/>
            <a:ext cx="266976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95280" y="3772080"/>
            <a:ext cx="266976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98960" y="3772080"/>
            <a:ext cx="266976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02640" y="3772080"/>
            <a:ext cx="266976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9152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58369-3DDF-4096-835C-F1792D7D16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404604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4000" y="980640"/>
            <a:ext cx="404604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FE171-EFC9-4970-9CAA-80107F9F44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DE117-1113-4606-9800-C7EFCD6055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95280" y="226800"/>
            <a:ext cx="71294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614E9-0AAB-47C3-8DA9-923C972279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404604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000" y="980640"/>
            <a:ext cx="404604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95280" y="3772080"/>
            <a:ext cx="404604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EA0ED-2738-4496-8881-1F60D77994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404604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4000" y="980640"/>
            <a:ext cx="404604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44000" y="3772080"/>
            <a:ext cx="404604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892CF-A838-43EF-9DE5-15EB605463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404604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4000" y="980640"/>
            <a:ext cx="404604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95280" y="3772080"/>
            <a:ext cx="8291520" cy="254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6C4FE-63F8-497B-BF0E-603130A22D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260280"/>
            <a:ext cx="7596360" cy="576360"/>
          </a:xfrm>
          <a:prstGeom prst="rect">
            <a:avLst/>
          </a:prstGeom>
          <a:solidFill>
            <a:srgbClr val="1c3a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333360"/>
            <a:ext cx="7596360" cy="417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2340000" y="1441440"/>
          <a:ext cx="6804000" cy="541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1441440"/>
                    <a:ext cx="6804000" cy="54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468360" y="6526080"/>
            <a:ext cx="8351640" cy="1800"/>
          </a:xfrm>
          <a:prstGeom prst="line">
            <a:avLst/>
          </a:prstGeom>
          <a:ln w="9360">
            <a:solidFill>
              <a:srgbClr val="1c3a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763560"/>
            <a:ext cx="9144000" cy="73080"/>
          </a:xfrm>
          <a:prstGeom prst="rect">
            <a:avLst/>
          </a:prstGeom>
          <a:solidFill>
            <a:srgbClr val="1c3a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395280" y="980640"/>
            <a:ext cx="829152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8fe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38fe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38fe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438fe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438fe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c3a8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c3a8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7667280" y="260280"/>
            <a:ext cx="13129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c3a8e"/>
                </a:solidFill>
                <a:latin typeface="Verdana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3a8e"/>
                </a:solidFill>
                <a:latin typeface="Verdana"/>
                <a:ea typeface="Gulim"/>
              </a:rPr>
              <a:t>Company 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32767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1c3a8e"/>
                </a:solidFill>
                <a:latin typeface="Verdana"/>
                <a:ea typeface="Gulim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5A33-478F-4897-9496-20CCF4BE4A03}" type="slidenum">
              <a:rPr b="0" lang="ko-KR" sz="1200" spc="-1" strike="noStrike">
                <a:solidFill>
                  <a:srgbClr val="1c3a8e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1773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19280" y="2565360"/>
            <a:ext cx="556092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326880" y="6066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38fe3"/>
                </a:solidFill>
                <a:latin typeface="Arial"/>
                <a:ea typeface="Gulim"/>
              </a:rPr>
              <a:t>Company</a:t>
            </a:r>
            <a:r>
              <a:rPr b="1" lang="en-US" sz="2400" spc="-1" strike="noStrike">
                <a:solidFill>
                  <a:srgbClr val="1c3a8e"/>
                </a:solidFill>
                <a:latin typeface="Arial"/>
                <a:ea typeface="Gulim"/>
              </a:rPr>
              <a:t> </a:t>
            </a:r>
            <a:r>
              <a:rPr b="1" lang="en-US" sz="2800" spc="-1" strike="noStrike">
                <a:solidFill>
                  <a:srgbClr val="1c3a8e"/>
                </a:solidFill>
                <a:latin typeface="Arial"/>
                <a:ea typeface="Gulim"/>
              </a:rPr>
              <a:t>LOGO</a:t>
            </a:r>
            <a:endParaRPr b="0" lang="en-US" sz="28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438fe3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438fe3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438fe3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1c3a8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1c3a8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19280" y="2565360"/>
            <a:ext cx="556092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Verdana"/>
                <a:ea typeface="Gulim"/>
              </a:rPr>
              <a:t>PowerPoint </a:t>
            </a:r>
            <a:r>
              <a:rPr b="1" lang="en-US" sz="6600" spc="-1" strike="noStrike">
                <a:solidFill>
                  <a:srgbClr val="ffffff"/>
                </a:solidFill>
                <a:latin typeface="Verdana"/>
                <a:ea typeface="Gulim"/>
              </a:rPr>
              <a:t>Template</a:t>
            </a:r>
            <a:endParaRPr b="1" lang="en-US" sz="6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03280" y="548784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7164360" y="64022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1747800" y="217656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75e5e"/>
              </a:gs>
              <a:gs pos="50000">
                <a:srgbClr val="33cccc"/>
              </a:gs>
              <a:gs pos="100000">
                <a:srgbClr val="175e5e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1c3a8e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1. Introduction</a:t>
            </a:r>
            <a:endParaRPr b="0" lang="en-US" sz="24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62200" y="288936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e4168"/>
              </a:gs>
              <a:gs pos="50000">
                <a:srgbClr val="438fe3"/>
              </a:gs>
              <a:gs pos="100000">
                <a:srgbClr val="1e4168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1c3a8e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2. Strategy</a:t>
            </a:r>
            <a:endParaRPr b="0" lang="en-US" sz="24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47800" y="3668760"/>
            <a:ext cx="5473800" cy="46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4646"/>
              </a:gs>
              <a:gs pos="50000">
                <a:srgbClr val="009999"/>
              </a:gs>
              <a:gs pos="100000">
                <a:srgbClr val="004646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1c3a8e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3. Challenges Forward</a:t>
            </a:r>
            <a:endParaRPr b="0" lang="en-US" sz="2400" spc="-1" strike="noStrike">
              <a:solidFill>
                <a:srgbClr val="1c3a8e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47800" y="4402080"/>
            <a:ext cx="5473800" cy="4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e4168"/>
              </a:gs>
              <a:gs pos="50000">
                <a:srgbClr val="438fe3"/>
              </a:gs>
              <a:gs pos="100000">
                <a:srgbClr val="1e4168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1c3a8e"/>
                </a:solidFill>
                <a:latin typeface="Arial"/>
                <a:ea typeface="Gulim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4. Conclusion</a:t>
            </a:r>
            <a:endParaRPr b="0" lang="en-US" sz="2400" spc="-1" strike="noStrike">
              <a:solidFill>
                <a:srgbClr val="1c3a8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Related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9152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38fe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  <a:ea typeface="Gulim"/>
              </a:rPr>
              <a:t>Competitors 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 may want to allocate one slide per competito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38fe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3a8e"/>
                </a:solidFill>
                <a:latin typeface="Verdana"/>
                <a:ea typeface="Gulim"/>
              </a:rPr>
              <a:t>Strengths</a:t>
            </a:r>
            <a:r>
              <a:rPr b="1" lang="en-US" sz="2800" spc="-1" strike="noStrike">
                <a:solidFill>
                  <a:srgbClr val="438fe3"/>
                </a:solidFill>
                <a:latin typeface="Verdana"/>
                <a:ea typeface="Gulim"/>
              </a:rPr>
              <a:t> 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strengths relative to competitor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438fe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38fe3"/>
                </a:solidFill>
                <a:latin typeface="Verdana"/>
                <a:ea typeface="Gulim"/>
              </a:rPr>
              <a:t>Weaknesses</a:t>
            </a: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weaknesses relative to competitor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38fe3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7164360" y="64022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226800"/>
            <a:ext cx="7129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hart Docum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332000" y="1155600"/>
            <a:ext cx="61196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851280" y="2225520"/>
            <a:ext cx="1368360" cy="1276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1619280" y="3068640"/>
            <a:ext cx="583236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84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cccc"/>
                    </a:gs>
                    <a:gs pos="100000">
                      <a:srgbClr val="1c3a8e"/>
                    </a:gs>
                  </a:gsLst>
                  <a:lin ang="10800000"/>
                </a:gradFill>
                <a:effectLst>
                  <a:outerShdw dist="107932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cccc"/>
                  </a:gs>
                  <a:gs pos="100000">
                    <a:srgbClr val="1c3a8e"/>
                  </a:gs>
                </a:gsLst>
                <a:lin ang="10800000"/>
              </a:gradFill>
              <a:effectLst>
                <a:outerShdw dist="107932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94240" y="609300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33cccc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1c3a8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0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1c3a8e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1c3a8e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1c3a8e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1c3a8e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1c3a8e"/>
                </a:solidFill>
                <a:latin typeface="Arial"/>
              </a:endParaRPr>
            </a:p>
          </p:txBody>
        </p:sp>
        <p:pic>
          <p:nvPicPr>
            <p:cNvPr id="10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33cccc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33cccc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33cccc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1c3a8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0T06:31:08Z</dcterms:created>
  <dc:creator/>
  <dc:description/>
  <dc:language>en-US</dc:language>
  <cp:lastModifiedBy>황정남</cp:lastModifiedBy>
  <cp:lastPrinted>1899-12-30T00:00:00Z</cp:lastPrinted>
  <dcterms:modified xsi:type="dcterms:W3CDTF">2014-05-28T14:02:03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