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520-138A-4B95-82BE-808667E7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804-CFC1-4BB1-B78A-0EB2018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EA0-A601-468C-9A9F-8315831C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071-88DD-4FBC-8007-F77564FD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DF0-1703-4278-AD68-1B2C4B8E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3DEA-9661-458D-8A31-ECC0E6A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47F7-2E6D-48D1-A222-C06D480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7B57-E24E-42C3-8FD0-1D86E8A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273-5F83-4170-BFC0-2351DDA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E23-8533-48FD-AEE8-70D9486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03E1-9D41-4998-A76F-D9EE342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B4E-AFD6-4EFB-B0B9-8285D80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9CC-EFDC-4010-B8ED-EAD6B27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BD3-8369-42F8-9123-8786714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59A9-A97F-4B84-BA72-7ACA4CB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631-6692-475F-8761-75F202EB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320-602A-4936-8BDD-8478183D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6F7-76FB-410D-A10C-5D659201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77-52CB-4682-821F-FBDBF79A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BE3-2689-4D05-A301-389A3D5E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A7C-9366-4520-8EBC-DFB4D140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7E6-C6EF-4485-8572-DF75FB9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D59-CB3B-424F-9581-49C59DD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DFB-8DF7-481A-9D4A-033E08E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112D-880A-406E-8492-4C938DF24CE8}" type="slidenum"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" y="350172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84AE-04E7-445D-B95E-6896699F5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" y="350172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Arial"/>
              </a:rPr>
              <a:t>别针</a:t>
            </a:r>
            <a:endParaRPr b="1" lang="en-US" sz="6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" y="2781360"/>
            <a:ext cx="586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微软雅黑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53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7:58:57Z</dcterms:created>
  <dc:creator>Administrator</dc:creator>
  <dc:description/>
  <dc:language>en-US</dc:language>
  <cp:lastModifiedBy/>
  <cp:lastPrinted>1899-12-30T00:00:00Z</cp:lastPrinted>
  <dcterms:modified xsi:type="dcterms:W3CDTF">2014-05-15T07:29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