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5DBED-1FE3-42DF-AAE5-7AA9422E3A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7AB6D-183E-4F19-826C-97128BBA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7278F-802A-4C14-AC49-1F155430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0D5D6-1B45-4ABD-BDF3-2D3DD5C440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3D376-2DC6-41B0-A1E2-CF9F7C3D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00509-857B-4B26-9FF6-437B756E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C7BD0-1F01-45EF-A3E3-5268B36B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EE2F0-A418-457B-84B4-FA0DE363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5EA98-4C78-4B9F-9C78-CEE0A7EC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1640D-1618-40A0-85C6-619185B6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C1D89-0AD1-42E3-9231-3F580DD3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9C57-5AB1-46B9-A91B-A8F50E0B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ED4A7-2B65-44E3-843C-17905235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3BD89-E472-42C0-AA50-5B29F2B5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669AC-B75E-4959-A051-9291380E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4B4C1-D4EE-4501-B567-0EE7ED11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C9685-E55F-4634-9F59-CC1A82F8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416E7-B6F2-4A48-B782-6B47BB64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81BA0-4EB2-4E84-8227-DF3700CB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2F269-990F-4C9A-859C-52503C3F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06878-9FD7-4F37-A908-4E2C5C67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2DDF0-61A8-4B35-A9FE-5360EFB2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62144-79DB-4EAF-9FA8-83775057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763D7-AEBA-4C48-8785-D479C496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bg.jpg"/>
          <p:cNvPicPr/>
          <p:nvPr/>
        </p:nvPicPr>
        <p:blipFill>
          <a:blip r:embed="rId2"/>
          <a:srcRect l="0" t="76781" r="0" b="3243"/>
          <a:stretch/>
        </p:blipFill>
        <p:spPr>
          <a:xfrm>
            <a:off x="0" y="17640"/>
            <a:ext cx="9144000" cy="137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Administrator\Desktop\bg.jpg"/>
          <p:cNvPicPr/>
          <p:nvPr/>
        </p:nvPicPr>
        <p:blipFill>
          <a:blip r:embed="rId3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56FD-C1E5-422D-B08D-77204E3890EE}" type="datetime">
              <a:rPr b="0" lang="zh-CN" sz="1200" spc="-1" strike="noStrike">
                <a:solidFill>
                  <a:srgbClr val="7f7f7f"/>
                </a:solidFill>
                <a:latin typeface="Verdana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79BB-3C48-4D7F-BF9B-88E0F2384CA5}" type="slidenum">
              <a:rPr b="0" lang="zh-CN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Administrator\Desktop\bg.jpg"/>
          <p:cNvPicPr/>
          <p:nvPr/>
        </p:nvPicPr>
        <p:blipFill>
          <a:blip r:embed="rId2"/>
          <a:srcRect l="0" t="76781" r="0" b="3243"/>
          <a:stretch/>
        </p:blipFill>
        <p:spPr>
          <a:xfrm>
            <a:off x="0" y="17640"/>
            <a:ext cx="9144000" cy="1374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420E-5633-4492-AE78-2B213100EF4F}" type="datetime">
              <a:rPr b="0" lang="zh-CN" sz="1200" spc="-1" strike="noStrike">
                <a:solidFill>
                  <a:srgbClr val="7f7f7f"/>
                </a:solidFill>
                <a:latin typeface="Verdana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 www.ilovepp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E7B6-793B-482E-B808-E04F5A379765}" type="slidenum">
              <a:rPr b="0" lang="zh-CN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765840" y="6300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点击此处添加文本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0205-B6C5-47F5-8FB5-1F8644F35538}" type="datetime">
              <a:rPr b="0" lang="zh-CN" sz="1200" spc="-1" strike="noStrike">
                <a:solidFill>
                  <a:srgbClr val="7f7f7f"/>
                </a:solidFill>
                <a:latin typeface="Verdana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418F-8101-4275-8C25-F4268C3C968C}" type="slidenum">
              <a:rPr b="0" lang="zh-CN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82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/>
  <dc:description/>
  <dc:language>en-US</dc:language>
  <cp:lastModifiedBy>king</cp:lastModifiedBy>
  <cp:lastPrinted>1899-12-30T00:00:00Z</cp:lastPrinted>
  <dcterms:modified xsi:type="dcterms:W3CDTF">2014-06-07T07:22:24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