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73B9-A8CD-45A1-BC01-5B31924AB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43000" y="4101480"/>
            <a:ext cx="7772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E2146-8EC0-472B-8BDE-67724E32D0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25680" y="182844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43000" y="410148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25680" y="410148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3CEF8-16B3-4F12-94C3-CF8961EB7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2502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771000" y="1828440"/>
            <a:ext cx="2502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398640" y="1828440"/>
            <a:ext cx="2502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43000" y="4101480"/>
            <a:ext cx="2502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771000" y="4101480"/>
            <a:ext cx="2502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398640" y="4101480"/>
            <a:ext cx="25023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6A17-1794-4978-8A74-0820EB415F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300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43000" y="1828440"/>
            <a:ext cx="77724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353F4-C08C-4556-AE38-DB63AD5CD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300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77724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46936-B765-49F2-B64A-34E32559D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792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25680" y="1828440"/>
            <a:ext cx="3792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52D9-520E-4E64-948D-32ABF62CC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300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2DD69-6616-4706-9065-D7349A4E4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43000" y="365040"/>
            <a:ext cx="7772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7989-78BB-438D-BD59-650936EB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300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25680" y="1828440"/>
            <a:ext cx="3792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43000" y="410148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65A2-9F9B-4788-AC1A-AA66CEB5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300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792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25680" y="182844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25680" y="410148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5942B-8F35-4A18-B605-A4523EDED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300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82844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25680" y="1828440"/>
            <a:ext cx="3792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43000" y="4101480"/>
            <a:ext cx="77724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16918-3404-4545-9BAA-7201255BB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"/>
          <p:cNvPicPr/>
          <p:nvPr/>
        </p:nvPicPr>
        <p:blipFill>
          <a:blip r:embed="rId2"/>
          <a:srcRect l="25973" t="0" r="0" b="0"/>
          <a:stretch/>
        </p:blipFill>
        <p:spPr>
          <a:xfrm>
            <a:off x="0" y="0"/>
            <a:ext cx="76104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11" descr=""/>
          <p:cNvPicPr/>
          <p:nvPr/>
        </p:nvPicPr>
        <p:blipFill>
          <a:blip r:embed="rId3"/>
          <a:srcRect l="0" t="0" r="88308" b="0"/>
          <a:stretch/>
        </p:blipFill>
        <p:spPr>
          <a:xfrm>
            <a:off x="0" y="0"/>
            <a:ext cx="89064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Rectangle 9"/>
          <p:cNvSpPr/>
          <p:nvPr/>
        </p:nvSpPr>
        <p:spPr>
          <a:xfrm>
            <a:off x="900000" y="0"/>
            <a:ext cx="82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4300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143000" y="1828440"/>
            <a:ext cx="77724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1426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59595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F8795-4F74-4A39-BC17-2B522F4D6102}" type="datetime">
              <a:rPr b="0" lang="zh-CN" sz="1100" spc="-1" strike="noStrike">
                <a:solidFill>
                  <a:srgbClr val="595959"/>
                </a:solidFill>
                <a:latin typeface="Arial"/>
              </a:rPr>
              <a:t>26/7/28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48948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8576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0160C-13F8-483E-8246-039FA75C504B}" type="slidenum">
              <a:rPr b="0" lang="zh-CN" sz="11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870600"/>
            <a:chOff x="0" y="0"/>
            <a:chExt cx="9144000" cy="6870600"/>
          </a:xfrm>
        </p:grpSpPr>
        <p:pic>
          <p:nvPicPr>
            <p:cNvPr id="45" name="Picture 6" descr=""/>
            <p:cNvPicPr/>
            <p:nvPr/>
          </p:nvPicPr>
          <p:blipFill>
            <a:blip r:embed="rId1"/>
            <a:stretch/>
          </p:blipFill>
          <p:spPr>
            <a:xfrm flipH="1">
              <a:off x="0" y="0"/>
              <a:ext cx="9144000" cy="687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7" descr=""/>
            <p:cNvPicPr/>
            <p:nvPr/>
          </p:nvPicPr>
          <p:blipFill>
            <a:blip r:embed="rId2"/>
            <a:srcRect l="9350" t="0" r="63900" b="0"/>
            <a:stretch/>
          </p:blipFill>
          <p:spPr>
            <a:xfrm>
              <a:off x="855000" y="0"/>
              <a:ext cx="2446200" cy="687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Straight Connector 9"/>
            <p:cNvSpPr/>
            <p:nvPr/>
          </p:nvSpPr>
          <p:spPr>
            <a:xfrm>
              <a:off x="863280" y="0"/>
              <a:ext cx="0" cy="68706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Straight Connector 11"/>
            <p:cNvSpPr/>
            <p:nvPr/>
          </p:nvSpPr>
          <p:spPr>
            <a:xfrm>
              <a:off x="3301200" y="0"/>
              <a:ext cx="10080" cy="685800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13"/>
          <p:cNvSpPr/>
          <p:nvPr/>
        </p:nvSpPr>
        <p:spPr>
          <a:xfrm>
            <a:off x="863640" y="4076640"/>
            <a:ext cx="8280360" cy="2124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4508280"/>
            <a:ext cx="7772400" cy="11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规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057400" y="5740560"/>
            <a:ext cx="6858000" cy="46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077600" y="647064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365040"/>
            <a:ext cx="7772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143000" y="1828440"/>
            <a:ext cx="77724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6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7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563c1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563c1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563c1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09T03:57:00Z</dcterms:created>
  <dc:creator>lenovo</dc:creator>
  <dc:description/>
  <dc:language>en-US</dc:language>
  <cp:lastModifiedBy>lenovo</cp:lastModifiedBy>
  <dcterms:modified xsi:type="dcterms:W3CDTF">2014-10-24T05:14:4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5</vt:lpwstr>
  </property>
</Properties>
</file>