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3A8-FBCF-4662-99B9-31B24E02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759-E6E0-4A6A-A2C9-BC66C567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CBE-DF74-419D-80F0-E61D77DF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756-D91E-4DCC-932F-7E0E4C76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7E5-3CF6-4EE5-B78B-9EEE220C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49E-5B05-48DA-A340-CF7CE84F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681-892F-4290-85A3-1B1C60C4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A40-B33A-41DF-A793-252DA972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8E3-EF9B-4F6E-9BAB-A1152660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089-1E46-429C-8519-5A87E2F8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17D-B767-442B-9693-E59C8E6A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D68-10C3-42AB-BDA0-BDC6BAB1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rcRect l="6101" t="78749" r="9152" b="4375"/>
          <a:stretch/>
        </p:blipFill>
        <p:spPr>
          <a:xfrm>
            <a:off x="0" y="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Lithos Pro Regular"/>
              </a:rPr>
              <a:t>Click to edit the title text format</a:t>
            </a:r>
            <a:endParaRPr b="0" lang="en-US" sz="3800" spc="-1" strike="noStrike">
              <a:solidFill>
                <a:srgbClr val="1f497d"/>
              </a:solidFill>
              <a:latin typeface="Lithos Pro Regular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7286760" y="214200"/>
            <a:ext cx="1571400" cy="126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EE7-C2E5-4B24-8ABF-FBF50E50598F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0770-4C85-4906-824C-09456763288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rcRect l="21125" t="22156" r="22237" b="3165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715000" y="1928880"/>
            <a:ext cx="3429000" cy="275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Lithos Pro Regula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f497d"/>
              </a:solidFill>
              <a:latin typeface="Lithos Pro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rcRect l="21125" t="22156" r="22237" b="3165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5572080" y="1928880"/>
            <a:ext cx="3429000" cy="2759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347840"/>
            <a:ext cx="91440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Lithos Pro Regular"/>
              </a:rPr>
              <a:t>Thank   You</a:t>
            </a:r>
            <a:endParaRPr b="0" lang="en-US" sz="6000" spc="-1" strike="noStrike">
              <a:solidFill>
                <a:srgbClr val="1f497d"/>
              </a:solidFill>
              <a:latin typeface="Lithos Pro Regular"/>
            </a:endParaRPr>
          </a:p>
        </p:txBody>
      </p:sp>
      <p:sp>
        <p:nvSpPr>
          <p:cNvPr id="90" name="TextBox 54"/>
          <p:cNvSpPr/>
          <p:nvPr/>
        </p:nvSpPr>
        <p:spPr>
          <a:xfrm>
            <a:off x="3564000" y="4956120"/>
            <a:ext cx="24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Calibri"/>
              </a:rPr>
              <a:t>之家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92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01:39:40Z</dcterms:created>
  <dc:creator>sg</dc:creator>
  <dc:description/>
  <dc:language>en-US</dc:language>
  <cp:lastModifiedBy>a</cp:lastModifiedBy>
  <dcterms:modified xsi:type="dcterms:W3CDTF">2014-10-28T01:40:1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