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D3382-1588-4446-A1E5-113C361AE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2E2E8-A9F4-4045-8378-E14B1A51C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C5AA1-D47D-47C9-88DE-07FC6E128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2353E-8F6C-4CB6-B705-A0343151E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21CFB-5D7C-4C8E-94A0-3B131B80B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E4984-381A-4BAA-B5DE-C9CB58DE1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B57AA-7D71-4D23-BC60-98C66A014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12CB5-BBA6-401B-9A87-8EA574549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1907B-D411-4D67-A608-2753CFB62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198A1-D5CF-4DA1-A6CC-5884E07C3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37B13-0144-48DA-BCB2-B47853AED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A3B2A-E20B-4CAF-A5F6-AF4475B9A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258C7-11FD-4994-A51C-33997BBB8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7A846-10AB-4BAD-8EE2-ED2579F94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ABCCC-BEA1-4424-B0D2-720C3FB4A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4F718-7A6C-4C51-9431-2A7FEB1CB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783A2-0287-4A3B-BB74-34CF376DF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C4469-C93B-443E-A414-6C7379A55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97869-9A3E-4F06-9529-AAB96C988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50C25-270B-47F1-8609-6E0F83AC2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9C0B3-4E6E-4A70-97F5-CC647CEAA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7962C-983F-40F2-99AE-C1437D5D8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1758A-C158-420F-9D7C-F1C6C60A0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4ECD3-278D-440F-937C-D8913450A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71EE1-0430-4CD5-9034-1DA06154574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DC46E-6A3E-471F-B4F9-5E1ABE51142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hyperlink" Target="http://www.eeppt.com" TargetMode="External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8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85800" y="320004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087320" y="640080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62120" y="243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谢谢欣赏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762120" y="4952880"/>
            <a:ext cx="1447560" cy="14479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2286000" y="4952880"/>
            <a:ext cx="1447920" cy="14479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4"/>
          <a:stretch/>
        </p:blipFill>
        <p:spPr>
          <a:xfrm>
            <a:off x="3733920" y="4952880"/>
            <a:ext cx="1447560" cy="14479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5"/>
          <a:stretch/>
        </p:blipFill>
        <p:spPr>
          <a:xfrm>
            <a:off x="5029200" y="4952880"/>
            <a:ext cx="1447920" cy="144792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1745640" y="6400800"/>
            <a:ext cx="56332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华文新魏"/>
                <a:ea typeface="华文新魏"/>
                <a:hlinkClick r:id="rId6"/>
              </a:rPr>
              <a:t>PPT之家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整理发布，更多免费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PPT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94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5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5T04:52:34Z</dcterms:created>
  <dc:creator/>
  <dc:description/>
  <dc:language>en-US</dc:language>
  <cp:lastModifiedBy>微软用户</cp:lastModifiedBy>
  <dcterms:modified xsi:type="dcterms:W3CDTF">2014-05-25T05:26:53Z</dcterms:modified>
  <cp:revision>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  <property fmtid="{D5CDD505-2E9C-101B-9397-08002B2CF9AE}" pid="3" name="Version">
    <vt:r8>1</vt:r8>
  </property>
</Properties>
</file>