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C88A-5A3E-421A-9658-003D9D07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F9AB-C12F-4D78-A9A2-1B3690F0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CFD9-3B80-49A9-BCA1-22EEA548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F1A9-D095-4BF8-8830-6C7E6B38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5852-C3ED-4551-BA11-2622F2D5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F860-BFCA-4E8F-A484-E3B1E93D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721D-9497-4658-91EF-85A875B1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0539-4EF2-4F61-8F67-AE4F6BED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0358-A938-4E1A-976B-041DFE81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4907-A90D-4FE6-A4AA-A789857B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AACC-8C05-4EEE-89AF-EA9D7711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F2DA-D59B-4C5B-B521-68E416DB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95A7-E6FA-4F8A-BC60-2BE66E3F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3053-83B9-4A4C-8AB6-2D39DA25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A0E6-88DA-46D1-8751-EB67C0AE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FCDC-183B-4A78-98C8-708249C47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BCA7-0D8E-4747-8989-728A19F3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78961-323B-47F7-9878-429B367E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69D6F-0191-4B53-B294-817E84EB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B7761-1A6C-42A3-9E2C-EB634C6C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71AB5-89D6-4A83-BE11-AC74C3BB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19928-1E83-402F-B044-0E5F6953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5262-1206-4C73-A1AC-EDA1E98D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A23D1-4D81-46DE-A006-437BCF75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484F7-1A9D-4432-AB84-219803DE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9561A-9618-4F8B-BD7F-246498CE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B520C-F94C-42F3-8C46-E4F8A83E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53792-8C38-46F2-BA2C-0A7110E8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A6012-E827-4A8C-A40C-F91E31BCA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0885B-D013-45AB-AB11-FAF4D203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F9E6B-5461-46CC-82F5-240E91FB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2B99C-3D97-4BCA-98D4-509A7924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8B21B-7536-4A4A-8372-5A62A7D9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8C2D-D597-4F94-989E-7BB90756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C1BAE-FE9C-43BE-B30A-7DC1C55E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8C1D1-1B71-42D0-B29B-BC0BCE5D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D4328-C732-4754-BBAC-E8288752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22AF3-614B-435F-9ADB-4CF4D8B4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9B8A0-87A5-4D0E-BF12-1BADCECA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CD421-B616-48BB-9B44-48AC3E8F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64346-2629-4B77-8DA9-64941561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049FD-A6CC-439B-8AA4-B534F64F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6D80F-8C52-49DE-B424-A0DE5F11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2C6-71CE-4AFC-8936-BA0C3CF8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3A44-D9E9-4536-B73C-B6578A7E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45FA-4E0E-4BAB-82AA-F3A9829E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0D8B-7224-4B7B-BB80-89F717BD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B2C4-3CCA-420D-A125-6BF19616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33" b="364"/>
          <a:stretch/>
        </p:blipFill>
        <p:spPr>
          <a:xfrm>
            <a:off x="3240" y="-20520"/>
            <a:ext cx="9250200" cy="6905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D4BD-9339-417F-8067-D59FB378FCB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EAE8-458E-480E-8089-2E7D9AE266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未标题-3" descr=""/>
          <p:cNvPicPr/>
          <p:nvPr/>
        </p:nvPicPr>
        <p:blipFill>
          <a:blip r:embed="rId2"/>
          <a:srcRect l="412" t="0" r="432" b="543"/>
          <a:stretch/>
        </p:blipFill>
        <p:spPr>
          <a:xfrm>
            <a:off x="0" y="3240"/>
            <a:ext cx="917748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D3BD-7CFE-4CEE-9279-15D9F199470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F06E-26A6-4562-907E-993E83703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BECD-CCB1-4A0D-9308-5D23699E7AB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FCC9-0241-4733-851B-07F3103F80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A4EA-EC30-48A7-98D3-ED35513CAC0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BBDF-8D10-422D-81AA-472CF0934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227640" y="4076640"/>
            <a:ext cx="269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张海山锐线体2.0"/>
              </a:rPr>
              <a:t>儿童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04160" y="6526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727280" y="746280"/>
            <a:ext cx="1493640" cy="369000"/>
          </a:xfrm>
          <a:prstGeom prst="rect">
            <a:avLst/>
          </a:prstGeom>
          <a:noFill/>
          <a:ln cap="rnd" w="936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张海山锐线体2.0"/>
              </a:rPr>
              <a:t>简约派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908000" y="1343160"/>
            <a:ext cx="5321160" cy="1312920"/>
            <a:chOff x="1908000" y="1343160"/>
            <a:chExt cx="5321160" cy="1312920"/>
          </a:xfrm>
        </p:grpSpPr>
        <p:sp>
          <p:nvSpPr>
            <p:cNvPr id="169" name=""/>
            <p:cNvSpPr/>
            <p:nvPr/>
          </p:nvSpPr>
          <p:spPr>
            <a:xfrm>
              <a:off x="1908000" y="1343160"/>
              <a:ext cx="936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b3db98"/>
                  </a:solidFill>
                  <a:latin typeface="微软雅黑"/>
                  <a:ea typeface="微软雅黑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03720" y="1595880"/>
              <a:ext cx="4825440" cy="777600"/>
            </a:xfrm>
            <a:prstGeom prst="rect">
              <a:avLst/>
            </a:prstGeom>
            <a:solidFill>
              <a:srgbClr val="b3d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920960" y="2295360"/>
            <a:ext cx="5314680" cy="1312920"/>
            <a:chOff x="1920960" y="2295360"/>
            <a:chExt cx="5314680" cy="1312920"/>
          </a:xfrm>
        </p:grpSpPr>
        <p:sp>
          <p:nvSpPr>
            <p:cNvPr id="172" name=""/>
            <p:cNvSpPr/>
            <p:nvPr/>
          </p:nvSpPr>
          <p:spPr>
            <a:xfrm>
              <a:off x="1920960" y="2295360"/>
              <a:ext cx="826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cccc"/>
                  </a:solidFill>
                  <a:latin typeface="微软雅黑"/>
                  <a:ea typeface="微软雅黑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12000" y="2555640"/>
              <a:ext cx="4823640" cy="777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223000" y="2987280"/>
              <a:ext cx="216360" cy="216720"/>
            </a:xfrm>
            <a:prstGeom prst="rtTriangl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893960" y="3270240"/>
            <a:ext cx="5335200" cy="1312920"/>
            <a:chOff x="1893960" y="3270240"/>
            <a:chExt cx="5335200" cy="1312920"/>
          </a:xfrm>
        </p:grpSpPr>
        <p:sp>
          <p:nvSpPr>
            <p:cNvPr id="176" name=""/>
            <p:cNvSpPr/>
            <p:nvPr/>
          </p:nvSpPr>
          <p:spPr>
            <a:xfrm>
              <a:off x="1893960" y="3270240"/>
              <a:ext cx="775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009999"/>
                  </a:solidFill>
                  <a:latin typeface="微软雅黑"/>
                  <a:ea typeface="微软雅黑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04800" y="3521160"/>
              <a:ext cx="4824360" cy="7912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19120" y="3851280"/>
              <a:ext cx="264600" cy="75960"/>
            </a:xfrm>
            <a:prstGeom prst="flowChartProcess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73040" y="4236480"/>
              <a:ext cx="264600" cy="75960"/>
            </a:xfrm>
            <a:prstGeom prst="flowChartProcess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20560" y="3526560"/>
              <a:ext cx="264600" cy="75960"/>
            </a:xfrm>
            <a:prstGeom prst="flowChartProcess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939320" y="4232160"/>
            <a:ext cx="5296680" cy="1312920"/>
            <a:chOff x="1939320" y="4232160"/>
            <a:chExt cx="5296680" cy="1312920"/>
          </a:xfrm>
        </p:grpSpPr>
        <p:sp>
          <p:nvSpPr>
            <p:cNvPr id="182" name=""/>
            <p:cNvSpPr/>
            <p:nvPr/>
          </p:nvSpPr>
          <p:spPr>
            <a:xfrm>
              <a:off x="1939320" y="4232160"/>
              <a:ext cx="7628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cc669d"/>
                  </a:solidFill>
                  <a:latin typeface="微软雅黑"/>
                  <a:ea typeface="微软雅黑"/>
                </a:rPr>
                <a:t>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11280" y="4499640"/>
              <a:ext cx="4824720" cy="769680"/>
            </a:xfrm>
            <a:prstGeom prst="rect">
              <a:avLst/>
            </a:prstGeom>
            <a:solidFill>
              <a:srgbClr val="cc6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2577960" y="1805040"/>
            <a:ext cx="42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张海山锐线体2.0"/>
              </a:rPr>
              <a:t>我们一起过儿童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90920" y="2693880"/>
            <a:ext cx="42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张海山锐线体2.0"/>
              </a:rPr>
              <a:t>我们一起过儿童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06760" y="3656160"/>
            <a:ext cx="42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张海山锐线体2.0"/>
              </a:rPr>
              <a:t>我们一起过儿童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14680" y="4608360"/>
            <a:ext cx="42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张海山锐线体2.0"/>
              </a:rPr>
              <a:t>我们一起过儿童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一起过儿童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儿童是国家的未来，是民族的希望，给所有儿童创造良好的家庭、社会和学习环境，让他们健康、快乐、幸福地成长，一直是世界各国努力的目标，一年一度的“六一国际儿童节”就是专门为儿童们设立的节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日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本是世界上庆祝儿童节次数最多的国家，他们一年要庆祝三次儿童节，而且庆祝方式十分有意思，充满了浓浓的日本风情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女孩节　这个节日是专门为小女孩设立的，每到这一天，各国“儿童节”天，家中有女儿的父母会在家里设置一个陈列台，台上放上穿着日本和服的漂亮女娃娃玩偶，作为给自己女儿的节日礼物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韩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韩国的儿童节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2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，从“男孩节”演变过来的。也是韩国的公众假日，每年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。这一天，孩子们可以尽情享受欢乐，父母要给孩子准备他们　最想要的礼物。很多孩子也会在这天穿上韩服，体验传统的韩国文化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哥伦比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哥伦比亚将每年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定为儿童节。在这个节日里，全国的学校都要举行各种生动活泼的庆祝活动，儿童们还常常戴上各式各样的假面具，扮成小丑的样子在街头玩耍，十分开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470560" y="3886200"/>
            <a:ext cx="33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张海山锐线体2.0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48360" y="645012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6560" y="645012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dc:language>en-US</dc:language>
  <cp:lastModifiedBy>xiang</cp:lastModifiedBy>
  <dcterms:modified xsi:type="dcterms:W3CDTF">2014-11-06T01:29:20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