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5E0D-55D9-4856-933A-1941BFA9D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BE05-E6FD-4695-863F-290B5015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0000-9157-401A-90D8-F32FDEAE3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3DAB-EC94-48C7-B1C0-0114B433A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A2A3-71EA-4549-95FC-06B7A74FB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A954-E574-4B61-B1D3-9AAA5022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61F8-908E-48CE-A244-3F3AD02E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9A32-4FBB-4150-8B20-E07DF62D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098F-E817-41AC-9644-7B4DA1D6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8742-159E-4177-9CAB-E27D6DAF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9EB0-B634-4030-B7E8-4E7A6A79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7727-7DB1-4529-AABB-A74B6F5A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5510-FD66-424F-9256-22753DE5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23D0-D2F7-4098-8594-B9C629DE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696E-C967-498F-8473-E27131EE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5801-C67B-4F60-B35F-F34EBBCC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4920-2F6D-4C76-A548-539DF9FDE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BEF2B-3EC7-40AA-BEA9-89CD5C63C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69A29-E219-4D02-BA59-2FBDA933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F4C11-80FD-4EAA-8E63-CA3CBD9B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3F865-9C3F-4C18-87D0-65F1223E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87F6B-AB05-4C2A-BEE4-884A222F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094C-7BDE-4F0D-96E9-4DD92E15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D6B8D-972A-435F-9932-61242FB6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56682-7D12-4C12-955D-CE13833F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E9EF4-597C-4152-B494-C1345311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94F78-56E7-41E9-942E-63B39333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FBC53-8C19-4B87-9084-C0554EF2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0D888-221E-4431-AAFF-E7B8D0F3A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93991-AF06-472C-9C3F-FFB3EEBD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7854-004D-4EE8-8C77-350F2CD0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C05E-86B9-42E0-A51B-4B53A73A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8459-C010-493E-8B9F-7C8E9357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A7EB-58EB-4FB6-A692-D2255EAE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7192-56F5-40C3-ADAA-9444A1D1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5C1A-F214-41BC-953F-2FED698A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916160"/>
            <a:ext cx="2895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7CE4-0580-4480-91B2-D3B0E3F0DA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2239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898560" indent="-1792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258920" indent="-1792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7928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7928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7928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916160"/>
            <a:ext cx="213372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60D2-5A45-4A1B-A1CA-FC53820082DF}" type="datetime"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916160"/>
            <a:ext cx="289584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916160"/>
            <a:ext cx="213372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443A-32CA-4F01-805F-4D919853AFAF}" type="slidenum"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916160"/>
            <a:ext cx="2895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697B-E97C-4C26-80C1-C8876A1019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059280"/>
            <a:ext cx="640080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973080" y="0"/>
            <a:ext cx="6664320" cy="5398920"/>
            <a:chOff x="973080" y="0"/>
            <a:chExt cx="6664320" cy="5398920"/>
          </a:xfrm>
        </p:grpSpPr>
        <p:sp>
          <p:nvSpPr>
            <p:cNvPr id="130" name="矩形 4"/>
            <p:cNvSpPr/>
            <p:nvPr/>
          </p:nvSpPr>
          <p:spPr>
            <a:xfrm>
              <a:off x="1504800" y="0"/>
              <a:ext cx="5261040" cy="56628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973080" y="1349640"/>
              <a:ext cx="6664320" cy="40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Box 7"/>
            <p:cNvSpPr/>
            <p:nvPr/>
          </p:nvSpPr>
          <p:spPr>
            <a:xfrm rot="20926800">
              <a:off x="2483280" y="2798280"/>
              <a:ext cx="367380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4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5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5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5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25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25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06:03:18Z</dcterms:created>
  <dc:creator>Administrator</dc:creator>
  <dc:description/>
  <dc:language>en-US</dc:language>
  <cp:lastModifiedBy>a</cp:lastModifiedBy>
  <dcterms:modified xsi:type="dcterms:W3CDTF">2014-10-28T01:26:32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