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14A-2D47-4D13-9969-BA1741EB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E41-8275-4C3D-8D43-AA29674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853-985D-4FEE-B360-4AB58FED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54AA-08BC-485A-9DFA-20B18C07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32C5-5BF0-48A9-BF3C-6E1E61FB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E2F-AC78-4363-971B-4B8AC39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E0F-7BE6-4C95-B09C-4D77C4A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520-C627-42EC-A5D2-9C9CBFB1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0DA2-D93B-4195-870C-CC53D64E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4008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57C1-360D-440F-9469-6EF0AF6F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4C8-1D9D-4FB9-B0C8-62A00E9C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600-8E8E-470E-ACC3-D3FFBE20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B0E1-7776-4B8F-A17C-DF529AF2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744-C9DC-4CB2-A457-A351FBBE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ABE5-F839-487D-A4B9-4EE1984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6CAE-2A9A-4B72-8D3E-1141617F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4325-330D-4258-AEA4-672D7EEE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FBD-3FC6-4435-847D-AAC7EB3E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68C-CD1D-4559-8995-030E52CE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D3D-F470-498E-93F7-34F35FA6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4008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BE5-8543-4618-8FE7-849EADE4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016-730C-431F-BD47-E2A84B6F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095-4980-449F-B7F4-11B8A401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34F-7EF8-48B9-91A9-8479F34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42540"/>
              </a:gs>
              <a:gs pos="50000">
                <a:srgbClr val="0e74c8"/>
              </a:gs>
              <a:gs pos="100000">
                <a:srgbClr val="0425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3" descr="7"/>
          <p:cNvPicPr/>
          <p:nvPr/>
        </p:nvPicPr>
        <p:blipFill>
          <a:blip r:embed="rId2"/>
          <a:srcRect l="0" t="0" r="0" b="27629"/>
          <a:stretch/>
        </p:blipFill>
        <p:spPr>
          <a:xfrm>
            <a:off x="6537240" y="190440"/>
            <a:ext cx="898560" cy="7635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10"/>
          <p:cNvPicPr/>
          <p:nvPr/>
        </p:nvPicPr>
        <p:blipFill>
          <a:blip r:embed="rId3"/>
          <a:stretch/>
        </p:blipFill>
        <p:spPr>
          <a:xfrm rot="21104400">
            <a:off x="7284600" y="219240"/>
            <a:ext cx="890640" cy="6188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11"/>
          <p:cNvPicPr/>
          <p:nvPr/>
        </p:nvPicPr>
        <p:blipFill>
          <a:blip r:embed="rId4"/>
          <a:stretch/>
        </p:blipFill>
        <p:spPr>
          <a:xfrm rot="441600">
            <a:off x="8648280" y="153720"/>
            <a:ext cx="430200" cy="608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12"/>
          <p:cNvPicPr/>
          <p:nvPr/>
        </p:nvPicPr>
        <p:blipFill>
          <a:blip r:embed="rId5"/>
          <a:stretch/>
        </p:blipFill>
        <p:spPr>
          <a:xfrm rot="21109200">
            <a:off x="8248320" y="394920"/>
            <a:ext cx="333360" cy="382680"/>
          </a:xfrm>
          <a:prstGeom prst="rect">
            <a:avLst/>
          </a:prstGeom>
          <a:ln w="0">
            <a:noFill/>
          </a:ln>
        </p:spPr>
      </p:pic>
      <p:sp>
        <p:nvSpPr>
          <p:cNvPr id="5" name="未知"/>
          <p:cNvSpPr/>
          <p:nvPr/>
        </p:nvSpPr>
        <p:spPr>
          <a:xfrm>
            <a:off x="0" y="0"/>
            <a:ext cx="9163080" cy="6858000"/>
          </a:xfrm>
          <a:custGeom>
            <a:avLst/>
            <a:gdLst/>
            <a:ahLst/>
            <a:rect l="l" t="t" r="r" b="b"/>
            <a:pathLst>
              <a:path w="5772" h="4320">
                <a:moveTo>
                  <a:pt x="5772" y="493"/>
                </a:moveTo>
                <a:cubicBezTo>
                  <a:pt x="4913" y="296"/>
                  <a:pt x="4344" y="1120"/>
                  <a:pt x="864" y="0"/>
                </a:cubicBezTo>
                <a:lnTo>
                  <a:pt x="0" y="0"/>
                </a:lnTo>
                <a:lnTo>
                  <a:pt x="9" y="4312"/>
                </a:lnTo>
                <a:lnTo>
                  <a:pt x="5769" y="4320"/>
                </a:lnTo>
                <a:lnTo>
                  <a:pt x="5772" y="493"/>
                </a:lnTo>
                <a:close/>
              </a:path>
            </a:pathLst>
          </a:custGeom>
          <a:gradFill rotWithShape="0">
            <a:gsLst>
              <a:gs pos="0">
                <a:srgbClr val="06365d"/>
              </a:gs>
              <a:gs pos="100000">
                <a:srgbClr val="0e74c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8" descr="3"/>
          <p:cNvPicPr/>
          <p:nvPr/>
        </p:nvPicPr>
        <p:blipFill>
          <a:blip r:embed="rId6"/>
          <a:stretch/>
        </p:blipFill>
        <p:spPr>
          <a:xfrm>
            <a:off x="-1440" y="0"/>
            <a:ext cx="91548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76680" y="0"/>
            <a:ext cx="1632960" cy="1227240"/>
            <a:chOff x="76680" y="0"/>
            <a:chExt cx="1632960" cy="1227240"/>
          </a:xfrm>
        </p:grpSpPr>
        <p:pic>
          <p:nvPicPr>
            <p:cNvPr id="8" name="Picture 10" descr="9"/>
            <p:cNvPicPr/>
            <p:nvPr/>
          </p:nvPicPr>
          <p:blipFill>
            <a:blip r:embed="rId7"/>
            <a:stretch/>
          </p:blipFill>
          <p:spPr>
            <a:xfrm>
              <a:off x="243000" y="739800"/>
              <a:ext cx="31896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1" descr="5"/>
            <p:cNvPicPr/>
            <p:nvPr/>
          </p:nvPicPr>
          <p:blipFill>
            <a:blip r:embed="rId8"/>
            <a:stretch/>
          </p:blipFill>
          <p:spPr>
            <a:xfrm>
              <a:off x="1284480" y="512640"/>
              <a:ext cx="42516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2" descr="4"/>
            <p:cNvPicPr/>
            <p:nvPr/>
          </p:nvPicPr>
          <p:blipFill>
            <a:blip r:embed="rId9"/>
            <a:srcRect l="0" t="21539" r="-4229" b="0"/>
            <a:stretch/>
          </p:blipFill>
          <p:spPr>
            <a:xfrm>
              <a:off x="76680" y="0"/>
              <a:ext cx="1471320" cy="122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" name="Picture 13" descr="5"/>
          <p:cNvPicPr/>
          <p:nvPr/>
        </p:nvPicPr>
        <p:blipFill>
          <a:blip r:embed="rId10"/>
          <a:srcRect l="0" t="33501" r="0" b="0"/>
          <a:stretch/>
        </p:blipFill>
        <p:spPr>
          <a:xfrm>
            <a:off x="6075360" y="0"/>
            <a:ext cx="782640" cy="50976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7336-9DA3-4BF2-9C64-4062AA5454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42540"/>
              </a:gs>
              <a:gs pos="100000">
                <a:srgbClr val="0e74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10"/>
          <p:cNvPicPr/>
          <p:nvPr/>
        </p:nvPicPr>
        <p:blipFill>
          <a:blip r:embed="rId2"/>
          <a:stretch/>
        </p:blipFill>
        <p:spPr>
          <a:xfrm>
            <a:off x="5587920" y="4594320"/>
            <a:ext cx="1465200" cy="102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1"/>
          <p:cNvPicPr/>
          <p:nvPr/>
        </p:nvPicPr>
        <p:blipFill>
          <a:blip r:embed="rId3"/>
          <a:stretch/>
        </p:blipFill>
        <p:spPr>
          <a:xfrm rot="441600">
            <a:off x="8305560" y="4368960"/>
            <a:ext cx="707760" cy="1000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12"/>
          <p:cNvPicPr/>
          <p:nvPr/>
        </p:nvPicPr>
        <p:blipFill>
          <a:blip r:embed="rId4"/>
          <a:stretch/>
        </p:blipFill>
        <p:spPr>
          <a:xfrm rot="21251400">
            <a:off x="7462800" y="4735440"/>
            <a:ext cx="549360" cy="628560"/>
          </a:xfrm>
          <a:prstGeom prst="rect">
            <a:avLst/>
          </a:prstGeom>
          <a:ln w="0">
            <a:noFill/>
          </a:ln>
        </p:spPr>
      </p:pic>
      <p:sp>
        <p:nvSpPr>
          <p:cNvPr id="57" name="未知"/>
          <p:cNvSpPr/>
          <p:nvPr/>
        </p:nvSpPr>
        <p:spPr>
          <a:xfrm>
            <a:off x="2362320" y="4965840"/>
            <a:ext cx="6786360" cy="1892160"/>
          </a:xfrm>
          <a:custGeom>
            <a:avLst/>
            <a:gdLst/>
            <a:ahLst/>
            <a:rect l="l" t="t" r="r" b="b"/>
            <a:pathLst>
              <a:path w="3923" h="1192">
                <a:moveTo>
                  <a:pt x="3923" y="302"/>
                </a:moveTo>
                <a:cubicBezTo>
                  <a:pt x="2934" y="0"/>
                  <a:pt x="2566" y="603"/>
                  <a:pt x="1610" y="302"/>
                </a:cubicBezTo>
                <a:cubicBezTo>
                  <a:pt x="1610" y="619"/>
                  <a:pt x="0" y="1192"/>
                  <a:pt x="0" y="1192"/>
                </a:cubicBezTo>
                <a:lnTo>
                  <a:pt x="3920" y="1192"/>
                </a:lnTo>
                <a:lnTo>
                  <a:pt x="3923" y="302"/>
                </a:lnTo>
                <a:close/>
              </a:path>
            </a:pathLst>
          </a:custGeom>
          <a:gradFill rotWithShape="0">
            <a:gsLst>
              <a:gs pos="0">
                <a:srgbClr val="06365d"/>
              </a:gs>
              <a:gs pos="100000">
                <a:srgbClr val="0e74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7" descr="3"/>
          <p:cNvPicPr/>
          <p:nvPr/>
        </p:nvPicPr>
        <p:blipFill>
          <a:blip r:embed="rId5"/>
          <a:stretch/>
        </p:blipFill>
        <p:spPr>
          <a:xfrm>
            <a:off x="-1440" y="0"/>
            <a:ext cx="9154800" cy="3357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9"/>
          <p:cNvPicPr/>
          <p:nvPr/>
        </p:nvPicPr>
        <p:blipFill>
          <a:blip r:embed="rId6"/>
          <a:stretch/>
        </p:blipFill>
        <p:spPr>
          <a:xfrm>
            <a:off x="573120" y="5106960"/>
            <a:ext cx="96984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7"/>
          <p:cNvPicPr/>
          <p:nvPr/>
        </p:nvPicPr>
        <p:blipFill>
          <a:blip r:embed="rId7"/>
          <a:srcRect l="0" t="0" r="0" b="27629"/>
          <a:stretch/>
        </p:blipFill>
        <p:spPr>
          <a:xfrm>
            <a:off x="5076720" y="5759280"/>
            <a:ext cx="1295640" cy="1098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6"/>
          <p:cNvPicPr/>
          <p:nvPr/>
        </p:nvPicPr>
        <p:blipFill>
          <a:blip r:embed="rId8"/>
          <a:srcRect l="0" t="0" r="0" b="37586"/>
          <a:stretch/>
        </p:blipFill>
        <p:spPr>
          <a:xfrm>
            <a:off x="6227640" y="6175440"/>
            <a:ext cx="1319400" cy="682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5"/>
          <p:cNvPicPr/>
          <p:nvPr/>
        </p:nvPicPr>
        <p:blipFill>
          <a:blip r:embed="rId9"/>
          <a:stretch/>
        </p:blipFill>
        <p:spPr>
          <a:xfrm>
            <a:off x="4514760" y="3838680"/>
            <a:ext cx="1701720" cy="171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4"/>
          <p:cNvPicPr/>
          <p:nvPr/>
        </p:nvPicPr>
        <p:blipFill>
          <a:blip r:embed="rId10"/>
          <a:srcRect l="6664" t="0" r="0" b="0"/>
          <a:stretch/>
        </p:blipFill>
        <p:spPr>
          <a:xfrm>
            <a:off x="0" y="533520"/>
            <a:ext cx="5270400" cy="625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8"/>
          <p:cNvPicPr/>
          <p:nvPr/>
        </p:nvPicPr>
        <p:blipFill>
          <a:blip r:embed="rId11"/>
          <a:srcRect l="24492" t="0" r="0" b="22310"/>
          <a:stretch/>
        </p:blipFill>
        <p:spPr>
          <a:xfrm>
            <a:off x="0" y="5734080"/>
            <a:ext cx="88596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star"/>
          <p:cNvPicPr/>
          <p:nvPr/>
        </p:nvPicPr>
        <p:blipFill>
          <a:blip r:embed="rId12"/>
          <a:stretch/>
        </p:blipFill>
        <p:spPr>
          <a:xfrm rot="5019000">
            <a:off x="1231560" y="536400"/>
            <a:ext cx="863640" cy="88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star"/>
          <p:cNvPicPr/>
          <p:nvPr/>
        </p:nvPicPr>
        <p:blipFill>
          <a:blip r:embed="rId13"/>
          <a:stretch/>
        </p:blipFill>
        <p:spPr>
          <a:xfrm>
            <a:off x="919080" y="2970360"/>
            <a:ext cx="704880" cy="71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star"/>
          <p:cNvPicPr/>
          <p:nvPr/>
        </p:nvPicPr>
        <p:blipFill>
          <a:blip r:embed="rId14"/>
          <a:stretch/>
        </p:blipFill>
        <p:spPr>
          <a:xfrm rot="18226200">
            <a:off x="2148480" y="3756240"/>
            <a:ext cx="52236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3" descr="star"/>
          <p:cNvPicPr/>
          <p:nvPr/>
        </p:nvPicPr>
        <p:blipFill>
          <a:blip r:embed="rId15"/>
          <a:stretch/>
        </p:blipFill>
        <p:spPr>
          <a:xfrm rot="19851000">
            <a:off x="1260360" y="1901520"/>
            <a:ext cx="752760" cy="768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114120"/>
            <a:ext cx="21337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114120"/>
            <a:ext cx="289584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114120"/>
            <a:ext cx="21337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B1F7-F10D-40E6-8384-381804A6D6F3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9.png"/><Relationship Id="rId8" Type="http://schemas.openxmlformats.org/officeDocument/2006/relationships/image" Target="../media/image28.wm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8.wmf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wmf"/><Relationship Id="rId3" Type="http://schemas.openxmlformats.org/officeDocument/2006/relationships/image" Target="../media/image38.png"/><Relationship Id="rId4" Type="http://schemas.openxmlformats.org/officeDocument/2006/relationships/image" Target="../media/image28.wmf"/><Relationship Id="rId5" Type="http://schemas.openxmlformats.org/officeDocument/2006/relationships/image" Target="../media/image38.png"/><Relationship Id="rId6" Type="http://schemas.openxmlformats.org/officeDocument/2006/relationships/image" Target="../media/image28.wmf"/><Relationship Id="rId7" Type="http://schemas.openxmlformats.org/officeDocument/2006/relationships/image" Target="../media/image38.png"/><Relationship Id="rId8" Type="http://schemas.openxmlformats.org/officeDocument/2006/relationships/image" Target="../media/image28.wmf"/><Relationship Id="rId9" Type="http://schemas.openxmlformats.org/officeDocument/2006/relationships/image" Target="../media/image38.png"/><Relationship Id="rId10" Type="http://schemas.openxmlformats.org/officeDocument/2006/relationships/image" Target="../media/image28.wmf"/><Relationship Id="rId11" Type="http://schemas.openxmlformats.org/officeDocument/2006/relationships/image" Target="../media/image38.png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8.wmf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939960"/>
            <a:ext cx="8370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宋体"/>
              </a:rPr>
              <a:t>ThemeGallery </a:t>
            </a:r>
            <a:br>
              <a:rPr sz="5000"/>
            </a:br>
            <a:endParaRPr b="1" lang="en-US" sz="5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485" name="AutoShape 3"/>
          <p:cNvSpPr/>
          <p:nvPr/>
        </p:nvSpPr>
        <p:spPr>
          <a:xfrm flipV="1">
            <a:off x="849240" y="4657680"/>
            <a:ext cx="1698840" cy="1589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 flipV="1">
            <a:off x="2782800" y="4077720"/>
            <a:ext cx="1698840" cy="2168280"/>
          </a:xfrm>
          <a:prstGeom prst="can">
            <a:avLst>
              <a:gd name="adj" fmla="val 18638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 flipV="1">
            <a:off x="4727520" y="3308400"/>
            <a:ext cx="1687680" cy="2938320"/>
          </a:xfrm>
          <a:prstGeom prst="can">
            <a:avLst>
              <a:gd name="adj" fmla="val 13388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flipV="1">
            <a:off x="6662880" y="2557440"/>
            <a:ext cx="1687320" cy="3689280"/>
          </a:xfrm>
          <a:prstGeom prst="can">
            <a:avLst>
              <a:gd name="adj" fmla="val 10495"/>
            </a:avLst>
          </a:prstGeom>
          <a:gradFill rotWithShape="0">
            <a:gsLst>
              <a:gs pos="0">
                <a:srgbClr val="eaeaea">
                  <a:alpha val="20000"/>
                </a:srgbClr>
              </a:gs>
              <a:gs pos="50000">
                <a:srgbClr val="959595">
                  <a:alpha val="20000"/>
                </a:srgbClr>
              </a:gs>
              <a:gs pos="100000">
                <a:srgbClr val="eaeaea">
                  <a:alpha val="2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727520" y="3284640"/>
            <a:ext cx="1687320" cy="520200"/>
            <a:chOff x="4727520" y="3284640"/>
            <a:chExt cx="1687320" cy="520200"/>
          </a:xfrm>
        </p:grpSpPr>
        <p:sp>
          <p:nvSpPr>
            <p:cNvPr id="490" name="Oval 8"/>
            <p:cNvSpPr/>
            <p:nvPr/>
          </p:nvSpPr>
          <p:spPr>
            <a:xfrm>
              <a:off x="4731840" y="332640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925800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9"/>
            <p:cNvSpPr/>
            <p:nvPr/>
          </p:nvSpPr>
          <p:spPr>
            <a:xfrm>
              <a:off x="4727520" y="328464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e2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6661080" y="2540160"/>
            <a:ext cx="1687320" cy="520200"/>
            <a:chOff x="6661080" y="2540160"/>
            <a:chExt cx="1687320" cy="520200"/>
          </a:xfrm>
        </p:grpSpPr>
        <p:sp>
          <p:nvSpPr>
            <p:cNvPr id="493" name="Oval 11"/>
            <p:cNvSpPr/>
            <p:nvPr/>
          </p:nvSpPr>
          <p:spPr>
            <a:xfrm>
              <a:off x="6665400" y="258192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50000">
                  <a:srgbClr val="3a5800"/>
                </a:gs>
                <a:gs pos="100000">
                  <a:srgbClr val="66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2"/>
            <p:cNvSpPr/>
            <p:nvPr/>
          </p:nvSpPr>
          <p:spPr>
            <a:xfrm>
              <a:off x="6661080" y="2540160"/>
              <a:ext cx="1683000" cy="47844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d3e2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855720" y="4622760"/>
            <a:ext cx="1686960" cy="520560"/>
            <a:chOff x="855720" y="4622760"/>
            <a:chExt cx="1686960" cy="520560"/>
          </a:xfrm>
        </p:grpSpPr>
        <p:sp>
          <p:nvSpPr>
            <p:cNvPr id="496" name="Oval 14"/>
            <p:cNvSpPr/>
            <p:nvPr/>
          </p:nvSpPr>
          <p:spPr>
            <a:xfrm>
              <a:off x="860040" y="4664520"/>
              <a:ext cx="1682640" cy="478800"/>
            </a:xfrm>
            <a:prstGeom prst="ellipse">
              <a:avLst/>
            </a:prstGeom>
            <a:gradFill rotWithShape="0">
              <a:gsLst>
                <a:gs pos="0">
                  <a:srgbClr val="45b99b"/>
                </a:gs>
                <a:gs pos="50000">
                  <a:srgbClr val="286a59"/>
                </a:gs>
                <a:gs pos="100000">
                  <a:srgbClr val="45b99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15"/>
            <p:cNvSpPr/>
            <p:nvPr/>
          </p:nvSpPr>
          <p:spPr>
            <a:xfrm>
              <a:off x="855720" y="4622760"/>
              <a:ext cx="1682640" cy="478800"/>
            </a:xfrm>
            <a:prstGeom prst="ellipse">
              <a:avLst/>
            </a:prstGeom>
            <a:gradFill rotWithShape="0">
              <a:gsLst>
                <a:gs pos="0">
                  <a:srgbClr val="45b99b"/>
                </a:gs>
                <a:gs pos="100000">
                  <a:srgbClr val="c4e9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793960" y="4027320"/>
            <a:ext cx="1687320" cy="520560"/>
            <a:chOff x="2793960" y="4027320"/>
            <a:chExt cx="1687320" cy="520560"/>
          </a:xfrm>
        </p:grpSpPr>
        <p:sp>
          <p:nvSpPr>
            <p:cNvPr id="499" name="Oval 17"/>
            <p:cNvSpPr/>
            <p:nvPr/>
          </p:nvSpPr>
          <p:spPr>
            <a:xfrm>
              <a:off x="2798280" y="406908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e87774"/>
                </a:gs>
                <a:gs pos="50000">
                  <a:srgbClr val="854442"/>
                </a:gs>
                <a:gs pos="100000">
                  <a:srgbClr val="e877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18"/>
            <p:cNvSpPr/>
            <p:nvPr/>
          </p:nvSpPr>
          <p:spPr>
            <a:xfrm>
              <a:off x="2793960" y="4027320"/>
              <a:ext cx="1683000" cy="478800"/>
            </a:xfrm>
            <a:prstGeom prst="ellipse">
              <a:avLst/>
            </a:prstGeom>
            <a:gradFill rotWithShape="0">
              <a:gsLst>
                <a:gs pos="0">
                  <a:srgbClr val="e87774"/>
                </a:gs>
                <a:gs pos="100000">
                  <a:srgbClr val="f8d4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Text Box 9"/>
          <p:cNvSpPr/>
          <p:nvPr/>
        </p:nvSpPr>
        <p:spPr>
          <a:xfrm>
            <a:off x="868320" y="1933560"/>
            <a:ext cx="40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0"/>
          <p:cNvSpPr/>
          <p:nvPr/>
        </p:nvSpPr>
        <p:spPr>
          <a:xfrm>
            <a:off x="838080" y="52801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21"/>
          <p:cNvSpPr/>
          <p:nvPr/>
        </p:nvSpPr>
        <p:spPr>
          <a:xfrm>
            <a:off x="2786040" y="5280120"/>
            <a:ext cx="163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22"/>
          <p:cNvSpPr/>
          <p:nvPr/>
        </p:nvSpPr>
        <p:spPr>
          <a:xfrm>
            <a:off x="4745160" y="5280120"/>
            <a:ext cx="163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3"/>
          <p:cNvSpPr/>
          <p:nvPr/>
        </p:nvSpPr>
        <p:spPr>
          <a:xfrm>
            <a:off x="6683400" y="52801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4" descr="shadow_1_m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61240" y="2676600"/>
            <a:ext cx="1190520" cy="22392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6840360" y="1600200"/>
            <a:ext cx="1258560" cy="1216800"/>
            <a:chOff x="6840360" y="1600200"/>
            <a:chExt cx="1258560" cy="1216800"/>
          </a:xfrm>
        </p:grpSpPr>
        <p:pic>
          <p:nvPicPr>
            <p:cNvPr id="508" name="Picture 26" descr="circuler_1"/>
            <p:cNvPicPr/>
            <p:nvPr/>
          </p:nvPicPr>
          <p:blipFill>
            <a:blip r:embed="rId2"/>
            <a:stretch/>
          </p:blipFill>
          <p:spPr>
            <a:xfrm>
              <a:off x="6840360" y="1600200"/>
              <a:ext cx="1246680" cy="121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6840360" y="1602720"/>
              <a:ext cx="1258560" cy="1214280"/>
              <a:chOff x="6840360" y="1602720"/>
              <a:chExt cx="1258560" cy="1214280"/>
            </a:xfrm>
          </p:grpSpPr>
          <p:pic>
            <p:nvPicPr>
              <p:cNvPr id="510" name="Oval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0360" y="1602720"/>
                <a:ext cx="1258560" cy="121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7025040" y="1778040"/>
                <a:ext cx="88776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12" name="Picture 28" descr="Picture2"/>
            <p:cNvPicPr/>
            <p:nvPr/>
          </p:nvPicPr>
          <p:blipFill>
            <a:blip r:embed="rId4"/>
            <a:stretch/>
          </p:blipFill>
          <p:spPr>
            <a:xfrm>
              <a:off x="6965280" y="1611720"/>
              <a:ext cx="1000080" cy="4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Rectangle 29"/>
          <p:cNvSpPr/>
          <p:nvPr/>
        </p:nvSpPr>
        <p:spPr>
          <a:xfrm>
            <a:off x="7027920" y="19620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30" descr="shadow_1_m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954680" y="3390840"/>
            <a:ext cx="1189080" cy="223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933800" y="2314440"/>
            <a:ext cx="1257120" cy="1217160"/>
            <a:chOff x="4933800" y="2314440"/>
            <a:chExt cx="1257120" cy="1217160"/>
          </a:xfrm>
        </p:grpSpPr>
        <p:pic>
          <p:nvPicPr>
            <p:cNvPr id="516" name="Picture 32" descr="circuler_1"/>
            <p:cNvPicPr/>
            <p:nvPr/>
          </p:nvPicPr>
          <p:blipFill>
            <a:blip r:embed="rId6"/>
            <a:stretch/>
          </p:blipFill>
          <p:spPr>
            <a:xfrm>
              <a:off x="4936320" y="2314440"/>
              <a:ext cx="124272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933800" y="2316960"/>
              <a:ext cx="1257120" cy="1214640"/>
              <a:chOff x="4933800" y="2316960"/>
              <a:chExt cx="1257120" cy="1214640"/>
            </a:xfrm>
          </p:grpSpPr>
          <p:pic>
            <p:nvPicPr>
              <p:cNvPr id="518" name="Oval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4933800" y="2316960"/>
                <a:ext cx="12571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5119560" y="2493360"/>
                <a:ext cx="88560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20" name="Picture 34" descr="Picture2"/>
            <p:cNvPicPr/>
            <p:nvPr/>
          </p:nvPicPr>
          <p:blipFill>
            <a:blip r:embed="rId8"/>
            <a:stretch/>
          </p:blipFill>
          <p:spPr>
            <a:xfrm>
              <a:off x="5060880" y="2325960"/>
              <a:ext cx="996840" cy="43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Rectangle 35"/>
          <p:cNvSpPr/>
          <p:nvPr/>
        </p:nvSpPr>
        <p:spPr>
          <a:xfrm>
            <a:off x="5119920" y="26766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36" descr="shadow_1_m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3035160" y="4159080"/>
            <a:ext cx="1190880" cy="22392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3016080" y="3083040"/>
            <a:ext cx="1257120" cy="1217160"/>
            <a:chOff x="3016080" y="3083040"/>
            <a:chExt cx="1257120" cy="1217160"/>
          </a:xfrm>
        </p:grpSpPr>
        <p:pic>
          <p:nvPicPr>
            <p:cNvPr id="524" name="Picture 38" descr="circuler_1"/>
            <p:cNvPicPr/>
            <p:nvPr/>
          </p:nvPicPr>
          <p:blipFill>
            <a:blip r:embed="rId10"/>
            <a:stretch/>
          </p:blipFill>
          <p:spPr>
            <a:xfrm>
              <a:off x="3016080" y="3083040"/>
              <a:ext cx="124848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Oval 39"/>
            <p:cNvSpPr/>
            <p:nvPr/>
          </p:nvSpPr>
          <p:spPr>
            <a:xfrm>
              <a:off x="3016080" y="3083040"/>
              <a:ext cx="1257120" cy="1217160"/>
            </a:xfrm>
            <a:prstGeom prst="ellipse">
              <a:avLst/>
            </a:prstGeom>
            <a:gradFill rotWithShape="0">
              <a:gsLst>
                <a:gs pos="0">
                  <a:srgbClr val="e87774">
                    <a:alpha val="55294"/>
                  </a:srgbClr>
                </a:gs>
                <a:gs pos="50000">
                  <a:srgbClr val="6b3736">
                    <a:alpha val="90196"/>
                  </a:srgbClr>
                </a:gs>
                <a:gs pos="100000">
                  <a:srgbClr val="e87774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6" name="Picture 40" descr="Picture2"/>
            <p:cNvPicPr/>
            <p:nvPr/>
          </p:nvPicPr>
          <p:blipFill>
            <a:blip r:embed="rId11"/>
            <a:stretch/>
          </p:blipFill>
          <p:spPr>
            <a:xfrm>
              <a:off x="3141000" y="3094560"/>
              <a:ext cx="1001520" cy="42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7" name="Rectangle 41"/>
          <p:cNvSpPr/>
          <p:nvPr/>
        </p:nvSpPr>
        <p:spPr>
          <a:xfrm>
            <a:off x="3202200" y="3444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2" descr="shadow_1_m"/>
          <p:cNvPicPr/>
          <p:nvPr/>
        </p:nvPicPr>
        <p:blipFill>
          <a:blip r:embed="rId12">
            <a:lum bright="12000"/>
          </a:blip>
          <a:stretch/>
        </p:blipFill>
        <p:spPr>
          <a:xfrm>
            <a:off x="1076400" y="4743360"/>
            <a:ext cx="1189080" cy="223920"/>
          </a:xfrm>
          <a:prstGeom prst="rect">
            <a:avLst/>
          </a:prstGeom>
          <a:ln w="0">
            <a:noFill/>
          </a:ln>
        </p:spPr>
      </p:pic>
      <p:grpSp>
        <p:nvGrpSpPr>
          <p:cNvPr id="529" name=""/>
          <p:cNvGrpSpPr/>
          <p:nvPr/>
        </p:nvGrpSpPr>
        <p:grpSpPr>
          <a:xfrm>
            <a:off x="1055520" y="3666960"/>
            <a:ext cx="1258560" cy="1217520"/>
            <a:chOff x="1055520" y="3666960"/>
            <a:chExt cx="1258560" cy="1217520"/>
          </a:xfrm>
        </p:grpSpPr>
        <p:pic>
          <p:nvPicPr>
            <p:cNvPr id="530" name="Picture 44" descr="circuler_1"/>
            <p:cNvPicPr/>
            <p:nvPr/>
          </p:nvPicPr>
          <p:blipFill>
            <a:blip r:embed="rId13"/>
            <a:stretch/>
          </p:blipFill>
          <p:spPr>
            <a:xfrm>
              <a:off x="1055520" y="3666960"/>
              <a:ext cx="124992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Oval 45"/>
            <p:cNvSpPr/>
            <p:nvPr/>
          </p:nvSpPr>
          <p:spPr>
            <a:xfrm>
              <a:off x="1055520" y="3666960"/>
              <a:ext cx="1258560" cy="1217520"/>
            </a:xfrm>
            <a:prstGeom prst="ellipse">
              <a:avLst/>
            </a:prstGeom>
            <a:gradFill rotWithShape="0">
              <a:gsLst>
                <a:gs pos="0">
                  <a:srgbClr val="45b99b">
                    <a:alpha val="55294"/>
                  </a:srgbClr>
                </a:gs>
                <a:gs pos="50000">
                  <a:srgbClr val="205648">
                    <a:alpha val="90196"/>
                  </a:srgbClr>
                </a:gs>
                <a:gs pos="100000">
                  <a:srgbClr val="45b99b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2" name="Picture 46" descr="Picture2"/>
            <p:cNvPicPr/>
            <p:nvPr/>
          </p:nvPicPr>
          <p:blipFill>
            <a:blip r:embed="rId14"/>
            <a:stretch/>
          </p:blipFill>
          <p:spPr>
            <a:xfrm>
              <a:off x="1180440" y="3678480"/>
              <a:ext cx="1002600" cy="42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3" name="Rectangle 47"/>
          <p:cNvSpPr/>
          <p:nvPr/>
        </p:nvSpPr>
        <p:spPr>
          <a:xfrm>
            <a:off x="1241640" y="40291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3139920" y="623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num-1_t1"/>
          <p:cNvPicPr/>
          <p:nvPr/>
        </p:nvPicPr>
        <p:blipFill>
          <a:blip r:embed="rId1"/>
          <a:stretch/>
        </p:blipFill>
        <p:spPr>
          <a:xfrm>
            <a:off x="6091200" y="3286080"/>
            <a:ext cx="2747880" cy="30970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521240" y="3324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484360" y="332568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b528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未知"/>
          <p:cNvSpPr/>
          <p:nvPr/>
        </p:nvSpPr>
        <p:spPr>
          <a:xfrm>
            <a:off x="2274840" y="3025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87774"/>
              </a:gs>
              <a:gs pos="100000">
                <a:srgbClr val="6b373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1023840" y="3024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0816c"/>
              </a:gs>
              <a:gs pos="100000">
                <a:srgbClr val="45b99b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1173240" y="368784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2962440" y="30718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5276880" y="3908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985680" y="1905120"/>
            <a:ext cx="64771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2a3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3354480" y="3905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73000" y="3116160"/>
            <a:ext cx="4219560" cy="1219320"/>
            <a:chOff x="873000" y="3116160"/>
            <a:chExt cx="4219560" cy="1219320"/>
          </a:xfrm>
        </p:grpSpPr>
        <p:sp>
          <p:nvSpPr>
            <p:cNvPr id="548" name="未知"/>
            <p:cNvSpPr/>
            <p:nvPr/>
          </p:nvSpPr>
          <p:spPr>
            <a:xfrm>
              <a:off x="873000" y="3129840"/>
              <a:ext cx="190008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e74c8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未知"/>
            <p:cNvSpPr/>
            <p:nvPr/>
          </p:nvSpPr>
          <p:spPr>
            <a:xfrm>
              <a:off x="2792160" y="3116160"/>
              <a:ext cx="366840" cy="12193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0e74c8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 flipH="1">
              <a:off x="3192480" y="3129840"/>
              <a:ext cx="1900080" cy="10742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e74c8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AutoShape 7"/>
          <p:cNvSpPr/>
          <p:nvPr/>
        </p:nvSpPr>
        <p:spPr>
          <a:xfrm>
            <a:off x="511200" y="1781280"/>
            <a:ext cx="1361880" cy="13222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5b99b"/>
              </a:gs>
              <a:gs pos="100000">
                <a:srgbClr val="30816c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596880" y="1866960"/>
            <a:ext cx="677880" cy="6602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45b99b">
                  <a:alpha val="0"/>
                </a:srgbClr>
              </a:gs>
              <a:gs pos="50000">
                <a:srgbClr val="a5ddce"/>
              </a:gs>
              <a:gs pos="100000">
                <a:srgbClr val="45b99b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9"/>
          <p:cNvSpPr/>
          <p:nvPr/>
        </p:nvSpPr>
        <p:spPr>
          <a:xfrm>
            <a:off x="714960" y="21286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90680" y="1781280"/>
            <a:ext cx="1361520" cy="1321560"/>
            <a:chOff x="2290680" y="1781280"/>
            <a:chExt cx="1361520" cy="1321560"/>
          </a:xfrm>
        </p:grpSpPr>
        <p:sp>
          <p:nvSpPr>
            <p:cNvPr id="555" name="AutoShape 11"/>
            <p:cNvSpPr/>
            <p:nvPr/>
          </p:nvSpPr>
          <p:spPr>
            <a:xfrm>
              <a:off x="2290680" y="1781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a2535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2376360" y="1866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87774">
                    <a:alpha val="0"/>
                  </a:srgbClr>
                </a:gs>
                <a:gs pos="50000">
                  <a:srgbClr val="f4bdbb"/>
                </a:gs>
                <a:gs pos="100000">
                  <a:srgbClr val="e87774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078440" y="1790640"/>
            <a:ext cx="1361160" cy="1321560"/>
            <a:chOff x="4078440" y="1790640"/>
            <a:chExt cx="1361160" cy="1321560"/>
          </a:xfrm>
        </p:grpSpPr>
        <p:sp>
          <p:nvSpPr>
            <p:cNvPr id="558" name="AutoShape 14"/>
            <p:cNvSpPr/>
            <p:nvPr/>
          </p:nvSpPr>
          <p:spPr>
            <a:xfrm>
              <a:off x="4078440" y="17906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cb528"/>
                </a:gs>
                <a:gs pos="100000">
                  <a:srgbClr val="b07e1c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4164120" y="18763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cb528">
                    <a:alpha val="0"/>
                  </a:srgbClr>
                </a:gs>
                <a:gs pos="50000">
                  <a:srgbClr val="fedb96"/>
                </a:gs>
                <a:gs pos="100000">
                  <a:srgbClr val="fcb528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16"/>
          <p:cNvSpPr/>
          <p:nvPr/>
        </p:nvSpPr>
        <p:spPr>
          <a:xfrm>
            <a:off x="2472480" y="21286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7"/>
          <p:cNvSpPr/>
          <p:nvPr/>
        </p:nvSpPr>
        <p:spPr>
          <a:xfrm>
            <a:off x="4290120" y="21384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8"/>
          <p:cNvSpPr/>
          <p:nvPr/>
        </p:nvSpPr>
        <p:spPr>
          <a:xfrm>
            <a:off x="3932280" y="486900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19"/>
          <p:cNvSpPr/>
          <p:nvPr/>
        </p:nvSpPr>
        <p:spPr>
          <a:xfrm>
            <a:off x="5997600" y="1871640"/>
            <a:ext cx="255276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2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2a3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2a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 the content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0"/>
          <p:cNvSpPr/>
          <p:nvPr/>
        </p:nvSpPr>
        <p:spPr>
          <a:xfrm>
            <a:off x="3879720" y="4976640"/>
            <a:ext cx="74880" cy="613080"/>
          </a:xfrm>
          <a:prstGeom prst="rect">
            <a:avLst/>
          </a:prstGeom>
          <a:solidFill>
            <a:srgbClr val="fff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1" descr="YG_circle001"/>
          <p:cNvPicPr/>
          <p:nvPr/>
        </p:nvPicPr>
        <p:blipFill>
          <a:blip r:embed="rId1"/>
          <a:stretch/>
        </p:blipFill>
        <p:spPr>
          <a:xfrm>
            <a:off x="2197080" y="443088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22"/>
          <p:cNvSpPr/>
          <p:nvPr/>
        </p:nvSpPr>
        <p:spPr>
          <a:xfrm>
            <a:off x="2298600" y="4924440"/>
            <a:ext cx="12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3176280" y="623088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fff2a3"/>
                </a:solidFill>
                <a:latin typeface="Arial"/>
                <a:ea typeface="宋体"/>
              </a:rPr>
              <a:t>宝藏</a:t>
            </a: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_www.pptbz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4008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04800" y="4003560"/>
          <a:ext cx="8005680" cy="2309760"/>
        </p:xfrm>
        <a:graphic>
          <a:graphicData uri="http://schemas.openxmlformats.org/drawingml/2006/table">
            <a:tbl>
              <a:tblPr/>
              <a:tblGrid>
                <a:gridCol w="1222200"/>
                <a:gridCol w="648000"/>
                <a:gridCol w="720720"/>
                <a:gridCol w="647640"/>
                <a:gridCol w="718920"/>
                <a:gridCol w="717840"/>
                <a:gridCol w="1150920"/>
                <a:gridCol w="1079280"/>
                <a:gridCol w="1100160"/>
              </a:tblGrid>
              <a:tr h="43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2f5c9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ac49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45b99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e8777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fcb528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Cont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18720">
                      <a:solidFill>
                        <a:srgbClr val="feffff"/>
                      </a:solidFill>
                    </a:lnR>
                    <a:lnT w="1872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587ada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c287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c287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c287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45b9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45b99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~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46c0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1872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effff"/>
                          </a:solidFill>
                          <a:latin typeface="Arial"/>
                          <a:ea typeface="宋体"/>
                        </a:rPr>
                        <a:t>~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46c0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effff"/>
                      </a:solidFill>
                    </a:lnL>
                    <a:lnR w="1872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18720">
                      <a:solidFill>
                        <a:srgbClr val="fe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70" name="Rectangle 48"/>
          <p:cNvSpPr/>
          <p:nvPr/>
        </p:nvSpPr>
        <p:spPr>
          <a:xfrm>
            <a:off x="4191120" y="369900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128600" y="1801800"/>
            <a:ext cx="230400" cy="239760"/>
            <a:chOff x="1128600" y="1801800"/>
            <a:chExt cx="230400" cy="239760"/>
          </a:xfrm>
        </p:grpSpPr>
        <p:pic>
          <p:nvPicPr>
            <p:cNvPr id="572" name="Picture 50" descr="circuler_1"/>
            <p:cNvPicPr/>
            <p:nvPr/>
          </p:nvPicPr>
          <p:blipFill>
            <a:blip r:embed="rId1"/>
            <a:stretch/>
          </p:blipFill>
          <p:spPr>
            <a:xfrm>
              <a:off x="1128600" y="1801800"/>
              <a:ext cx="23040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Oval 51"/>
            <p:cNvSpPr/>
            <p:nvPr/>
          </p:nvSpPr>
          <p:spPr>
            <a:xfrm>
              <a:off x="1128600" y="1801800"/>
              <a:ext cx="228960" cy="228600"/>
            </a:xfrm>
            <a:prstGeom prst="ellipse">
              <a:avLst/>
            </a:prstGeom>
            <a:solidFill>
              <a:srgbClr val="45b99b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1152000" y="1806120"/>
              <a:ext cx="180000" cy="79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145160" y="1960920"/>
              <a:ext cx="202320" cy="80640"/>
              <a:chOff x="1145160" y="1960920"/>
              <a:chExt cx="202320" cy="80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1180080" y="1960920"/>
                <a:ext cx="167400" cy="75960"/>
                <a:chOff x="1180080" y="1960920"/>
                <a:chExt cx="167400" cy="75960"/>
              </a:xfrm>
            </p:grpSpPr>
            <p:sp>
              <p:nvSpPr>
                <p:cNvPr id="577" name="AutoShape 55"/>
                <p:cNvSpPr/>
                <p:nvPr/>
              </p:nvSpPr>
              <p:spPr>
                <a:xfrm flipH="1" flipV="1" rot="3964800">
                  <a:off x="1270800" y="19375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AutoShape 56"/>
                <p:cNvSpPr/>
                <p:nvPr/>
              </p:nvSpPr>
              <p:spPr>
                <a:xfrm flipH="1" flipV="1" rot="4780200">
                  <a:off x="1251720" y="194436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57"/>
                <p:cNvSpPr/>
                <p:nvPr/>
              </p:nvSpPr>
              <p:spPr>
                <a:xfrm flipH="1" flipV="1" rot="5076000">
                  <a:off x="1240200" y="19465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58"/>
                <p:cNvSpPr/>
                <p:nvPr/>
              </p:nvSpPr>
              <p:spPr>
                <a:xfrm flipH="1" flipV="1" rot="5608200">
                  <a:off x="1226520" y="194760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1145160" y="1961640"/>
                <a:ext cx="167040" cy="79920"/>
                <a:chOff x="1145160" y="1961640"/>
                <a:chExt cx="167040" cy="79920"/>
              </a:xfrm>
            </p:grpSpPr>
            <p:sp>
              <p:nvSpPr>
                <p:cNvPr id="582" name="AutoShape 60"/>
                <p:cNvSpPr/>
                <p:nvPr/>
              </p:nvSpPr>
              <p:spPr>
                <a:xfrm flipH="1" flipV="1" rot="5317800">
                  <a:off x="1236240" y="19483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AutoShape 61"/>
                <p:cNvSpPr/>
                <p:nvPr/>
              </p:nvSpPr>
              <p:spPr>
                <a:xfrm flipH="1" flipV="1" rot="6133800">
                  <a:off x="1216440" y="1946880"/>
                  <a:ext cx="2952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62"/>
                <p:cNvSpPr/>
                <p:nvPr/>
              </p:nvSpPr>
              <p:spPr>
                <a:xfrm flipH="1" flipV="1" rot="6429000">
                  <a:off x="1204200" y="19450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63"/>
                <p:cNvSpPr/>
                <p:nvPr/>
              </p:nvSpPr>
              <p:spPr>
                <a:xfrm flipH="1" flipV="1" rot="6961200">
                  <a:off x="1191240" y="1940400"/>
                  <a:ext cx="295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"/>
          <p:cNvGrpSpPr/>
          <p:nvPr/>
        </p:nvGrpSpPr>
        <p:grpSpPr>
          <a:xfrm>
            <a:off x="1128600" y="2149560"/>
            <a:ext cx="230400" cy="239760"/>
            <a:chOff x="1128600" y="2149560"/>
            <a:chExt cx="230400" cy="239760"/>
          </a:xfrm>
        </p:grpSpPr>
        <p:pic>
          <p:nvPicPr>
            <p:cNvPr id="587" name="Picture 65" descr="circuler_1"/>
            <p:cNvPicPr/>
            <p:nvPr/>
          </p:nvPicPr>
          <p:blipFill>
            <a:blip r:embed="rId2"/>
            <a:stretch/>
          </p:blipFill>
          <p:spPr>
            <a:xfrm>
              <a:off x="1128600" y="2149560"/>
              <a:ext cx="23040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Oval 66"/>
            <p:cNvSpPr/>
            <p:nvPr/>
          </p:nvSpPr>
          <p:spPr>
            <a:xfrm>
              <a:off x="1128600" y="2149560"/>
              <a:ext cx="228960" cy="228600"/>
            </a:xfrm>
            <a:prstGeom prst="ellipse">
              <a:avLst/>
            </a:prstGeom>
            <a:solidFill>
              <a:srgbClr val="e8777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1152000" y="2153880"/>
              <a:ext cx="180000" cy="79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145160" y="2308680"/>
              <a:ext cx="202320" cy="80640"/>
              <a:chOff x="1145160" y="2308680"/>
              <a:chExt cx="202320" cy="8064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1180080" y="2308680"/>
                <a:ext cx="167400" cy="75960"/>
                <a:chOff x="1180080" y="2308680"/>
                <a:chExt cx="167400" cy="75960"/>
              </a:xfrm>
            </p:grpSpPr>
            <p:sp>
              <p:nvSpPr>
                <p:cNvPr id="592" name="AutoShape 70"/>
                <p:cNvSpPr/>
                <p:nvPr/>
              </p:nvSpPr>
              <p:spPr>
                <a:xfrm flipH="1" flipV="1" rot="3964800">
                  <a:off x="1270800" y="22852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AutoShape 71"/>
                <p:cNvSpPr/>
                <p:nvPr/>
              </p:nvSpPr>
              <p:spPr>
                <a:xfrm flipH="1" flipV="1" rot="4780200">
                  <a:off x="1251720" y="22921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AutoShape 72"/>
                <p:cNvSpPr/>
                <p:nvPr/>
              </p:nvSpPr>
              <p:spPr>
                <a:xfrm flipH="1" flipV="1" rot="5076000">
                  <a:off x="1240200" y="22942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73"/>
                <p:cNvSpPr/>
                <p:nvPr/>
              </p:nvSpPr>
              <p:spPr>
                <a:xfrm flipH="1" flipV="1" rot="5608200">
                  <a:off x="1226520" y="229536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1145160" y="2309400"/>
                <a:ext cx="167040" cy="79920"/>
                <a:chOff x="1145160" y="2309400"/>
                <a:chExt cx="167040" cy="79920"/>
              </a:xfrm>
            </p:grpSpPr>
            <p:sp>
              <p:nvSpPr>
                <p:cNvPr id="597" name="AutoShape 75"/>
                <p:cNvSpPr/>
                <p:nvPr/>
              </p:nvSpPr>
              <p:spPr>
                <a:xfrm flipH="1" flipV="1" rot="5317800">
                  <a:off x="1236240" y="22960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76"/>
                <p:cNvSpPr/>
                <p:nvPr/>
              </p:nvSpPr>
              <p:spPr>
                <a:xfrm flipH="1" flipV="1" rot="6133800">
                  <a:off x="1216440" y="2294640"/>
                  <a:ext cx="2952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77"/>
                <p:cNvSpPr/>
                <p:nvPr/>
              </p:nvSpPr>
              <p:spPr>
                <a:xfrm flipH="1" flipV="1" rot="6429000">
                  <a:off x="1204200" y="229284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78"/>
                <p:cNvSpPr/>
                <p:nvPr/>
              </p:nvSpPr>
              <p:spPr>
                <a:xfrm flipH="1" flipV="1" rot="6961200">
                  <a:off x="1191240" y="2288160"/>
                  <a:ext cx="295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1" name=""/>
          <p:cNvGrpSpPr/>
          <p:nvPr/>
        </p:nvGrpSpPr>
        <p:grpSpPr>
          <a:xfrm>
            <a:off x="1128600" y="2495520"/>
            <a:ext cx="230400" cy="239760"/>
            <a:chOff x="1128600" y="2495520"/>
            <a:chExt cx="230400" cy="239760"/>
          </a:xfrm>
        </p:grpSpPr>
        <p:pic>
          <p:nvPicPr>
            <p:cNvPr id="602" name="Picture 80" descr="circuler_1"/>
            <p:cNvPicPr/>
            <p:nvPr/>
          </p:nvPicPr>
          <p:blipFill>
            <a:blip r:embed="rId3"/>
            <a:stretch/>
          </p:blipFill>
          <p:spPr>
            <a:xfrm>
              <a:off x="1128600" y="2495520"/>
              <a:ext cx="23040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81"/>
            <p:cNvSpPr/>
            <p:nvPr/>
          </p:nvSpPr>
          <p:spPr>
            <a:xfrm>
              <a:off x="1128600" y="2495520"/>
              <a:ext cx="228960" cy="228600"/>
            </a:xfrm>
            <a:prstGeom prst="ellipse">
              <a:avLst/>
            </a:prstGeom>
            <a:solidFill>
              <a:srgbClr val="fcb52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1152000" y="2499840"/>
              <a:ext cx="180000" cy="79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145160" y="2654640"/>
              <a:ext cx="202320" cy="80640"/>
              <a:chOff x="1145160" y="2654640"/>
              <a:chExt cx="202320" cy="8064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1180080" y="2654640"/>
                <a:ext cx="167400" cy="75960"/>
                <a:chOff x="1180080" y="2654640"/>
                <a:chExt cx="167400" cy="75960"/>
              </a:xfrm>
            </p:grpSpPr>
            <p:sp>
              <p:nvSpPr>
                <p:cNvPr id="607" name="AutoShape 85"/>
                <p:cNvSpPr/>
                <p:nvPr/>
              </p:nvSpPr>
              <p:spPr>
                <a:xfrm flipH="1" flipV="1" rot="3964800">
                  <a:off x="1270800" y="263124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86"/>
                <p:cNvSpPr/>
                <p:nvPr/>
              </p:nvSpPr>
              <p:spPr>
                <a:xfrm flipH="1" flipV="1" rot="4780200">
                  <a:off x="1251720" y="26380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AutoShape 87"/>
                <p:cNvSpPr/>
                <p:nvPr/>
              </p:nvSpPr>
              <p:spPr>
                <a:xfrm flipH="1" flipV="1" rot="5076000">
                  <a:off x="1240200" y="264024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88"/>
                <p:cNvSpPr/>
                <p:nvPr/>
              </p:nvSpPr>
              <p:spPr>
                <a:xfrm flipH="1" flipV="1" rot="5608200">
                  <a:off x="1226520" y="26413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145160" y="2655360"/>
                <a:ext cx="167040" cy="79920"/>
                <a:chOff x="1145160" y="2655360"/>
                <a:chExt cx="167040" cy="79920"/>
              </a:xfrm>
            </p:grpSpPr>
            <p:sp>
              <p:nvSpPr>
                <p:cNvPr id="612" name="AutoShape 90"/>
                <p:cNvSpPr/>
                <p:nvPr/>
              </p:nvSpPr>
              <p:spPr>
                <a:xfrm flipH="1" flipV="1" rot="5317800">
                  <a:off x="1236240" y="264204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AutoShape 91"/>
                <p:cNvSpPr/>
                <p:nvPr/>
              </p:nvSpPr>
              <p:spPr>
                <a:xfrm flipH="1" flipV="1" rot="6133800">
                  <a:off x="1216440" y="2640600"/>
                  <a:ext cx="2952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AutoShape 92"/>
                <p:cNvSpPr/>
                <p:nvPr/>
              </p:nvSpPr>
              <p:spPr>
                <a:xfrm flipH="1" flipV="1" rot="6429000">
                  <a:off x="1204200" y="263880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AutoShape 93"/>
                <p:cNvSpPr/>
                <p:nvPr/>
              </p:nvSpPr>
              <p:spPr>
                <a:xfrm flipH="1" flipV="1" rot="6961200">
                  <a:off x="1191240" y="2634120"/>
                  <a:ext cx="295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6" name=""/>
          <p:cNvGrpSpPr/>
          <p:nvPr/>
        </p:nvGrpSpPr>
        <p:grpSpPr>
          <a:xfrm>
            <a:off x="1128600" y="2849400"/>
            <a:ext cx="230400" cy="239760"/>
            <a:chOff x="1128600" y="2849400"/>
            <a:chExt cx="230400" cy="239760"/>
          </a:xfrm>
        </p:grpSpPr>
        <p:pic>
          <p:nvPicPr>
            <p:cNvPr id="617" name="Picture 95" descr="circuler_1"/>
            <p:cNvPicPr/>
            <p:nvPr/>
          </p:nvPicPr>
          <p:blipFill>
            <a:blip r:embed="rId4"/>
            <a:stretch/>
          </p:blipFill>
          <p:spPr>
            <a:xfrm>
              <a:off x="1128600" y="2849400"/>
              <a:ext cx="230400" cy="2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96"/>
            <p:cNvSpPr/>
            <p:nvPr/>
          </p:nvSpPr>
          <p:spPr>
            <a:xfrm>
              <a:off x="1128600" y="2849400"/>
              <a:ext cx="228960" cy="228600"/>
            </a:xfrm>
            <a:prstGeom prst="ellipse">
              <a:avLst/>
            </a:prstGeom>
            <a:solidFill>
              <a:srgbClr val="587ada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1152000" y="2853720"/>
              <a:ext cx="180000" cy="79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145160" y="3008520"/>
              <a:ext cx="202320" cy="80640"/>
              <a:chOff x="1145160" y="3008520"/>
              <a:chExt cx="202320" cy="8064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1180080" y="3008520"/>
                <a:ext cx="167400" cy="75960"/>
                <a:chOff x="1180080" y="3008520"/>
                <a:chExt cx="167400" cy="75960"/>
              </a:xfrm>
            </p:grpSpPr>
            <p:sp>
              <p:nvSpPr>
                <p:cNvPr id="622" name="AutoShape 100"/>
                <p:cNvSpPr/>
                <p:nvPr/>
              </p:nvSpPr>
              <p:spPr>
                <a:xfrm flipH="1" flipV="1" rot="3964800">
                  <a:off x="1270800" y="29851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101"/>
                <p:cNvSpPr/>
                <p:nvPr/>
              </p:nvSpPr>
              <p:spPr>
                <a:xfrm flipH="1" flipV="1" rot="4780200">
                  <a:off x="1251720" y="299196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AutoShape 102"/>
                <p:cNvSpPr/>
                <p:nvPr/>
              </p:nvSpPr>
              <p:spPr>
                <a:xfrm flipH="1" flipV="1" rot="5076000">
                  <a:off x="1240200" y="29941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AutoShape 103"/>
                <p:cNvSpPr/>
                <p:nvPr/>
              </p:nvSpPr>
              <p:spPr>
                <a:xfrm flipH="1" flipV="1" rot="5608200">
                  <a:off x="1226520" y="299520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1145160" y="3009240"/>
                <a:ext cx="167040" cy="79920"/>
                <a:chOff x="1145160" y="3009240"/>
                <a:chExt cx="167040" cy="79920"/>
              </a:xfrm>
            </p:grpSpPr>
            <p:sp>
              <p:nvSpPr>
                <p:cNvPr id="627" name="AutoShape 105"/>
                <p:cNvSpPr/>
                <p:nvPr/>
              </p:nvSpPr>
              <p:spPr>
                <a:xfrm flipH="1" flipV="1" rot="5317800">
                  <a:off x="1236240" y="299592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553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06"/>
                <p:cNvSpPr/>
                <p:nvPr/>
              </p:nvSpPr>
              <p:spPr>
                <a:xfrm flipH="1" flipV="1" rot="6133800">
                  <a:off x="1216440" y="2994480"/>
                  <a:ext cx="29520" cy="12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7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07"/>
                <p:cNvSpPr/>
                <p:nvPr/>
              </p:nvSpPr>
              <p:spPr>
                <a:xfrm flipH="1" flipV="1" rot="6429000">
                  <a:off x="1204200" y="2992680"/>
                  <a:ext cx="29520" cy="12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442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108"/>
                <p:cNvSpPr/>
                <p:nvPr/>
              </p:nvSpPr>
              <p:spPr>
                <a:xfrm flipH="1" flipV="1" rot="6961200">
                  <a:off x="1191240" y="2988000"/>
                  <a:ext cx="29520" cy="12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67676">
                        <a:alpha val="0"/>
                      </a:srgbClr>
                    </a:gs>
                    <a:gs pos="100000">
                      <a:srgbClr val="ffffff">
                        <a:alpha val="4313"/>
                      </a:srgbClr>
                    </a:gs>
                  </a:gsLst>
                  <a:lin ang="38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1" name="Rectangle 109"/>
          <p:cNvSpPr/>
          <p:nvPr/>
        </p:nvSpPr>
        <p:spPr>
          <a:xfrm>
            <a:off x="1366560" y="1701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110"/>
          <p:cNvSpPr/>
          <p:nvPr/>
        </p:nvSpPr>
        <p:spPr>
          <a:xfrm>
            <a:off x="1366560" y="2048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11"/>
          <p:cNvSpPr/>
          <p:nvPr/>
        </p:nvSpPr>
        <p:spPr>
          <a:xfrm>
            <a:off x="1366560" y="2425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112"/>
          <p:cNvSpPr/>
          <p:nvPr/>
        </p:nvSpPr>
        <p:spPr>
          <a:xfrm>
            <a:off x="1366560" y="27766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113" descr="shadow_1"/>
          <p:cNvPicPr/>
          <p:nvPr/>
        </p:nvPicPr>
        <p:blipFill>
          <a:blip r:embed="rId5"/>
          <a:stretch/>
        </p:blipFill>
        <p:spPr>
          <a:xfrm>
            <a:off x="3298680" y="1930320"/>
            <a:ext cx="4245120" cy="1770120"/>
          </a:xfrm>
          <a:prstGeom prst="rect">
            <a:avLst/>
          </a:prstGeom>
          <a:ln w="0">
            <a:noFill/>
          </a:ln>
        </p:spPr>
      </p:pic>
      <p:sp>
        <p:nvSpPr>
          <p:cNvPr id="636" name="Oval 114"/>
          <p:cNvSpPr/>
          <p:nvPr/>
        </p:nvSpPr>
        <p:spPr>
          <a:xfrm>
            <a:off x="3521160" y="1600200"/>
            <a:ext cx="3868560" cy="1579680"/>
          </a:xfrm>
          <a:prstGeom prst="ellipse">
            <a:avLst/>
          </a:prstGeom>
          <a:gradFill rotWithShape="0">
            <a:gsLst>
              <a:gs pos="0">
                <a:srgbClr val="e3e3e3"/>
              </a:gs>
              <a:gs pos="50000">
                <a:srgbClr val="c0c0c0"/>
              </a:gs>
              <a:gs pos="100000">
                <a:srgbClr val="e3e3e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Arc 115"/>
          <p:cNvSpPr/>
          <p:nvPr/>
        </p:nvSpPr>
        <p:spPr>
          <a:xfrm rot="16200000">
            <a:off x="4741920" y="563040"/>
            <a:ext cx="1436760" cy="36687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552" y="37188"/>
                </a:moveTo>
                <a:cubicBezTo>
                  <a:pt x="32530" y="41045"/>
                  <a:pt x="2717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6552" y="37188"/>
                </a:moveTo>
                <a:cubicBezTo>
                  <a:pt x="32530" y="41045"/>
                  <a:pt x="2717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6552" y="37188"/>
                </a:lnTo>
                <a:close/>
              </a:path>
            </a:pathLst>
          </a:custGeom>
          <a:gradFill rotWithShape="0">
            <a:gsLst>
              <a:gs pos="0">
                <a:srgbClr val="c5d1f2"/>
              </a:gs>
              <a:gs pos="50000">
                <a:srgbClr val="587ada"/>
              </a:gs>
              <a:gs pos="100000">
                <a:srgbClr val="c5d1f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Arc 116"/>
          <p:cNvSpPr/>
          <p:nvPr/>
        </p:nvSpPr>
        <p:spPr>
          <a:xfrm rot="16200000">
            <a:off x="4728240" y="573480"/>
            <a:ext cx="1436760" cy="3657600"/>
          </a:xfrm>
          <a:custGeom>
            <a:avLst/>
            <a:gdLst/>
            <a:ahLst/>
            <a:rect l="l" t="t" r="r" b="b"/>
            <a:pathLst>
              <a:path fill="none" w="43200" h="43063">
                <a:moveTo>
                  <a:pt x="19168" y="43062"/>
                </a:moveTo>
                <a:cubicBezTo>
                  <a:pt x="8249" y="41825"/>
                  <a:pt x="0" y="3258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063">
                <a:moveTo>
                  <a:pt x="19168" y="43062"/>
                </a:moveTo>
                <a:cubicBezTo>
                  <a:pt x="8249" y="41825"/>
                  <a:pt x="0" y="3258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9168" y="43062"/>
                </a:lnTo>
                <a:close/>
              </a:path>
            </a:pathLst>
          </a:custGeom>
          <a:gradFill rotWithShape="0">
            <a:gsLst>
              <a:gs pos="0">
                <a:srgbClr val="fdd78b"/>
              </a:gs>
              <a:gs pos="50000">
                <a:srgbClr val="fcb528"/>
              </a:gs>
              <a:gs pos="100000">
                <a:srgbClr val="fdd78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rc 117"/>
          <p:cNvSpPr/>
          <p:nvPr/>
        </p:nvSpPr>
        <p:spPr>
          <a:xfrm rot="16200000">
            <a:off x="4607640" y="671760"/>
            <a:ext cx="1438200" cy="346536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4097" y="34258"/>
                </a:moveTo>
                <a:cubicBezTo>
                  <a:pt x="1433" y="30575"/>
                  <a:pt x="0" y="261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4097" y="34258"/>
                </a:moveTo>
                <a:cubicBezTo>
                  <a:pt x="1433" y="30575"/>
                  <a:pt x="0" y="2614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4097" y="34258"/>
                </a:lnTo>
                <a:close/>
              </a:path>
            </a:pathLst>
          </a:custGeom>
          <a:gradFill rotWithShape="0">
            <a:gsLst>
              <a:gs pos="0">
                <a:srgbClr val="f6c7c6"/>
              </a:gs>
              <a:gs pos="50000">
                <a:srgbClr val="e87774"/>
              </a:gs>
              <a:gs pos="100000">
                <a:srgbClr val="f6c7c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Arc 118"/>
          <p:cNvSpPr/>
          <p:nvPr/>
        </p:nvSpPr>
        <p:spPr>
          <a:xfrm rot="16200000">
            <a:off x="4647600" y="622800"/>
            <a:ext cx="1423800" cy="3530520"/>
          </a:xfrm>
          <a:custGeom>
            <a:avLst/>
            <a:gdLst/>
            <a:ahLst/>
            <a:rect l="l" t="t" r="r" b="b"/>
            <a:pathLst>
              <a:path fill="none" w="42807" h="41573">
                <a:moveTo>
                  <a:pt x="0" y="17498"/>
                </a:moveTo>
                <a:cubicBezTo>
                  <a:pt x="1965" y="7338"/>
                  <a:pt x="10859" y="-1"/>
                  <a:pt x="21207" y="0"/>
                </a:cubicBezTo>
                <a:cubicBezTo>
                  <a:pt x="33136" y="0"/>
                  <a:pt x="42807" y="9670"/>
                  <a:pt x="42807" y="21600"/>
                </a:cubicBezTo>
                <a:cubicBezTo>
                  <a:pt x="42807" y="30353"/>
                  <a:pt x="37524" y="38241"/>
                  <a:pt x="29430" y="41573"/>
                </a:cubicBezTo>
              </a:path>
              <a:path stroke="0" w="42807" h="41573">
                <a:moveTo>
                  <a:pt x="0" y="17498"/>
                </a:moveTo>
                <a:cubicBezTo>
                  <a:pt x="1965" y="7338"/>
                  <a:pt x="10859" y="-1"/>
                  <a:pt x="21207" y="0"/>
                </a:cubicBezTo>
                <a:cubicBezTo>
                  <a:pt x="33136" y="0"/>
                  <a:pt x="42807" y="9670"/>
                  <a:pt x="42807" y="21600"/>
                </a:cubicBezTo>
                <a:cubicBezTo>
                  <a:pt x="42807" y="30353"/>
                  <a:pt x="37524" y="38241"/>
                  <a:pt x="29430" y="41573"/>
                </a:cubicBezTo>
                <a:lnTo>
                  <a:pt x="21207" y="21600"/>
                </a:lnTo>
                <a:lnTo>
                  <a:pt x="0" y="17498"/>
                </a:lnTo>
                <a:close/>
              </a:path>
            </a:pathLst>
          </a:custGeom>
          <a:gradFill rotWithShape="0">
            <a:gsLst>
              <a:gs pos="0">
                <a:srgbClr val="ade0d3"/>
              </a:gs>
              <a:gs pos="50000">
                <a:srgbClr val="45b99b"/>
              </a:gs>
              <a:gs pos="100000">
                <a:srgbClr val="ade0d3"/>
              </a:gs>
            </a:gsLst>
            <a:lin ang="18900000"/>
          </a:gradFill>
          <a:ln w="38160">
            <a:solidFill>
              <a:srgbClr val="0e74c8"/>
            </a:solidFill>
            <a:round/>
            <a:tailEnd len="med" type="arrow" w="med"/>
          </a:ln>
          <a:effectLst>
            <a:outerShdw dist="40186" dir="4303641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19"/>
          <p:cNvSpPr/>
          <p:nvPr/>
        </p:nvSpPr>
        <p:spPr>
          <a:xfrm>
            <a:off x="4419720" y="205740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20"/>
          <p:cNvSpPr/>
          <p:nvPr/>
        </p:nvSpPr>
        <p:spPr>
          <a:xfrm>
            <a:off x="5322960" y="2697120"/>
            <a:ext cx="6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1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121"/>
          <p:cNvSpPr/>
          <p:nvPr/>
        </p:nvSpPr>
        <p:spPr>
          <a:xfrm>
            <a:off x="6308640" y="2538360"/>
            <a:ext cx="6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22"/>
          <p:cNvSpPr/>
          <p:nvPr/>
        </p:nvSpPr>
        <p:spPr>
          <a:xfrm>
            <a:off x="6665760" y="216684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1693800" y="1828800"/>
            <a:ext cx="2819520" cy="1755720"/>
          </a:xfrm>
          <a:prstGeom prst="roundRect">
            <a:avLst>
              <a:gd name="adj" fmla="val 9616"/>
            </a:avLst>
          </a:prstGeom>
          <a:solidFill>
            <a:srgbClr val="ffffff"/>
          </a:solidFill>
          <a:ln w="9360">
            <a:solidFill>
              <a:srgbClr val="45b99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4665600" y="1828800"/>
            <a:ext cx="2819520" cy="1755720"/>
          </a:xfrm>
          <a:prstGeom prst="roundRect">
            <a:avLst>
              <a:gd name="adj" fmla="val 9616"/>
            </a:avLst>
          </a:prstGeom>
          <a:solidFill>
            <a:srgbClr val="ffffff"/>
          </a:solidFill>
          <a:ln w="9360">
            <a:solidFill>
              <a:srgbClr val="e87774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693800" y="3730680"/>
            <a:ext cx="2819520" cy="1757160"/>
          </a:xfrm>
          <a:prstGeom prst="roundRect">
            <a:avLst>
              <a:gd name="adj" fmla="val 9616"/>
            </a:avLst>
          </a:prstGeom>
          <a:solidFill>
            <a:srgbClr val="ffffff"/>
          </a:solidFill>
          <a:ln w="9360">
            <a:solidFill>
              <a:srgbClr val="fcb528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6"/>
          <p:cNvSpPr/>
          <p:nvPr/>
        </p:nvSpPr>
        <p:spPr>
          <a:xfrm>
            <a:off x="4665600" y="3730680"/>
            <a:ext cx="2819520" cy="1757160"/>
          </a:xfrm>
          <a:prstGeom prst="roundRect">
            <a:avLst>
              <a:gd name="adj" fmla="val 9616"/>
            </a:avLst>
          </a:prstGeom>
          <a:solidFill>
            <a:srgbClr val="ffffff"/>
          </a:solidFill>
          <a:ln w="9360">
            <a:solidFill>
              <a:srgbClr val="587ada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2762280" y="2819520"/>
            <a:ext cx="1752480" cy="76680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45b99b"/>
              </a:gs>
              <a:gs pos="100000">
                <a:srgbClr val="2e7b67"/>
              </a:gs>
            </a:gsLst>
            <a:lin ang="5400000"/>
          </a:gradFill>
          <a:ln w="19080">
            <a:solidFill>
              <a:srgbClr val="45b99b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AutoShape 8"/>
          <p:cNvSpPr/>
          <p:nvPr/>
        </p:nvSpPr>
        <p:spPr>
          <a:xfrm>
            <a:off x="4656240" y="2819520"/>
            <a:ext cx="1752480" cy="76680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e87774"/>
              </a:gs>
              <a:gs pos="100000">
                <a:srgbClr val="9b4f4d"/>
              </a:gs>
            </a:gsLst>
            <a:lin ang="5400000"/>
          </a:gradFill>
          <a:ln w="19080">
            <a:solidFill>
              <a:srgbClr val="e87774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9"/>
          <p:cNvSpPr/>
          <p:nvPr/>
        </p:nvSpPr>
        <p:spPr>
          <a:xfrm>
            <a:off x="2762280" y="3720960"/>
            <a:ext cx="1752480" cy="746280"/>
          </a:xfrm>
          <a:prstGeom prst="roundRect">
            <a:avLst>
              <a:gd name="adj" fmla="val 19773"/>
            </a:avLst>
          </a:prstGeom>
          <a:gradFill rotWithShape="0">
            <a:gsLst>
              <a:gs pos="0">
                <a:srgbClr val="fcb528"/>
              </a:gs>
              <a:gs pos="100000">
                <a:srgbClr val="a8791b"/>
              </a:gs>
            </a:gsLst>
            <a:lin ang="5400000"/>
          </a:gradFill>
          <a:ln w="19080">
            <a:solidFill>
              <a:srgbClr val="fcb528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10"/>
          <p:cNvSpPr/>
          <p:nvPr/>
        </p:nvSpPr>
        <p:spPr>
          <a:xfrm>
            <a:off x="4656240" y="3720960"/>
            <a:ext cx="1752480" cy="746280"/>
          </a:xfrm>
          <a:prstGeom prst="roundRect">
            <a:avLst>
              <a:gd name="adj" fmla="val 20903"/>
            </a:avLst>
          </a:prstGeom>
          <a:gradFill rotWithShape="0">
            <a:gsLst>
              <a:gs pos="0">
                <a:srgbClr val="587ada"/>
              </a:gs>
              <a:gs pos="100000">
                <a:srgbClr val="3b5191"/>
              </a:gs>
            </a:gsLst>
            <a:lin ang="5400000"/>
          </a:gradFill>
          <a:ln w="19080">
            <a:solidFill>
              <a:srgbClr val="587ada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11" descr=""/>
          <p:cNvPicPr/>
          <p:nvPr/>
        </p:nvPicPr>
        <p:blipFill>
          <a:blip r:embed="rId1"/>
          <a:stretch/>
        </p:blipFill>
        <p:spPr>
          <a:xfrm>
            <a:off x="2303640" y="3124080"/>
            <a:ext cx="475920" cy="10350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"/>
          <p:cNvPicPr/>
          <p:nvPr/>
        </p:nvPicPr>
        <p:blipFill>
          <a:blip r:embed="rId2"/>
          <a:stretch/>
        </p:blipFill>
        <p:spPr>
          <a:xfrm>
            <a:off x="6362640" y="3124080"/>
            <a:ext cx="479520" cy="10479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2855880" y="301932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7520" y="301932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2855880" y="388620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727520" y="3886200"/>
            <a:ext cx="1577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7"/>
          <p:cNvSpPr/>
          <p:nvPr/>
        </p:nvSpPr>
        <p:spPr>
          <a:xfrm>
            <a:off x="1770120" y="190512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1770120" y="470844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9"/>
          <p:cNvSpPr/>
          <p:nvPr/>
        </p:nvSpPr>
        <p:spPr>
          <a:xfrm>
            <a:off x="5122800" y="190512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0"/>
          <p:cNvSpPr/>
          <p:nvPr/>
        </p:nvSpPr>
        <p:spPr>
          <a:xfrm>
            <a:off x="5122800" y="4708440"/>
            <a:ext cx="228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600200" y="571500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>
            <a:off x="533520" y="5502240"/>
            <a:ext cx="1885680" cy="620640"/>
          </a:xfrm>
          <a:prstGeom prst="cube">
            <a:avLst>
              <a:gd name="adj" fmla="val 4987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 flipV="1" rot="16200000">
            <a:off x="1533240" y="526176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cb528"/>
              </a:gs>
              <a:gs pos="100000">
                <a:srgbClr val="bf89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5"/>
          <p:cNvSpPr/>
          <p:nvPr/>
        </p:nvSpPr>
        <p:spPr>
          <a:xfrm flipV="1" rot="16200000">
            <a:off x="736200" y="508140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5b99b"/>
              </a:gs>
              <a:gs pos="100000">
                <a:srgbClr val="348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1027080" y="5792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43040" y="1676520"/>
            <a:ext cx="7381440" cy="1532880"/>
            <a:chOff x="743040" y="1676520"/>
            <a:chExt cx="7381440" cy="1532880"/>
          </a:xfrm>
        </p:grpSpPr>
        <p:sp>
          <p:nvSpPr>
            <p:cNvPr id="671" name="AutoShape 8"/>
            <p:cNvSpPr/>
            <p:nvPr/>
          </p:nvSpPr>
          <p:spPr>
            <a:xfrm>
              <a:off x="760320" y="1676520"/>
              <a:ext cx="7350120" cy="1480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9"/>
            <p:cNvSpPr/>
            <p:nvPr/>
          </p:nvSpPr>
          <p:spPr>
            <a:xfrm>
              <a:off x="743040" y="1729080"/>
              <a:ext cx="7381440" cy="148032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090440" y="1806480"/>
            <a:ext cx="1238400" cy="1265040"/>
            <a:chOff x="1090440" y="1806480"/>
            <a:chExt cx="1238400" cy="1265040"/>
          </a:xfrm>
        </p:grpSpPr>
        <p:sp>
          <p:nvSpPr>
            <p:cNvPr id="674" name="Oval 11"/>
            <p:cNvSpPr/>
            <p:nvPr/>
          </p:nvSpPr>
          <p:spPr>
            <a:xfrm>
              <a:off x="1090440" y="1848960"/>
              <a:ext cx="1238400" cy="1222560"/>
            </a:xfrm>
            <a:prstGeom prst="ellipse">
              <a:avLst/>
            </a:prstGeom>
            <a:solidFill>
              <a:srgbClr val="45b99b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5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95560" y="18064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6" name="Rectangle 13"/>
          <p:cNvSpPr/>
          <p:nvPr/>
        </p:nvSpPr>
        <p:spPr>
          <a:xfrm>
            <a:off x="1359000" y="2295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AutoShape 14"/>
          <p:cNvSpPr/>
          <p:nvPr/>
        </p:nvSpPr>
        <p:spPr>
          <a:xfrm>
            <a:off x="2590920" y="2200320"/>
            <a:ext cx="696960" cy="442800"/>
          </a:xfrm>
          <a:prstGeom prst="rightArrow">
            <a:avLst>
              <a:gd name="adj1" fmla="val 49380"/>
              <a:gd name="adj2" fmla="val 38883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898800" y="1735200"/>
            <a:ext cx="1238400" cy="1264680"/>
            <a:chOff x="3898800" y="1735200"/>
            <a:chExt cx="1238400" cy="1264680"/>
          </a:xfrm>
        </p:grpSpPr>
        <p:sp>
          <p:nvSpPr>
            <p:cNvPr id="679" name="Oval 16"/>
            <p:cNvSpPr/>
            <p:nvPr/>
          </p:nvSpPr>
          <p:spPr>
            <a:xfrm>
              <a:off x="3898800" y="1777680"/>
              <a:ext cx="1238400" cy="1222200"/>
            </a:xfrm>
            <a:prstGeom prst="ellipse">
              <a:avLst/>
            </a:prstGeom>
            <a:solidFill>
              <a:srgbClr val="e87774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0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03920" y="173520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8"/>
          <p:cNvSpPr/>
          <p:nvPr/>
        </p:nvSpPr>
        <p:spPr>
          <a:xfrm>
            <a:off x="4165920" y="2225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AutoShape 19"/>
          <p:cNvSpPr/>
          <p:nvPr/>
        </p:nvSpPr>
        <p:spPr>
          <a:xfrm>
            <a:off x="5251320" y="219852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330960" y="1735200"/>
            <a:ext cx="1236600" cy="1264680"/>
            <a:chOff x="6330960" y="1735200"/>
            <a:chExt cx="1236600" cy="1264680"/>
          </a:xfrm>
        </p:grpSpPr>
        <p:sp>
          <p:nvSpPr>
            <p:cNvPr id="684" name="Oval 21"/>
            <p:cNvSpPr/>
            <p:nvPr/>
          </p:nvSpPr>
          <p:spPr>
            <a:xfrm>
              <a:off x="6330960" y="1777680"/>
              <a:ext cx="1236600" cy="1222200"/>
            </a:xfrm>
            <a:prstGeom prst="ellipse">
              <a:avLst/>
            </a:prstGeom>
            <a:solidFill>
              <a:srgbClr val="fcb528"/>
            </a:solidFill>
            <a:ln w="6336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85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35720" y="173520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Rectangle 23"/>
          <p:cNvSpPr/>
          <p:nvPr/>
        </p:nvSpPr>
        <p:spPr>
          <a:xfrm>
            <a:off x="6596280" y="2225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AutoShape 24"/>
          <p:cNvSpPr/>
          <p:nvPr/>
        </p:nvSpPr>
        <p:spPr>
          <a:xfrm>
            <a:off x="3433680" y="5502240"/>
            <a:ext cx="1886040" cy="620640"/>
          </a:xfrm>
          <a:prstGeom prst="cube">
            <a:avLst>
              <a:gd name="adj" fmla="val 4987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25"/>
          <p:cNvSpPr/>
          <p:nvPr/>
        </p:nvSpPr>
        <p:spPr>
          <a:xfrm flipV="1" rot="16200000">
            <a:off x="4255560" y="508140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cb528"/>
              </a:gs>
              <a:gs pos="100000">
                <a:srgbClr val="bf89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AutoShape 26"/>
          <p:cNvSpPr/>
          <p:nvPr/>
        </p:nvSpPr>
        <p:spPr>
          <a:xfrm flipV="1" rot="16200000">
            <a:off x="3376800" y="483300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5b99b"/>
              </a:gs>
              <a:gs pos="100000">
                <a:srgbClr val="348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27"/>
          <p:cNvSpPr/>
          <p:nvPr/>
        </p:nvSpPr>
        <p:spPr>
          <a:xfrm>
            <a:off x="6045120" y="5502240"/>
            <a:ext cx="1884600" cy="620640"/>
          </a:xfrm>
          <a:prstGeom prst="cube">
            <a:avLst>
              <a:gd name="adj" fmla="val 4987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AutoShape 28"/>
          <p:cNvSpPr/>
          <p:nvPr/>
        </p:nvSpPr>
        <p:spPr>
          <a:xfrm flipV="1" rot="16200000">
            <a:off x="6386040" y="460980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cb528"/>
              </a:gs>
              <a:gs pos="100000">
                <a:srgbClr val="bf89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AutoShape 29"/>
          <p:cNvSpPr/>
          <p:nvPr/>
        </p:nvSpPr>
        <p:spPr>
          <a:xfrm flipV="1" rot="16200000">
            <a:off x="5594040" y="442836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5b99b"/>
              </a:gs>
              <a:gs pos="100000">
                <a:srgbClr val="348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3943080" y="5792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6576840" y="5792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1403280" y="449892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2043000" y="495612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356000" y="43117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938840" y="481968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6939000" y="343224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7"/>
          <p:cNvSpPr/>
          <p:nvPr/>
        </p:nvSpPr>
        <p:spPr>
          <a:xfrm>
            <a:off x="7540560" y="38768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312840" y="1752480"/>
            <a:ext cx="42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6707160" y="2085840"/>
            <a:ext cx="1971720" cy="1779840"/>
          </a:xfrm>
          <a:prstGeom prst="rect">
            <a:avLst/>
          </a:prstGeom>
          <a:gradFill rotWithShape="0">
            <a:gsLst>
              <a:gs pos="0">
                <a:srgbClr val="89d3bf"/>
              </a:gs>
              <a:gs pos="100000">
                <a:srgbClr val="45b99b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2584440" y="3193920"/>
            <a:ext cx="1971720" cy="1779840"/>
          </a:xfrm>
          <a:prstGeom prst="rect">
            <a:avLst/>
          </a:prstGeom>
          <a:gradFill rotWithShape="0">
            <a:gsLst>
              <a:gs pos="0">
                <a:srgbClr val="b5c4ef"/>
              </a:gs>
              <a:gs pos="100000">
                <a:srgbClr val="587ada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4646520" y="2649600"/>
            <a:ext cx="1971720" cy="1778040"/>
          </a:xfrm>
          <a:prstGeom prst="rect">
            <a:avLst/>
          </a:prstGeom>
          <a:gradFill rotWithShape="0">
            <a:gsLst>
              <a:gs pos="0">
                <a:srgbClr val="fdd78b"/>
              </a:gs>
              <a:gs pos="100000">
                <a:srgbClr val="fcb528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519120" y="3757680"/>
            <a:ext cx="1971720" cy="1778040"/>
          </a:xfrm>
          <a:prstGeom prst="rect">
            <a:avLst/>
          </a:prstGeom>
          <a:gradFill rotWithShape="0">
            <a:gsLst>
              <a:gs pos="0">
                <a:srgbClr val="f5c3c1"/>
              </a:gs>
              <a:gs pos="100000">
                <a:srgbClr val="e87774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未知"/>
          <p:cNvSpPr/>
          <p:nvPr/>
        </p:nvSpPr>
        <p:spPr>
          <a:xfrm>
            <a:off x="736560" y="3446640"/>
            <a:ext cx="1546200" cy="4888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e87774"/>
              </a:gs>
              <a:gs pos="100000">
                <a:srgbClr val="b75e5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未知"/>
          <p:cNvSpPr/>
          <p:nvPr/>
        </p:nvSpPr>
        <p:spPr>
          <a:xfrm>
            <a:off x="2805120" y="2892600"/>
            <a:ext cx="1544760" cy="4870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587ada"/>
              </a:gs>
              <a:gs pos="100000">
                <a:srgbClr val="4560ac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未知"/>
          <p:cNvSpPr/>
          <p:nvPr/>
        </p:nvSpPr>
        <p:spPr>
          <a:xfrm>
            <a:off x="4863960" y="2338560"/>
            <a:ext cx="1546200" cy="4888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fcb528"/>
              </a:gs>
              <a:gs pos="100000">
                <a:srgbClr val="c78f20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6918480" y="1784520"/>
            <a:ext cx="1546200" cy="487080"/>
          </a:xfrm>
          <a:custGeom>
            <a:avLst/>
            <a:gdLst/>
            <a:ahLst/>
            <a:rect l="l" t="t" r="r" b="b"/>
            <a:pathLst>
              <a:path w="1071" h="307">
                <a:moveTo>
                  <a:pt x="83" y="0"/>
                </a:moveTo>
                <a:lnTo>
                  <a:pt x="1069" y="0"/>
                </a:lnTo>
                <a:cubicBezTo>
                  <a:pt x="1069" y="0"/>
                  <a:pt x="1069" y="99"/>
                  <a:pt x="1069" y="198"/>
                </a:cubicBezTo>
                <a:cubicBezTo>
                  <a:pt x="1069" y="198"/>
                  <a:pt x="1071" y="248"/>
                  <a:pt x="1055" y="270"/>
                </a:cubicBezTo>
                <a:cubicBezTo>
                  <a:pt x="1043" y="288"/>
                  <a:pt x="1019" y="302"/>
                  <a:pt x="987" y="302"/>
                </a:cubicBezTo>
                <a:cubicBezTo>
                  <a:pt x="488" y="303"/>
                  <a:pt x="0" y="307"/>
                  <a:pt x="0" y="307"/>
                </a:cubicBezTo>
                <a:lnTo>
                  <a:pt x="0" y="89"/>
                </a:lnTo>
                <a:cubicBezTo>
                  <a:pt x="3" y="41"/>
                  <a:pt x="7" y="33"/>
                  <a:pt x="21" y="18"/>
                </a:cubicBezTo>
                <a:cubicBezTo>
                  <a:pt x="35" y="3"/>
                  <a:pt x="66" y="1"/>
                  <a:pt x="83" y="0"/>
                </a:cubicBezTo>
                <a:close/>
              </a:path>
            </a:pathLst>
          </a:custGeom>
          <a:gradFill rotWithShape="0">
            <a:gsLst>
              <a:gs pos="0">
                <a:srgbClr val="45b99b"/>
              </a:gs>
              <a:gs pos="100000">
                <a:srgbClr val="36927a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53966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727560" y="35100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2822760" y="29541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4866120" y="2401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5"/>
          <p:cNvSpPr/>
          <p:nvPr/>
        </p:nvSpPr>
        <p:spPr>
          <a:xfrm>
            <a:off x="6932880" y="18381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587520" y="4129200"/>
            <a:ext cx="186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4721400" y="3013200"/>
            <a:ext cx="1865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18"/>
          <p:cNvSpPr/>
          <p:nvPr/>
        </p:nvSpPr>
        <p:spPr>
          <a:xfrm>
            <a:off x="2700360" y="3554280"/>
            <a:ext cx="1798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9"/>
          <p:cNvSpPr/>
          <p:nvPr/>
        </p:nvSpPr>
        <p:spPr>
          <a:xfrm>
            <a:off x="6781680" y="2457360"/>
            <a:ext cx="1865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2790720" y="519912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21" descr="Yellow_fly001"/>
          <p:cNvPicPr/>
          <p:nvPr/>
        </p:nvPicPr>
        <p:blipFill>
          <a:blip r:embed="rId1"/>
          <a:stretch/>
        </p:blipFill>
        <p:spPr>
          <a:xfrm>
            <a:off x="1600200" y="3009960"/>
            <a:ext cx="973080" cy="39348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2" descr="Yellow_fly001"/>
          <p:cNvPicPr/>
          <p:nvPr/>
        </p:nvPicPr>
        <p:blipFill>
          <a:blip r:embed="rId2"/>
          <a:stretch/>
        </p:blipFill>
        <p:spPr>
          <a:xfrm>
            <a:off x="3736800" y="2448000"/>
            <a:ext cx="973440" cy="3934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3" descr="Yellow_fly001"/>
          <p:cNvPicPr/>
          <p:nvPr/>
        </p:nvPicPr>
        <p:blipFill>
          <a:blip r:embed="rId3"/>
          <a:stretch/>
        </p:blipFill>
        <p:spPr>
          <a:xfrm>
            <a:off x="5789520" y="1884240"/>
            <a:ext cx="973080" cy="3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24" name="Oval 3"/>
          <p:cNvSpPr/>
          <p:nvPr/>
        </p:nvSpPr>
        <p:spPr>
          <a:xfrm>
            <a:off x="5384880" y="2743200"/>
            <a:ext cx="2867040" cy="2968560"/>
          </a:xfrm>
          <a:prstGeom prst="ellipse">
            <a:avLst/>
          </a:prstGeom>
          <a:noFill/>
          <a:ln w="57240">
            <a:solidFill>
              <a:srgbClr val="ffffff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4"/>
          <p:cNvSpPr/>
          <p:nvPr/>
        </p:nvSpPr>
        <p:spPr>
          <a:xfrm>
            <a:off x="1001880" y="2743200"/>
            <a:ext cx="2866680" cy="2968560"/>
          </a:xfrm>
          <a:prstGeom prst="ellipse">
            <a:avLst/>
          </a:prstGeom>
          <a:noFill/>
          <a:ln w="57240">
            <a:solidFill>
              <a:srgbClr val="ffffff">
                <a:alpha val="7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121200" y="3614760"/>
            <a:ext cx="1368000" cy="1266480"/>
            <a:chOff x="3121200" y="3614760"/>
            <a:chExt cx="1368000" cy="1266480"/>
          </a:xfrm>
        </p:grpSpPr>
        <p:sp>
          <p:nvSpPr>
            <p:cNvPr id="727" name="AutoShape 6"/>
            <p:cNvSpPr/>
            <p:nvPr/>
          </p:nvSpPr>
          <p:spPr>
            <a:xfrm>
              <a:off x="3121200" y="361476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87ada"/>
                </a:gs>
                <a:gs pos="100000">
                  <a:srgbClr val="40599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未知"/>
            <p:cNvSpPr/>
            <p:nvPr/>
          </p:nvSpPr>
          <p:spPr>
            <a:xfrm>
              <a:off x="3172320" y="3677760"/>
              <a:ext cx="680760" cy="632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87ada">
                    <a:alpha val="0"/>
                  </a:srgbClr>
                </a:gs>
                <a:gs pos="50000">
                  <a:srgbClr val="9aafe9"/>
                </a:gs>
                <a:gs pos="100000">
                  <a:srgbClr val="587ad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 Box 8"/>
          <p:cNvSpPr/>
          <p:nvPr/>
        </p:nvSpPr>
        <p:spPr>
          <a:xfrm>
            <a:off x="3117960" y="384804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1517760" y="398448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3911760" y="3048120"/>
            <a:ext cx="1333440" cy="761760"/>
          </a:xfrm>
          <a:custGeom>
            <a:avLst/>
            <a:gdLst>
              <a:gd name="textAreaLeft" fmla="*/ 195120 w 1333440"/>
              <a:gd name="textAreaRight" fmla="*/ 1138320 w 1333440"/>
              <a:gd name="textAreaTop" fmla="*/ 111600 h 761760"/>
              <a:gd name="textAreaBottom" fmla="*/ 650160 h 761760"/>
            </a:gdLst>
            <a:ahLst/>
            <a:rect l="textAreaLeft" t="textAreaTop" r="textAreaRight" b="textAreaBottom"/>
            <a:pathLst>
              <a:path w="23796" h="12213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640400" y="3614760"/>
            <a:ext cx="1368000" cy="1266480"/>
            <a:chOff x="4640400" y="3614760"/>
            <a:chExt cx="1368000" cy="1266480"/>
          </a:xfrm>
        </p:grpSpPr>
        <p:sp>
          <p:nvSpPr>
            <p:cNvPr id="733" name="AutoShape 12"/>
            <p:cNvSpPr/>
            <p:nvPr/>
          </p:nvSpPr>
          <p:spPr>
            <a:xfrm>
              <a:off x="4640400" y="3614760"/>
              <a:ext cx="1368000" cy="1266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a95755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未知"/>
            <p:cNvSpPr/>
            <p:nvPr/>
          </p:nvSpPr>
          <p:spPr>
            <a:xfrm>
              <a:off x="4691520" y="3677760"/>
              <a:ext cx="680760" cy="632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87774">
                    <a:alpha val="0"/>
                  </a:srgbClr>
                </a:gs>
                <a:gs pos="50000">
                  <a:srgbClr val="f1adab"/>
                </a:gs>
                <a:gs pos="100000">
                  <a:srgbClr val="e87774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 Box 14"/>
          <p:cNvSpPr/>
          <p:nvPr/>
        </p:nvSpPr>
        <p:spPr>
          <a:xfrm>
            <a:off x="4637160" y="384804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235160" y="2286000"/>
            <a:ext cx="1197000" cy="1171440"/>
            <a:chOff x="1235160" y="2286000"/>
            <a:chExt cx="1197000" cy="1171440"/>
          </a:xfrm>
        </p:grpSpPr>
        <p:grpSp>
          <p:nvGrpSpPr>
            <p:cNvPr id="737" name=""/>
            <p:cNvGrpSpPr/>
            <p:nvPr/>
          </p:nvGrpSpPr>
          <p:grpSpPr>
            <a:xfrm>
              <a:off x="1235160" y="2286000"/>
              <a:ext cx="1197000" cy="1171440"/>
              <a:chOff x="1235160" y="2286000"/>
              <a:chExt cx="1197000" cy="1171440"/>
            </a:xfrm>
          </p:grpSpPr>
          <p:pic>
            <p:nvPicPr>
              <p:cNvPr id="738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35160" y="22860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9" name="Oval 18"/>
              <p:cNvSpPr/>
              <p:nvPr/>
            </p:nvSpPr>
            <p:spPr>
              <a:xfrm>
                <a:off x="1235160" y="22860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587ada">
                      <a:alpha val="55294"/>
                    </a:srgbClr>
                  </a:gs>
                  <a:gs pos="50000">
                    <a:srgbClr val="293865">
                      <a:alpha val="90196"/>
                    </a:srgbClr>
                  </a:gs>
                  <a:gs pos="100000">
                    <a:srgbClr val="587ad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0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54680" y="22971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1" name=""/>
          <p:cNvGrpSpPr/>
          <p:nvPr/>
        </p:nvGrpSpPr>
        <p:grpSpPr>
          <a:xfrm>
            <a:off x="374760" y="3657600"/>
            <a:ext cx="1197000" cy="1171440"/>
            <a:chOff x="374760" y="3657600"/>
            <a:chExt cx="1197000" cy="1171440"/>
          </a:xfrm>
        </p:grpSpPr>
        <p:grpSp>
          <p:nvGrpSpPr>
            <p:cNvPr id="742" name=""/>
            <p:cNvGrpSpPr/>
            <p:nvPr/>
          </p:nvGrpSpPr>
          <p:grpSpPr>
            <a:xfrm>
              <a:off x="374760" y="3657600"/>
              <a:ext cx="1197000" cy="1171440"/>
              <a:chOff x="374760" y="3657600"/>
              <a:chExt cx="1197000" cy="1171440"/>
            </a:xfrm>
          </p:grpSpPr>
          <p:pic>
            <p:nvPicPr>
              <p:cNvPr id="743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74760" y="36576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Oval 23"/>
              <p:cNvSpPr/>
              <p:nvPr/>
            </p:nvSpPr>
            <p:spPr>
              <a:xfrm>
                <a:off x="374760" y="36576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587ada">
                      <a:alpha val="55294"/>
                    </a:srgbClr>
                  </a:gs>
                  <a:gs pos="50000">
                    <a:srgbClr val="293865">
                      <a:alpha val="90196"/>
                    </a:srgbClr>
                  </a:gs>
                  <a:gs pos="100000">
                    <a:srgbClr val="587ad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5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94280" y="36687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"/>
          <p:cNvGrpSpPr/>
          <p:nvPr/>
        </p:nvGrpSpPr>
        <p:grpSpPr>
          <a:xfrm>
            <a:off x="1235160" y="4952880"/>
            <a:ext cx="1197000" cy="1171800"/>
            <a:chOff x="1235160" y="4952880"/>
            <a:chExt cx="1197000" cy="1171800"/>
          </a:xfrm>
        </p:grpSpPr>
        <p:grpSp>
          <p:nvGrpSpPr>
            <p:cNvPr id="747" name=""/>
            <p:cNvGrpSpPr/>
            <p:nvPr/>
          </p:nvGrpSpPr>
          <p:grpSpPr>
            <a:xfrm>
              <a:off x="1235160" y="4952880"/>
              <a:ext cx="1197000" cy="1171800"/>
              <a:chOff x="1235160" y="4952880"/>
              <a:chExt cx="1197000" cy="1171800"/>
            </a:xfrm>
          </p:grpSpPr>
          <p:pic>
            <p:nvPicPr>
              <p:cNvPr id="748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35160" y="495288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9" name="Oval 28"/>
              <p:cNvSpPr/>
              <p:nvPr/>
            </p:nvSpPr>
            <p:spPr>
              <a:xfrm>
                <a:off x="1235160" y="495288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587ada">
                      <a:alpha val="55294"/>
                    </a:srgbClr>
                  </a:gs>
                  <a:gs pos="50000">
                    <a:srgbClr val="293865">
                      <a:alpha val="90196"/>
                    </a:srgbClr>
                  </a:gs>
                  <a:gs pos="100000">
                    <a:srgbClr val="587ad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0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354680" y="496404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Text Box 30"/>
          <p:cNvSpPr/>
          <p:nvPr/>
        </p:nvSpPr>
        <p:spPr>
          <a:xfrm>
            <a:off x="1300320" y="259236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415800" y="39798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1303200" y="52452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6748560" y="2286000"/>
            <a:ext cx="1197000" cy="1171440"/>
            <a:chOff x="6748560" y="2286000"/>
            <a:chExt cx="1197000" cy="1171440"/>
          </a:xfrm>
        </p:grpSpPr>
        <p:grpSp>
          <p:nvGrpSpPr>
            <p:cNvPr id="755" name=""/>
            <p:cNvGrpSpPr/>
            <p:nvPr/>
          </p:nvGrpSpPr>
          <p:grpSpPr>
            <a:xfrm>
              <a:off x="6748560" y="2286000"/>
              <a:ext cx="1197000" cy="1171440"/>
              <a:chOff x="6748560" y="2286000"/>
              <a:chExt cx="1197000" cy="1171440"/>
            </a:xfrm>
          </p:grpSpPr>
          <p:pic>
            <p:nvPicPr>
              <p:cNvPr id="756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748560" y="22860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Oval 36"/>
              <p:cNvSpPr/>
              <p:nvPr/>
            </p:nvSpPr>
            <p:spPr>
              <a:xfrm>
                <a:off x="6748560" y="22860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e87774">
                      <a:alpha val="55294"/>
                    </a:srgbClr>
                  </a:gs>
                  <a:gs pos="50000">
                    <a:srgbClr val="9a4f4d">
                      <a:alpha val="90196"/>
                    </a:srgbClr>
                  </a:gs>
                  <a:gs pos="100000">
                    <a:srgbClr val="e8777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8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868080" y="22971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Text Box 38"/>
          <p:cNvSpPr/>
          <p:nvPr/>
        </p:nvSpPr>
        <p:spPr>
          <a:xfrm>
            <a:off x="6813720" y="259236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642080" y="3657600"/>
            <a:ext cx="1197000" cy="1171440"/>
            <a:chOff x="7642080" y="3657600"/>
            <a:chExt cx="1197000" cy="1171440"/>
          </a:xfrm>
        </p:grpSpPr>
        <p:grpSp>
          <p:nvGrpSpPr>
            <p:cNvPr id="761" name=""/>
            <p:cNvGrpSpPr/>
            <p:nvPr/>
          </p:nvGrpSpPr>
          <p:grpSpPr>
            <a:xfrm>
              <a:off x="7642080" y="3657600"/>
              <a:ext cx="1197000" cy="1171440"/>
              <a:chOff x="7642080" y="3657600"/>
              <a:chExt cx="1197000" cy="1171440"/>
            </a:xfrm>
          </p:grpSpPr>
          <p:pic>
            <p:nvPicPr>
              <p:cNvPr id="762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642080" y="36576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3" name="Oval 42"/>
              <p:cNvSpPr/>
              <p:nvPr/>
            </p:nvSpPr>
            <p:spPr>
              <a:xfrm>
                <a:off x="7642080" y="36576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e87774">
                      <a:alpha val="55294"/>
                    </a:srgbClr>
                  </a:gs>
                  <a:gs pos="50000">
                    <a:srgbClr val="9a4f4d">
                      <a:alpha val="90196"/>
                    </a:srgbClr>
                  </a:gs>
                  <a:gs pos="100000">
                    <a:srgbClr val="e8777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64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761600" y="36687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Text Box 44"/>
          <p:cNvSpPr/>
          <p:nvPr/>
        </p:nvSpPr>
        <p:spPr>
          <a:xfrm>
            <a:off x="7683480" y="39798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6748560" y="4935600"/>
            <a:ext cx="1197000" cy="1171440"/>
            <a:chOff x="6748560" y="4935600"/>
            <a:chExt cx="1197000" cy="1171440"/>
          </a:xfrm>
        </p:grpSpPr>
        <p:grpSp>
          <p:nvGrpSpPr>
            <p:cNvPr id="767" name=""/>
            <p:cNvGrpSpPr/>
            <p:nvPr/>
          </p:nvGrpSpPr>
          <p:grpSpPr>
            <a:xfrm>
              <a:off x="6748560" y="4935600"/>
              <a:ext cx="1197000" cy="1171440"/>
              <a:chOff x="6748560" y="4935600"/>
              <a:chExt cx="1197000" cy="1171440"/>
            </a:xfrm>
          </p:grpSpPr>
          <p:pic>
            <p:nvPicPr>
              <p:cNvPr id="76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748560" y="49356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Oval 48"/>
              <p:cNvSpPr/>
              <p:nvPr/>
            </p:nvSpPr>
            <p:spPr>
              <a:xfrm>
                <a:off x="6748560" y="49356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e87774">
                      <a:alpha val="55294"/>
                    </a:srgbClr>
                  </a:gs>
                  <a:gs pos="50000">
                    <a:srgbClr val="9a4f4d">
                      <a:alpha val="90196"/>
                    </a:srgbClr>
                  </a:gs>
                  <a:gs pos="100000">
                    <a:srgbClr val="e87774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7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868080" y="49467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Text Box 50"/>
          <p:cNvSpPr/>
          <p:nvPr/>
        </p:nvSpPr>
        <p:spPr>
          <a:xfrm>
            <a:off x="6813720" y="524196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AutoShape 51"/>
          <p:cNvSpPr/>
          <p:nvPr/>
        </p:nvSpPr>
        <p:spPr>
          <a:xfrm rot="10800000">
            <a:off x="3956040" y="4723920"/>
            <a:ext cx="1333440" cy="762120"/>
          </a:xfrm>
          <a:custGeom>
            <a:avLst/>
            <a:gdLst>
              <a:gd name="textAreaLeft" fmla="*/ 195120 w 1333440"/>
              <a:gd name="textAreaRight" fmla="*/ 1138320 w 133344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3796" h="12213">
                <a:moveTo>
                  <a:pt x="18488" y="8640"/>
                </a:moveTo>
                <a:cubicBezTo>
                  <a:pt x="17520" y="5194"/>
                  <a:pt x="14378" y="2814"/>
                  <a:pt x="10800" y="2814"/>
                </a:cubicBezTo>
                <a:cubicBezTo>
                  <a:pt x="6441" y="2813"/>
                  <a:pt x="2888" y="6308"/>
                  <a:pt x="2815" y="10665"/>
                </a:cubicBezTo>
                <a:lnTo>
                  <a:pt x="1" y="10618"/>
                </a:lnTo>
                <a:cubicBezTo>
                  <a:pt x="100" y="4725"/>
                  <a:pt x="4906" y="-1"/>
                  <a:pt x="10800" y="0"/>
                </a:cubicBezTo>
                <a:cubicBezTo>
                  <a:pt x="15639" y="0"/>
                  <a:pt x="19888" y="3219"/>
                  <a:pt x="21197" y="7879"/>
                </a:cubicBezTo>
                <a:lnTo>
                  <a:pt x="23796" y="7148"/>
                </a:lnTo>
                <a:lnTo>
                  <a:pt x="20953" y="12212"/>
                </a:lnTo>
                <a:lnTo>
                  <a:pt x="15889" y="9370"/>
                </a:lnTo>
                <a:lnTo>
                  <a:pt x="18488" y="8640"/>
                </a:lnTo>
                <a:close/>
              </a:path>
            </a:pathLst>
          </a:cu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6043680" y="398448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53"/>
          <p:cNvSpPr/>
          <p:nvPr/>
        </p:nvSpPr>
        <p:spPr>
          <a:xfrm>
            <a:off x="1822320" y="152388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776" name="Line 3"/>
          <p:cNvSpPr/>
          <p:nvPr/>
        </p:nvSpPr>
        <p:spPr>
          <a:xfrm>
            <a:off x="392040" y="3027240"/>
            <a:ext cx="8294760" cy="0"/>
          </a:xfrm>
          <a:prstGeom prst="line">
            <a:avLst/>
          </a:prstGeom>
          <a:ln w="9360">
            <a:solidFill>
              <a:srgbClr val="45b9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4"/>
          <p:cNvSpPr/>
          <p:nvPr/>
        </p:nvSpPr>
        <p:spPr>
          <a:xfrm>
            <a:off x="392040" y="3618000"/>
            <a:ext cx="8294760" cy="0"/>
          </a:xfrm>
          <a:prstGeom prst="line">
            <a:avLst/>
          </a:prstGeom>
          <a:ln w="9360">
            <a:solidFill>
              <a:srgbClr val="45b9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5"/>
          <p:cNvSpPr/>
          <p:nvPr/>
        </p:nvSpPr>
        <p:spPr>
          <a:xfrm>
            <a:off x="392040" y="4294080"/>
            <a:ext cx="8294760" cy="0"/>
          </a:xfrm>
          <a:prstGeom prst="line">
            <a:avLst/>
          </a:prstGeom>
          <a:ln w="9360">
            <a:solidFill>
              <a:srgbClr val="45b9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6"/>
          <p:cNvSpPr/>
          <p:nvPr/>
        </p:nvSpPr>
        <p:spPr>
          <a:xfrm>
            <a:off x="392040" y="4997520"/>
            <a:ext cx="8294760" cy="0"/>
          </a:xfrm>
          <a:prstGeom prst="line">
            <a:avLst/>
          </a:prstGeom>
          <a:ln w="9360">
            <a:solidFill>
              <a:srgbClr val="45b99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2658960" y="4840200"/>
            <a:ext cx="3448080" cy="12398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5b99b"/>
              </a:gs>
              <a:gs pos="50000">
                <a:srgbClr val="194338"/>
              </a:gs>
              <a:gs pos="100000">
                <a:srgbClr val="45b9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Oval 8"/>
          <p:cNvSpPr/>
          <p:nvPr/>
        </p:nvSpPr>
        <p:spPr>
          <a:xfrm>
            <a:off x="2658960" y="4848120"/>
            <a:ext cx="3456000" cy="612720"/>
          </a:xfrm>
          <a:prstGeom prst="ellipse">
            <a:avLst/>
          </a:prstGeom>
          <a:gradFill rotWithShape="0">
            <a:gsLst>
              <a:gs pos="0">
                <a:srgbClr val="225c4d"/>
              </a:gs>
              <a:gs pos="100000">
                <a:srgbClr val="45b99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946240" y="4172040"/>
            <a:ext cx="2860920" cy="1062000"/>
            <a:chOff x="2946240" y="4172040"/>
            <a:chExt cx="2860920" cy="1062000"/>
          </a:xfrm>
        </p:grpSpPr>
        <p:sp>
          <p:nvSpPr>
            <p:cNvPr id="783" name="AutoShape 10"/>
            <p:cNvSpPr/>
            <p:nvPr/>
          </p:nvSpPr>
          <p:spPr>
            <a:xfrm>
              <a:off x="2946240" y="4172040"/>
              <a:ext cx="286092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fcb528"/>
                </a:gs>
                <a:gs pos="50000">
                  <a:srgbClr val="8d6616"/>
                </a:gs>
                <a:gs pos="100000">
                  <a:srgbClr val="fcb5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Oval 11"/>
            <p:cNvSpPr/>
            <p:nvPr/>
          </p:nvSpPr>
          <p:spPr>
            <a:xfrm>
              <a:off x="2946240" y="4177800"/>
              <a:ext cx="2860920" cy="525600"/>
            </a:xfrm>
            <a:prstGeom prst="ellipse">
              <a:avLst/>
            </a:prstGeom>
            <a:gradFill rotWithShape="0">
              <a:gsLst>
                <a:gs pos="0">
                  <a:srgbClr val="8d6616"/>
                </a:gs>
                <a:gs pos="100000">
                  <a:srgbClr val="fcb5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173400" y="3529080"/>
            <a:ext cx="2363760" cy="1003320"/>
            <a:chOff x="3173400" y="3529080"/>
            <a:chExt cx="2363760" cy="1003320"/>
          </a:xfrm>
        </p:grpSpPr>
        <p:sp>
          <p:nvSpPr>
            <p:cNvPr id="786" name="AutoShape 13"/>
            <p:cNvSpPr/>
            <p:nvPr/>
          </p:nvSpPr>
          <p:spPr>
            <a:xfrm>
              <a:off x="3178080" y="35290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45b99b"/>
                </a:gs>
                <a:gs pos="50000">
                  <a:srgbClr val="276857"/>
                </a:gs>
                <a:gs pos="100000">
                  <a:srgbClr val="45b99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Oval 14"/>
            <p:cNvSpPr/>
            <p:nvPr/>
          </p:nvSpPr>
          <p:spPr>
            <a:xfrm>
              <a:off x="3173400" y="3533760"/>
              <a:ext cx="2363760" cy="466920"/>
            </a:xfrm>
            <a:prstGeom prst="ellipse">
              <a:avLst/>
            </a:prstGeom>
            <a:gradFill rotWithShape="0">
              <a:gsLst>
                <a:gs pos="0">
                  <a:srgbClr val="276857"/>
                </a:gs>
                <a:gs pos="100000">
                  <a:srgbClr val="45b9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425760" y="2981160"/>
            <a:ext cx="1886040" cy="822600"/>
            <a:chOff x="3425760" y="2981160"/>
            <a:chExt cx="1886040" cy="822600"/>
          </a:xfrm>
        </p:grpSpPr>
        <p:sp>
          <p:nvSpPr>
            <p:cNvPr id="789" name="AutoShape 16"/>
            <p:cNvSpPr/>
            <p:nvPr/>
          </p:nvSpPr>
          <p:spPr>
            <a:xfrm>
              <a:off x="3425760" y="2981160"/>
              <a:ext cx="1886040" cy="82260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fcb528"/>
                </a:gs>
                <a:gs pos="50000">
                  <a:srgbClr val="a6771a"/>
                </a:gs>
                <a:gs pos="100000">
                  <a:srgbClr val="fcb5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7"/>
            <p:cNvSpPr/>
            <p:nvPr/>
          </p:nvSpPr>
          <p:spPr>
            <a:xfrm>
              <a:off x="3432600" y="2981160"/>
              <a:ext cx="1878840" cy="329040"/>
            </a:xfrm>
            <a:prstGeom prst="ellipse">
              <a:avLst/>
            </a:prstGeom>
            <a:gradFill rotWithShape="0">
              <a:gsLst>
                <a:gs pos="0">
                  <a:srgbClr val="c18a1f"/>
                </a:gs>
                <a:gs pos="100000">
                  <a:srgbClr val="fcb5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AutoShape 18"/>
          <p:cNvSpPr/>
          <p:nvPr/>
        </p:nvSpPr>
        <p:spPr>
          <a:xfrm>
            <a:off x="3662280" y="2575080"/>
            <a:ext cx="1473120" cy="560160"/>
          </a:xfrm>
          <a:prstGeom prst="can">
            <a:avLst>
              <a:gd name="adj" fmla="val 36643"/>
            </a:avLst>
          </a:prstGeom>
          <a:solidFill>
            <a:srgbClr val="45b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9"/>
          <p:cNvSpPr/>
          <p:nvPr/>
        </p:nvSpPr>
        <p:spPr>
          <a:xfrm>
            <a:off x="3571920" y="34131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0"/>
          <p:cNvSpPr/>
          <p:nvPr/>
        </p:nvSpPr>
        <p:spPr>
          <a:xfrm>
            <a:off x="3571920" y="40878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21"/>
          <p:cNvSpPr/>
          <p:nvPr/>
        </p:nvSpPr>
        <p:spPr>
          <a:xfrm>
            <a:off x="3571920" y="47782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3571920" y="56754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3571920" y="28144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178560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5"/>
          <p:cNvSpPr/>
          <p:nvPr/>
        </p:nvSpPr>
        <p:spPr>
          <a:xfrm>
            <a:off x="156168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134748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7"/>
          <p:cNvSpPr/>
          <p:nvPr/>
        </p:nvSpPr>
        <p:spPr>
          <a:xfrm>
            <a:off x="119340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8"/>
          <p:cNvSpPr/>
          <p:nvPr/>
        </p:nvSpPr>
        <p:spPr>
          <a:xfrm>
            <a:off x="107748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29"/>
          <p:cNvSpPr/>
          <p:nvPr/>
        </p:nvSpPr>
        <p:spPr>
          <a:xfrm>
            <a:off x="5405040" y="262584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Text Box 30"/>
          <p:cNvSpPr/>
          <p:nvPr/>
        </p:nvSpPr>
        <p:spPr>
          <a:xfrm>
            <a:off x="5686200" y="31590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31"/>
          <p:cNvSpPr/>
          <p:nvPr/>
        </p:nvSpPr>
        <p:spPr>
          <a:xfrm>
            <a:off x="5995800" y="377820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32"/>
          <p:cNvSpPr/>
          <p:nvPr/>
        </p:nvSpPr>
        <p:spPr>
          <a:xfrm>
            <a:off x="6232320" y="45226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33"/>
          <p:cNvSpPr/>
          <p:nvPr/>
        </p:nvSpPr>
        <p:spPr>
          <a:xfrm>
            <a:off x="6487920" y="5291280"/>
            <a:ext cx="17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34"/>
          <p:cNvSpPr/>
          <p:nvPr/>
        </p:nvSpPr>
        <p:spPr>
          <a:xfrm>
            <a:off x="1822320" y="1600200"/>
            <a:ext cx="52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35"/>
          <p:cNvSpPr/>
          <p:nvPr/>
        </p:nvSpPr>
        <p:spPr>
          <a:xfrm>
            <a:off x="3139920" y="623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130480" y="3230640"/>
            <a:ext cx="4905360" cy="2425320"/>
            <a:chOff x="2130480" y="3230640"/>
            <a:chExt cx="4905360" cy="2425320"/>
          </a:xfrm>
        </p:grpSpPr>
        <p:sp>
          <p:nvSpPr>
            <p:cNvPr id="811" name="AutoShape 4"/>
            <p:cNvSpPr/>
            <p:nvPr/>
          </p:nvSpPr>
          <p:spPr>
            <a:xfrm>
              <a:off x="2130480" y="338076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AutoShape 5"/>
            <p:cNvSpPr/>
            <p:nvPr/>
          </p:nvSpPr>
          <p:spPr>
            <a:xfrm>
              <a:off x="2130480" y="3238200"/>
              <a:ext cx="4905360" cy="227556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560"/>
                <a:gd name="textAreaBottom" fmla="*/ 1942560 h 227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c3c1"/>
                </a:gs>
                <a:gs pos="50000">
                  <a:srgbClr val="e87774"/>
                </a:gs>
                <a:gs pos="100000">
                  <a:srgbClr val="f5c3c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6"/>
            <p:cNvSpPr/>
            <p:nvPr/>
          </p:nvSpPr>
          <p:spPr>
            <a:xfrm flipV="1">
              <a:off x="4563000" y="323064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164400" y="388116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"/>
            <p:cNvSpPr/>
            <p:nvPr/>
          </p:nvSpPr>
          <p:spPr>
            <a:xfrm>
              <a:off x="5961240" y="386172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9"/>
            <p:cNvSpPr/>
            <p:nvPr/>
          </p:nvSpPr>
          <p:spPr>
            <a:xfrm flipV="1">
              <a:off x="5961240" y="364788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H="1" flipV="1">
              <a:off x="2671920" y="365652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1"/>
            <p:cNvSpPr/>
            <p:nvPr/>
          </p:nvSpPr>
          <p:spPr>
            <a:xfrm flipH="1">
              <a:off x="3245760" y="5060160"/>
              <a:ext cx="37692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5703480" y="5007240"/>
              <a:ext cx="47268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 flipH="1">
              <a:off x="3237840" y="532692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>
              <a:off x="6169680" y="523908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2" name="Line 15"/>
          <p:cNvSpPr/>
          <p:nvPr/>
        </p:nvSpPr>
        <p:spPr>
          <a:xfrm>
            <a:off x="3689280" y="3057480"/>
            <a:ext cx="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5508720" y="3013200"/>
            <a:ext cx="0" cy="480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17"/>
          <p:cNvSpPr/>
          <p:nvPr/>
        </p:nvSpPr>
        <p:spPr>
          <a:xfrm flipV="1">
            <a:off x="4668840" y="5356080"/>
            <a:ext cx="0" cy="534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18"/>
          <p:cNvSpPr/>
          <p:nvPr/>
        </p:nvSpPr>
        <p:spPr>
          <a:xfrm flipH="1">
            <a:off x="6640200" y="4319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19"/>
          <p:cNvSpPr/>
          <p:nvPr/>
        </p:nvSpPr>
        <p:spPr>
          <a:xfrm>
            <a:off x="1903320" y="4319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2840040" y="2622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4681440" y="26226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7218360" y="415620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3821040" y="5911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301680" y="415620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700440" y="412272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a3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AutoShape 26"/>
          <p:cNvSpPr/>
          <p:nvPr/>
        </p:nvSpPr>
        <p:spPr>
          <a:xfrm>
            <a:off x="3382920" y="378936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45b99b"/>
              </a:gs>
              <a:gs pos="100000">
                <a:srgbClr val="a7de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AutoShape 27"/>
          <p:cNvSpPr/>
          <p:nvPr/>
        </p:nvSpPr>
        <p:spPr>
          <a:xfrm flipH="1" flipV="1">
            <a:off x="3461760" y="442116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fcb528"/>
              </a:gs>
              <a:gs pos="100000">
                <a:srgbClr val="fdd7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Rectangle 28"/>
          <p:cNvSpPr/>
          <p:nvPr/>
        </p:nvSpPr>
        <p:spPr>
          <a:xfrm>
            <a:off x="762120" y="16002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2089080" y="5184720"/>
            <a:ext cx="507384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587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089080" y="4346640"/>
            <a:ext cx="507384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cb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089080" y="3508200"/>
            <a:ext cx="507384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5b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2089080" y="2668680"/>
            <a:ext cx="507384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e8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ontents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009880" y="2651040"/>
            <a:ext cx="523800" cy="526680"/>
            <a:chOff x="2009880" y="2651040"/>
            <a:chExt cx="523800" cy="526680"/>
          </a:xfrm>
        </p:grpSpPr>
        <p:sp>
          <p:nvSpPr>
            <p:cNvPr id="118" name="Oval 8"/>
            <p:cNvSpPr/>
            <p:nvPr/>
          </p:nvSpPr>
          <p:spPr>
            <a:xfrm>
              <a:off x="2009880" y="2652120"/>
              <a:ext cx="523800" cy="525600"/>
            </a:xfrm>
            <a:prstGeom prst="ellipse">
              <a:avLst/>
            </a:prstGeom>
            <a:solidFill>
              <a:srgbClr val="e87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" name="Picture 9" descr="drop"/>
            <p:cNvPicPr/>
            <p:nvPr/>
          </p:nvPicPr>
          <p:blipFill>
            <a:blip r:embed="rId1"/>
            <a:stretch/>
          </p:blipFill>
          <p:spPr>
            <a:xfrm>
              <a:off x="2010240" y="2651040"/>
              <a:ext cx="51984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Text Box 10"/>
          <p:cNvSpPr/>
          <p:nvPr/>
        </p:nvSpPr>
        <p:spPr>
          <a:xfrm>
            <a:off x="2055960" y="261936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09880" y="3490920"/>
            <a:ext cx="523800" cy="527040"/>
            <a:chOff x="2009880" y="3490920"/>
            <a:chExt cx="523800" cy="527040"/>
          </a:xfrm>
        </p:grpSpPr>
        <p:sp>
          <p:nvSpPr>
            <p:cNvPr id="122" name="Oval 12"/>
            <p:cNvSpPr/>
            <p:nvPr/>
          </p:nvSpPr>
          <p:spPr>
            <a:xfrm>
              <a:off x="2009880" y="3492360"/>
              <a:ext cx="523800" cy="525600"/>
            </a:xfrm>
            <a:prstGeom prst="ellipse">
              <a:avLst/>
            </a:prstGeom>
            <a:solidFill>
              <a:srgbClr val="45b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13" descr="drop"/>
            <p:cNvPicPr/>
            <p:nvPr/>
          </p:nvPicPr>
          <p:blipFill>
            <a:blip r:embed="rId2"/>
            <a:stretch/>
          </p:blipFill>
          <p:spPr>
            <a:xfrm>
              <a:off x="2013120" y="349092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14"/>
          <p:cNvSpPr/>
          <p:nvPr/>
        </p:nvSpPr>
        <p:spPr>
          <a:xfrm>
            <a:off x="2060640" y="345924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09880" y="4329000"/>
            <a:ext cx="523800" cy="527040"/>
            <a:chOff x="2009880" y="4329000"/>
            <a:chExt cx="523800" cy="527040"/>
          </a:xfrm>
        </p:grpSpPr>
        <p:sp>
          <p:nvSpPr>
            <p:cNvPr id="126" name="Oval 16"/>
            <p:cNvSpPr/>
            <p:nvPr/>
          </p:nvSpPr>
          <p:spPr>
            <a:xfrm>
              <a:off x="2009880" y="4330440"/>
              <a:ext cx="523800" cy="525600"/>
            </a:xfrm>
            <a:prstGeom prst="ellipse">
              <a:avLst/>
            </a:prstGeom>
            <a:solidFill>
              <a:srgbClr val="fcb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17" descr="drop"/>
            <p:cNvPicPr/>
            <p:nvPr/>
          </p:nvPicPr>
          <p:blipFill>
            <a:blip r:embed="rId3"/>
            <a:stretch/>
          </p:blipFill>
          <p:spPr>
            <a:xfrm>
              <a:off x="2013120" y="432900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 Box 18"/>
          <p:cNvSpPr/>
          <p:nvPr/>
        </p:nvSpPr>
        <p:spPr>
          <a:xfrm>
            <a:off x="2063880" y="4297320"/>
            <a:ext cx="3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09880" y="5167440"/>
            <a:ext cx="523800" cy="527040"/>
            <a:chOff x="2009880" y="5167440"/>
            <a:chExt cx="523800" cy="527040"/>
          </a:xfrm>
        </p:grpSpPr>
        <p:sp>
          <p:nvSpPr>
            <p:cNvPr id="130" name="Oval 20"/>
            <p:cNvSpPr/>
            <p:nvPr/>
          </p:nvSpPr>
          <p:spPr>
            <a:xfrm>
              <a:off x="2009880" y="5168880"/>
              <a:ext cx="523800" cy="525600"/>
            </a:xfrm>
            <a:prstGeom prst="ellipse">
              <a:avLst/>
            </a:prstGeom>
            <a:solidFill>
              <a:srgbClr val="587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Picture 21" descr="drop"/>
            <p:cNvPicPr/>
            <p:nvPr/>
          </p:nvPicPr>
          <p:blipFill>
            <a:blip r:embed="rId4"/>
            <a:stretch/>
          </p:blipFill>
          <p:spPr>
            <a:xfrm>
              <a:off x="2013120" y="516744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22"/>
          <p:cNvSpPr/>
          <p:nvPr/>
        </p:nvSpPr>
        <p:spPr>
          <a:xfrm>
            <a:off x="2055960" y="5135400"/>
            <a:ext cx="3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2584440" y="268920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2584440" y="352908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2584440" y="436716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584440" y="520704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1981080" y="170496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838" name="AutoShape 3"/>
          <p:cNvSpPr/>
          <p:nvPr/>
        </p:nvSpPr>
        <p:spPr>
          <a:xfrm>
            <a:off x="762120" y="1600200"/>
            <a:ext cx="7518240" cy="4195800"/>
          </a:xfrm>
          <a:prstGeom prst="roundRect">
            <a:avLst>
              <a:gd name="adj" fmla="val 8097"/>
            </a:avLst>
          </a:prstGeom>
          <a:solidFill>
            <a:srgbClr val="0e74c8">
              <a:alpha val="2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utoShape 4"/>
          <p:cNvSpPr/>
          <p:nvPr/>
        </p:nvSpPr>
        <p:spPr>
          <a:xfrm>
            <a:off x="1650960" y="5334120"/>
            <a:ext cx="5791320" cy="826920"/>
          </a:xfrm>
          <a:prstGeom prst="roundRect">
            <a:avLst>
              <a:gd name="adj" fmla="val 16315"/>
            </a:avLst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  <a:effectLst>
            <a:outerShdw dist="12600" dir="54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AutoShape 5"/>
          <p:cNvSpPr/>
          <p:nvPr/>
        </p:nvSpPr>
        <p:spPr>
          <a:xfrm>
            <a:off x="613404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AutoShape 6"/>
          <p:cNvSpPr/>
          <p:nvPr/>
        </p:nvSpPr>
        <p:spPr>
          <a:xfrm>
            <a:off x="451944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AutoShape 7"/>
          <p:cNvSpPr/>
          <p:nvPr/>
        </p:nvSpPr>
        <p:spPr>
          <a:xfrm>
            <a:off x="2908440" y="19605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AutoShape 8"/>
          <p:cNvSpPr/>
          <p:nvPr/>
        </p:nvSpPr>
        <p:spPr>
          <a:xfrm>
            <a:off x="1293840" y="19605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2108160" y="5410080"/>
            <a:ext cx="4678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AutoShape 10"/>
          <p:cNvSpPr/>
          <p:nvPr/>
        </p:nvSpPr>
        <p:spPr>
          <a:xfrm>
            <a:off x="1576440" y="1962000"/>
            <a:ext cx="981000" cy="62388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1536840" y="20350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AutoShape 12"/>
          <p:cNvSpPr/>
          <p:nvPr/>
        </p:nvSpPr>
        <p:spPr>
          <a:xfrm>
            <a:off x="3170160" y="1963800"/>
            <a:ext cx="981000" cy="1214280"/>
          </a:xfrm>
          <a:prstGeom prst="downArrow">
            <a:avLst>
              <a:gd name="adj1" fmla="val 77269"/>
              <a:gd name="adj2" fmla="val 2883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AutoShape 13"/>
          <p:cNvSpPr/>
          <p:nvPr/>
        </p:nvSpPr>
        <p:spPr>
          <a:xfrm>
            <a:off x="4786200" y="1963800"/>
            <a:ext cx="981360" cy="1582560"/>
          </a:xfrm>
          <a:prstGeom prst="downArrow">
            <a:avLst>
              <a:gd name="adj1" fmla="val 77269"/>
              <a:gd name="adj2" fmla="val 3756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4"/>
          <p:cNvSpPr/>
          <p:nvPr/>
        </p:nvSpPr>
        <p:spPr>
          <a:xfrm>
            <a:off x="6408720" y="1963800"/>
            <a:ext cx="981000" cy="178740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3152880" y="19969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6"/>
          <p:cNvSpPr/>
          <p:nvPr/>
        </p:nvSpPr>
        <p:spPr>
          <a:xfrm>
            <a:off x="4756320" y="199692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6378480" y="19890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289160" y="4308480"/>
            <a:ext cx="1553760" cy="704880"/>
            <a:chOff x="1289160" y="4308480"/>
            <a:chExt cx="1553760" cy="704880"/>
          </a:xfrm>
        </p:grpSpPr>
        <p:sp>
          <p:nvSpPr>
            <p:cNvPr id="854" name="AutoShape 19"/>
            <p:cNvSpPr/>
            <p:nvPr/>
          </p:nvSpPr>
          <p:spPr>
            <a:xfrm>
              <a:off x="1289160" y="43084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AutoShape 20"/>
            <p:cNvSpPr/>
            <p:nvPr/>
          </p:nvSpPr>
          <p:spPr>
            <a:xfrm>
              <a:off x="1290240" y="43095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908440" y="4308480"/>
            <a:ext cx="1553760" cy="704880"/>
            <a:chOff x="2908440" y="4308480"/>
            <a:chExt cx="1553760" cy="704880"/>
          </a:xfrm>
        </p:grpSpPr>
        <p:sp>
          <p:nvSpPr>
            <p:cNvPr id="857" name="AutoShape 22"/>
            <p:cNvSpPr/>
            <p:nvPr/>
          </p:nvSpPr>
          <p:spPr>
            <a:xfrm>
              <a:off x="2908440" y="43084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76664"/>
                </a:gs>
                <a:gs pos="100000">
                  <a:srgbClr val="e8777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AutoShape 23"/>
            <p:cNvSpPr/>
            <p:nvPr/>
          </p:nvSpPr>
          <p:spPr>
            <a:xfrm>
              <a:off x="2909520" y="43095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f1ae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525920" y="4308480"/>
            <a:ext cx="1553760" cy="704880"/>
            <a:chOff x="4525920" y="4308480"/>
            <a:chExt cx="1553760" cy="704880"/>
          </a:xfrm>
        </p:grpSpPr>
        <p:sp>
          <p:nvSpPr>
            <p:cNvPr id="860" name="AutoShape 25"/>
            <p:cNvSpPr/>
            <p:nvPr/>
          </p:nvSpPr>
          <p:spPr>
            <a:xfrm>
              <a:off x="4525920" y="43084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69bb"/>
                </a:gs>
                <a:gs pos="100000">
                  <a:srgbClr val="587a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AutoShape 26"/>
            <p:cNvSpPr/>
            <p:nvPr/>
          </p:nvSpPr>
          <p:spPr>
            <a:xfrm>
              <a:off x="4527000" y="43095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87ada"/>
                </a:gs>
                <a:gs pos="100000">
                  <a:srgbClr val="9cb0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129360" y="4308480"/>
            <a:ext cx="1553760" cy="704880"/>
            <a:chOff x="6129360" y="4308480"/>
            <a:chExt cx="1553760" cy="704880"/>
          </a:xfrm>
        </p:grpSpPr>
        <p:sp>
          <p:nvSpPr>
            <p:cNvPr id="863" name="AutoShape 28"/>
            <p:cNvSpPr/>
            <p:nvPr/>
          </p:nvSpPr>
          <p:spPr>
            <a:xfrm>
              <a:off x="6129360" y="430848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89b22"/>
                </a:gs>
                <a:gs pos="100000">
                  <a:srgbClr val="fcb5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AutoShape 29"/>
            <p:cNvSpPr/>
            <p:nvPr/>
          </p:nvSpPr>
          <p:spPr>
            <a:xfrm>
              <a:off x="6130440" y="4309560"/>
              <a:ext cx="1552680" cy="28188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cb528"/>
                </a:gs>
                <a:gs pos="100000">
                  <a:srgbClr val="fdd17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Text Box 30"/>
          <p:cNvSpPr/>
          <p:nvPr/>
        </p:nvSpPr>
        <p:spPr>
          <a:xfrm>
            <a:off x="1355760" y="463536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2970360" y="463536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4591080" y="4635360"/>
            <a:ext cx="1427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33"/>
          <p:cNvSpPr/>
          <p:nvPr/>
        </p:nvSpPr>
        <p:spPr>
          <a:xfrm>
            <a:off x="6183360" y="4635360"/>
            <a:ext cx="142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34"/>
          <p:cNvSpPr/>
          <p:nvPr/>
        </p:nvSpPr>
        <p:spPr>
          <a:xfrm>
            <a:off x="1306440" y="431172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35"/>
          <p:cNvSpPr/>
          <p:nvPr/>
        </p:nvSpPr>
        <p:spPr>
          <a:xfrm>
            <a:off x="2924280" y="431172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36"/>
          <p:cNvSpPr/>
          <p:nvPr/>
        </p:nvSpPr>
        <p:spPr>
          <a:xfrm>
            <a:off x="4546440" y="4311720"/>
            <a:ext cx="363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37"/>
          <p:cNvSpPr/>
          <p:nvPr/>
        </p:nvSpPr>
        <p:spPr>
          <a:xfrm>
            <a:off x="6135840" y="4311720"/>
            <a:ext cx="365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292400" y="4114800"/>
            <a:ext cx="1550520" cy="154080"/>
            <a:chOff x="1292400" y="4114800"/>
            <a:chExt cx="1550520" cy="154080"/>
          </a:xfrm>
        </p:grpSpPr>
        <p:sp>
          <p:nvSpPr>
            <p:cNvPr id="874" name="AutoShape 39"/>
            <p:cNvSpPr/>
            <p:nvPr/>
          </p:nvSpPr>
          <p:spPr>
            <a:xfrm>
              <a:off x="1292400" y="4114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AutoShape 40"/>
            <p:cNvSpPr/>
            <p:nvPr/>
          </p:nvSpPr>
          <p:spPr>
            <a:xfrm>
              <a:off x="1293480" y="4114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1292400" y="3960720"/>
            <a:ext cx="1550520" cy="152640"/>
            <a:chOff x="1292400" y="3960720"/>
            <a:chExt cx="1550520" cy="152640"/>
          </a:xfrm>
        </p:grpSpPr>
        <p:sp>
          <p:nvSpPr>
            <p:cNvPr id="877" name="AutoShape 42"/>
            <p:cNvSpPr/>
            <p:nvPr/>
          </p:nvSpPr>
          <p:spPr>
            <a:xfrm>
              <a:off x="1292400" y="39607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AutoShape 43"/>
            <p:cNvSpPr/>
            <p:nvPr/>
          </p:nvSpPr>
          <p:spPr>
            <a:xfrm>
              <a:off x="1293480" y="39607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292400" y="3773520"/>
            <a:ext cx="1550520" cy="154080"/>
            <a:chOff x="1292400" y="3773520"/>
            <a:chExt cx="1550520" cy="154080"/>
          </a:xfrm>
        </p:grpSpPr>
        <p:sp>
          <p:nvSpPr>
            <p:cNvPr id="880" name="AutoShape 45"/>
            <p:cNvSpPr/>
            <p:nvPr/>
          </p:nvSpPr>
          <p:spPr>
            <a:xfrm>
              <a:off x="1292400" y="3773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AutoShape 46"/>
            <p:cNvSpPr/>
            <p:nvPr/>
          </p:nvSpPr>
          <p:spPr>
            <a:xfrm>
              <a:off x="1293480" y="3773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292400" y="3586320"/>
            <a:ext cx="1550520" cy="153720"/>
            <a:chOff x="1292400" y="3586320"/>
            <a:chExt cx="1550520" cy="153720"/>
          </a:xfrm>
        </p:grpSpPr>
        <p:sp>
          <p:nvSpPr>
            <p:cNvPr id="883" name="AutoShape 48"/>
            <p:cNvSpPr/>
            <p:nvPr/>
          </p:nvSpPr>
          <p:spPr>
            <a:xfrm>
              <a:off x="1292400" y="3586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AutoShape 49"/>
            <p:cNvSpPr/>
            <p:nvPr/>
          </p:nvSpPr>
          <p:spPr>
            <a:xfrm>
              <a:off x="1293480" y="35863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292400" y="3403440"/>
            <a:ext cx="1550520" cy="154080"/>
            <a:chOff x="1292400" y="3403440"/>
            <a:chExt cx="1550520" cy="154080"/>
          </a:xfrm>
        </p:grpSpPr>
        <p:sp>
          <p:nvSpPr>
            <p:cNvPr id="886" name="AutoShape 51"/>
            <p:cNvSpPr/>
            <p:nvPr/>
          </p:nvSpPr>
          <p:spPr>
            <a:xfrm>
              <a:off x="1292400" y="34034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AutoShape 52"/>
            <p:cNvSpPr/>
            <p:nvPr/>
          </p:nvSpPr>
          <p:spPr>
            <a:xfrm>
              <a:off x="1293480" y="34034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292400" y="3216240"/>
            <a:ext cx="1550520" cy="154080"/>
            <a:chOff x="1292400" y="3216240"/>
            <a:chExt cx="1550520" cy="154080"/>
          </a:xfrm>
        </p:grpSpPr>
        <p:sp>
          <p:nvSpPr>
            <p:cNvPr id="889" name="AutoShape 54"/>
            <p:cNvSpPr/>
            <p:nvPr/>
          </p:nvSpPr>
          <p:spPr>
            <a:xfrm>
              <a:off x="1292400" y="3216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55"/>
            <p:cNvSpPr/>
            <p:nvPr/>
          </p:nvSpPr>
          <p:spPr>
            <a:xfrm>
              <a:off x="1293480" y="3216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1292400" y="3029040"/>
            <a:ext cx="1550520" cy="153720"/>
            <a:chOff x="1292400" y="3029040"/>
            <a:chExt cx="1550520" cy="153720"/>
          </a:xfrm>
        </p:grpSpPr>
        <p:sp>
          <p:nvSpPr>
            <p:cNvPr id="892" name="AutoShape 57"/>
            <p:cNvSpPr/>
            <p:nvPr/>
          </p:nvSpPr>
          <p:spPr>
            <a:xfrm>
              <a:off x="1292400" y="3029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AutoShape 58"/>
            <p:cNvSpPr/>
            <p:nvPr/>
          </p:nvSpPr>
          <p:spPr>
            <a:xfrm>
              <a:off x="1293480" y="30290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92400" y="2843280"/>
            <a:ext cx="1550520" cy="154080"/>
            <a:chOff x="1292400" y="2843280"/>
            <a:chExt cx="1550520" cy="154080"/>
          </a:xfrm>
        </p:grpSpPr>
        <p:sp>
          <p:nvSpPr>
            <p:cNvPr id="895" name="AutoShape 60"/>
            <p:cNvSpPr/>
            <p:nvPr/>
          </p:nvSpPr>
          <p:spPr>
            <a:xfrm>
              <a:off x="1292400" y="284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b9f85"/>
                </a:gs>
                <a:gs pos="100000">
                  <a:srgbClr val="45b99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AutoShape 61"/>
            <p:cNvSpPr/>
            <p:nvPr/>
          </p:nvSpPr>
          <p:spPr>
            <a:xfrm>
              <a:off x="1293480" y="284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b99b"/>
                </a:gs>
                <a:gs pos="100000">
                  <a:srgbClr val="7ece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916360" y="4114800"/>
            <a:ext cx="1550520" cy="154080"/>
            <a:chOff x="2916360" y="4114800"/>
            <a:chExt cx="1550520" cy="154080"/>
          </a:xfrm>
        </p:grpSpPr>
        <p:sp>
          <p:nvSpPr>
            <p:cNvPr id="898" name="AutoShape 63"/>
            <p:cNvSpPr/>
            <p:nvPr/>
          </p:nvSpPr>
          <p:spPr>
            <a:xfrm>
              <a:off x="2916360" y="411480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e87774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AutoShape 64"/>
            <p:cNvSpPr/>
            <p:nvPr/>
          </p:nvSpPr>
          <p:spPr>
            <a:xfrm>
              <a:off x="2917440" y="4114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efa1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2916360" y="3960720"/>
            <a:ext cx="1550520" cy="152640"/>
            <a:chOff x="2916360" y="3960720"/>
            <a:chExt cx="1550520" cy="152640"/>
          </a:xfrm>
        </p:grpSpPr>
        <p:sp>
          <p:nvSpPr>
            <p:cNvPr id="901" name="AutoShape 66"/>
            <p:cNvSpPr/>
            <p:nvPr/>
          </p:nvSpPr>
          <p:spPr>
            <a:xfrm>
              <a:off x="2916360" y="39607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76664"/>
                </a:gs>
                <a:gs pos="100000">
                  <a:srgbClr val="e8777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AutoShape 67"/>
            <p:cNvSpPr/>
            <p:nvPr/>
          </p:nvSpPr>
          <p:spPr>
            <a:xfrm>
              <a:off x="2917440" y="39607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efa1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4518000" y="4114800"/>
            <a:ext cx="1549080" cy="154080"/>
            <a:chOff x="4518000" y="4114800"/>
            <a:chExt cx="1549080" cy="154080"/>
          </a:xfrm>
        </p:grpSpPr>
        <p:sp>
          <p:nvSpPr>
            <p:cNvPr id="904" name="AutoShape 69"/>
            <p:cNvSpPr/>
            <p:nvPr/>
          </p:nvSpPr>
          <p:spPr>
            <a:xfrm>
              <a:off x="4518000" y="41148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87a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AutoShape 70"/>
            <p:cNvSpPr/>
            <p:nvPr/>
          </p:nvSpPr>
          <p:spPr>
            <a:xfrm>
              <a:off x="451908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7ada"/>
                </a:gs>
                <a:gs pos="100000">
                  <a:srgbClr val="8ba3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129360" y="4114800"/>
            <a:ext cx="1549080" cy="154080"/>
            <a:chOff x="6129360" y="4114800"/>
            <a:chExt cx="1549080" cy="154080"/>
          </a:xfrm>
        </p:grpSpPr>
        <p:sp>
          <p:nvSpPr>
            <p:cNvPr id="907" name="AutoShape 72"/>
            <p:cNvSpPr/>
            <p:nvPr/>
          </p:nvSpPr>
          <p:spPr>
            <a:xfrm>
              <a:off x="6129360" y="411480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89b22"/>
                </a:gs>
                <a:gs pos="100000">
                  <a:srgbClr val="fcb5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AutoShape 73"/>
            <p:cNvSpPr/>
            <p:nvPr/>
          </p:nvSpPr>
          <p:spPr>
            <a:xfrm>
              <a:off x="6130440" y="41148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b528"/>
                </a:gs>
                <a:gs pos="100000">
                  <a:srgbClr val="fdcc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2916360" y="3774960"/>
            <a:ext cx="1550520" cy="152640"/>
            <a:chOff x="2916360" y="3774960"/>
            <a:chExt cx="1550520" cy="152640"/>
          </a:xfrm>
        </p:grpSpPr>
        <p:sp>
          <p:nvSpPr>
            <p:cNvPr id="910" name="AutoShape 75"/>
            <p:cNvSpPr/>
            <p:nvPr/>
          </p:nvSpPr>
          <p:spPr>
            <a:xfrm>
              <a:off x="2916360" y="37749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76664"/>
                </a:gs>
                <a:gs pos="100000">
                  <a:srgbClr val="e8777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AutoShape 76"/>
            <p:cNvSpPr/>
            <p:nvPr/>
          </p:nvSpPr>
          <p:spPr>
            <a:xfrm>
              <a:off x="2917440" y="3774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efa1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916360" y="3597120"/>
            <a:ext cx="1550520" cy="152640"/>
            <a:chOff x="2916360" y="3597120"/>
            <a:chExt cx="1550520" cy="152640"/>
          </a:xfrm>
        </p:grpSpPr>
        <p:sp>
          <p:nvSpPr>
            <p:cNvPr id="913" name="AutoShape 78"/>
            <p:cNvSpPr/>
            <p:nvPr/>
          </p:nvSpPr>
          <p:spPr>
            <a:xfrm>
              <a:off x="2916360" y="35971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76664"/>
                </a:gs>
                <a:gs pos="100000">
                  <a:srgbClr val="e8777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AutoShape 79"/>
            <p:cNvSpPr/>
            <p:nvPr/>
          </p:nvSpPr>
          <p:spPr>
            <a:xfrm>
              <a:off x="2917440" y="35971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efa1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916360" y="3411360"/>
            <a:ext cx="1550520" cy="152640"/>
            <a:chOff x="2916360" y="3411360"/>
            <a:chExt cx="1550520" cy="152640"/>
          </a:xfrm>
        </p:grpSpPr>
        <p:sp>
          <p:nvSpPr>
            <p:cNvPr id="916" name="AutoShape 81"/>
            <p:cNvSpPr/>
            <p:nvPr/>
          </p:nvSpPr>
          <p:spPr>
            <a:xfrm>
              <a:off x="2916360" y="34113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76664"/>
                </a:gs>
                <a:gs pos="100000">
                  <a:srgbClr val="e87774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AutoShape 82"/>
            <p:cNvSpPr/>
            <p:nvPr/>
          </p:nvSpPr>
          <p:spPr>
            <a:xfrm>
              <a:off x="2917440" y="34113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7774"/>
                </a:gs>
                <a:gs pos="100000">
                  <a:srgbClr val="efa1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4518000" y="3959280"/>
            <a:ext cx="1549080" cy="154080"/>
            <a:chOff x="4518000" y="3959280"/>
            <a:chExt cx="1549080" cy="154080"/>
          </a:xfrm>
        </p:grpSpPr>
        <p:sp>
          <p:nvSpPr>
            <p:cNvPr id="919" name="AutoShape 84"/>
            <p:cNvSpPr/>
            <p:nvPr/>
          </p:nvSpPr>
          <p:spPr>
            <a:xfrm>
              <a:off x="4518000" y="395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87a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AutoShape 85"/>
            <p:cNvSpPr/>
            <p:nvPr/>
          </p:nvSpPr>
          <p:spPr>
            <a:xfrm>
              <a:off x="4519080" y="395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7ada"/>
                </a:gs>
                <a:gs pos="100000">
                  <a:srgbClr val="8ba3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4518000" y="3773520"/>
            <a:ext cx="1549080" cy="154080"/>
            <a:chOff x="4518000" y="3773520"/>
            <a:chExt cx="1549080" cy="154080"/>
          </a:xfrm>
        </p:grpSpPr>
        <p:sp>
          <p:nvSpPr>
            <p:cNvPr id="922" name="AutoShape 87"/>
            <p:cNvSpPr/>
            <p:nvPr/>
          </p:nvSpPr>
          <p:spPr>
            <a:xfrm>
              <a:off x="4518000" y="37735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587a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88"/>
            <p:cNvSpPr/>
            <p:nvPr/>
          </p:nvSpPr>
          <p:spPr>
            <a:xfrm>
              <a:off x="4519080" y="37735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87ada"/>
                </a:gs>
                <a:gs pos="100000">
                  <a:srgbClr val="8ba3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6129360" y="3951360"/>
            <a:ext cx="1549080" cy="154080"/>
            <a:chOff x="6129360" y="3951360"/>
            <a:chExt cx="1549080" cy="154080"/>
          </a:xfrm>
        </p:grpSpPr>
        <p:sp>
          <p:nvSpPr>
            <p:cNvPr id="925" name="AutoShape 90"/>
            <p:cNvSpPr/>
            <p:nvPr/>
          </p:nvSpPr>
          <p:spPr>
            <a:xfrm>
              <a:off x="6129360" y="39513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89b22"/>
                </a:gs>
                <a:gs pos="100000">
                  <a:srgbClr val="fcb5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AutoShape 91"/>
            <p:cNvSpPr/>
            <p:nvPr/>
          </p:nvSpPr>
          <p:spPr>
            <a:xfrm>
              <a:off x="6130440" y="39513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b528"/>
                </a:gs>
                <a:gs pos="100000">
                  <a:srgbClr val="fdcc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928" name="AutoShape 3"/>
          <p:cNvSpPr/>
          <p:nvPr/>
        </p:nvSpPr>
        <p:spPr>
          <a:xfrm>
            <a:off x="1214280" y="516564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1430280" y="4978440"/>
            <a:ext cx="2712960" cy="417240"/>
            <a:chOff x="1430280" y="4978440"/>
            <a:chExt cx="2712960" cy="417240"/>
          </a:xfrm>
        </p:grpSpPr>
        <p:sp>
          <p:nvSpPr>
            <p:cNvPr id="930" name="AutoShape 5"/>
            <p:cNvSpPr/>
            <p:nvPr/>
          </p:nvSpPr>
          <p:spPr>
            <a:xfrm>
              <a:off x="1430280" y="4978440"/>
              <a:ext cx="2712960" cy="417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AutoShape 6"/>
            <p:cNvSpPr/>
            <p:nvPr/>
          </p:nvSpPr>
          <p:spPr>
            <a:xfrm>
              <a:off x="1448640" y="498168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AutoShape 7"/>
          <p:cNvSpPr/>
          <p:nvPr/>
        </p:nvSpPr>
        <p:spPr>
          <a:xfrm>
            <a:off x="4653000" y="516564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867200" y="4978440"/>
            <a:ext cx="2712960" cy="417240"/>
            <a:chOff x="4867200" y="4978440"/>
            <a:chExt cx="2712960" cy="417240"/>
          </a:xfrm>
        </p:grpSpPr>
        <p:sp>
          <p:nvSpPr>
            <p:cNvPr id="934" name="AutoShape 9"/>
            <p:cNvSpPr/>
            <p:nvPr/>
          </p:nvSpPr>
          <p:spPr>
            <a:xfrm>
              <a:off x="4867200" y="4978440"/>
              <a:ext cx="2712960" cy="417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AutoShape 10"/>
            <p:cNvSpPr/>
            <p:nvPr/>
          </p:nvSpPr>
          <p:spPr>
            <a:xfrm>
              <a:off x="4885560" y="498168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950760" y="4405320"/>
            <a:ext cx="7354800" cy="519120"/>
            <a:chOff x="950760" y="4405320"/>
            <a:chExt cx="7354800" cy="519120"/>
          </a:xfrm>
        </p:grpSpPr>
        <p:sp>
          <p:nvSpPr>
            <p:cNvPr id="937" name="AutoShape 12"/>
            <p:cNvSpPr/>
            <p:nvPr/>
          </p:nvSpPr>
          <p:spPr>
            <a:xfrm>
              <a:off x="950760" y="453204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2d201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AutoShape 13"/>
            <p:cNvSpPr/>
            <p:nvPr/>
          </p:nvSpPr>
          <p:spPr>
            <a:xfrm>
              <a:off x="1071360" y="4405320"/>
              <a:ext cx="7234200" cy="519120"/>
            </a:xfrm>
            <a:prstGeom prst="rightArrow">
              <a:avLst>
                <a:gd name="adj1" fmla="val 50000"/>
                <a:gd name="adj2" fmla="val 63226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2d201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4"/>
          <p:cNvSpPr/>
          <p:nvPr/>
        </p:nvSpPr>
        <p:spPr>
          <a:xfrm>
            <a:off x="1859040" y="449424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4251240" y="44942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6475320" y="449424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17"/>
          <p:cNvSpPr/>
          <p:nvPr/>
        </p:nvSpPr>
        <p:spPr>
          <a:xfrm flipV="1">
            <a:off x="1214280" y="2703600"/>
            <a:ext cx="0" cy="1790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18"/>
          <p:cNvSpPr/>
          <p:nvPr/>
        </p:nvSpPr>
        <p:spPr>
          <a:xfrm flipV="1">
            <a:off x="3429000" y="2387520"/>
            <a:ext cx="0" cy="2106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 flipV="1">
            <a:off x="5629320" y="1959120"/>
            <a:ext cx="0" cy="253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Line 20"/>
          <p:cNvSpPr/>
          <p:nvPr/>
        </p:nvSpPr>
        <p:spPr>
          <a:xfrm flipV="1">
            <a:off x="7850160" y="1599840"/>
            <a:ext cx="0" cy="28940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AutoShape 21"/>
          <p:cNvSpPr/>
          <p:nvPr/>
        </p:nvSpPr>
        <p:spPr>
          <a:xfrm>
            <a:off x="1214280" y="406548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95d7c6"/>
              </a:gs>
              <a:gs pos="100000">
                <a:srgbClr val="45b9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AutoShape 22"/>
          <p:cNvSpPr/>
          <p:nvPr/>
        </p:nvSpPr>
        <p:spPr>
          <a:xfrm>
            <a:off x="3430440" y="356400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3b5b4"/>
              </a:gs>
              <a:gs pos="100000">
                <a:srgbClr val="e8777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AutoShape 23"/>
          <p:cNvSpPr/>
          <p:nvPr/>
        </p:nvSpPr>
        <p:spPr>
          <a:xfrm>
            <a:off x="5637240" y="299088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95abe7"/>
              </a:gs>
              <a:gs pos="100000">
                <a:srgbClr val="587ad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24"/>
          <p:cNvSpPr/>
          <p:nvPr/>
        </p:nvSpPr>
        <p:spPr>
          <a:xfrm>
            <a:off x="1214280" y="29638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5"/>
          <p:cNvSpPr/>
          <p:nvPr/>
        </p:nvSpPr>
        <p:spPr>
          <a:xfrm>
            <a:off x="3456000" y="248904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6"/>
          <p:cNvSpPr/>
          <p:nvPr/>
        </p:nvSpPr>
        <p:spPr>
          <a:xfrm>
            <a:off x="5662440" y="19162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1430280" y="406728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8"/>
          <p:cNvSpPr/>
          <p:nvPr/>
        </p:nvSpPr>
        <p:spPr>
          <a:xfrm>
            <a:off x="1531080" y="504828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9"/>
          <p:cNvSpPr/>
          <p:nvPr/>
        </p:nvSpPr>
        <p:spPr>
          <a:xfrm>
            <a:off x="4969440" y="5048280"/>
            <a:ext cx="24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0"/>
          <p:cNvSpPr/>
          <p:nvPr/>
        </p:nvSpPr>
        <p:spPr>
          <a:xfrm>
            <a:off x="1314360" y="546876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31"/>
          <p:cNvSpPr/>
          <p:nvPr/>
        </p:nvSpPr>
        <p:spPr>
          <a:xfrm>
            <a:off x="4743360" y="546876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32"/>
          <p:cNvSpPr/>
          <p:nvPr/>
        </p:nvSpPr>
        <p:spPr>
          <a:xfrm>
            <a:off x="3649680" y="384984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33"/>
          <p:cNvSpPr/>
          <p:nvPr/>
        </p:nvSpPr>
        <p:spPr>
          <a:xfrm>
            <a:off x="5838840" y="35971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1371600" y="19051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477120" y="30160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5"/>
          <p:cNvSpPr/>
          <p:nvPr/>
        </p:nvSpPr>
        <p:spPr>
          <a:xfrm>
            <a:off x="6477120" y="5465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6"/>
          <p:cNvSpPr/>
          <p:nvPr/>
        </p:nvSpPr>
        <p:spPr>
          <a:xfrm>
            <a:off x="6934320" y="42004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7"/>
          <p:cNvSpPr/>
          <p:nvPr/>
        </p:nvSpPr>
        <p:spPr>
          <a:xfrm>
            <a:off x="685800" y="30160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8"/>
          <p:cNvSpPr/>
          <p:nvPr/>
        </p:nvSpPr>
        <p:spPr>
          <a:xfrm>
            <a:off x="685800" y="546588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518000" y="3363840"/>
            <a:ext cx="1763640" cy="2133720"/>
            <a:chOff x="4518000" y="3363840"/>
            <a:chExt cx="1763640" cy="2133720"/>
          </a:xfrm>
        </p:grpSpPr>
        <p:sp>
          <p:nvSpPr>
            <p:cNvPr id="967" name="Line 10"/>
            <p:cNvSpPr/>
            <p:nvPr/>
          </p:nvSpPr>
          <p:spPr>
            <a:xfrm flipV="1">
              <a:off x="4529160" y="3363840"/>
              <a:ext cx="1447920" cy="10447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4529160" y="4408560"/>
              <a:ext cx="17524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4518000" y="4419360"/>
              <a:ext cx="1393920" cy="10782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765160" y="3352680"/>
            <a:ext cx="1763640" cy="2133720"/>
            <a:chOff x="2765160" y="3352680"/>
            <a:chExt cx="1763640" cy="2133720"/>
          </a:xfrm>
        </p:grpSpPr>
        <p:sp>
          <p:nvSpPr>
            <p:cNvPr id="971" name="Line 14"/>
            <p:cNvSpPr/>
            <p:nvPr/>
          </p:nvSpPr>
          <p:spPr>
            <a:xfrm flipH="1" flipV="1">
              <a:off x="3069720" y="3352680"/>
              <a:ext cx="1447920" cy="104472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765160" y="4397400"/>
              <a:ext cx="1752480" cy="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3134880" y="4408200"/>
              <a:ext cx="1393920" cy="1078200"/>
            </a:xfrm>
            <a:prstGeom prst="line">
              <a:avLst/>
            </a:prstGeom>
            <a:ln cap="rnd" w="381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332160" y="3341520"/>
            <a:ext cx="2327400" cy="2327400"/>
            <a:chOff x="3332160" y="3341520"/>
            <a:chExt cx="2327400" cy="2327400"/>
          </a:xfrm>
        </p:grpSpPr>
        <p:sp>
          <p:nvSpPr>
            <p:cNvPr id="975" name="Oval 18"/>
            <p:cNvSpPr/>
            <p:nvPr/>
          </p:nvSpPr>
          <p:spPr>
            <a:xfrm>
              <a:off x="3332160" y="3341520"/>
              <a:ext cx="2327400" cy="2327400"/>
            </a:xfrm>
            <a:prstGeom prst="ellipse">
              <a:avLst/>
            </a:prstGeom>
            <a:gradFill rotWithShape="0">
              <a:gsLst>
                <a:gs pos="0">
                  <a:srgbClr val="e5f2fe"/>
                </a:gs>
                <a:gs pos="50000">
                  <a:srgbClr val="0383f7"/>
                </a:gs>
                <a:gs pos="100000">
                  <a:srgbClr val="e5f2fe"/>
                </a:gs>
              </a:gsLst>
              <a:lin ang="5400000"/>
            </a:gradFill>
            <a:ln w="12600">
              <a:solidFill>
                <a:srgbClr val="0383f7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Oval 19"/>
            <p:cNvSpPr/>
            <p:nvPr/>
          </p:nvSpPr>
          <p:spPr>
            <a:xfrm>
              <a:off x="3367800" y="3377160"/>
              <a:ext cx="2242800" cy="2242800"/>
            </a:xfrm>
            <a:prstGeom prst="ellipse">
              <a:avLst/>
            </a:prstGeom>
            <a:gradFill rotWithShape="0">
              <a:gsLst>
                <a:gs pos="0">
                  <a:srgbClr val="a7d4fc"/>
                </a:gs>
                <a:gs pos="50000">
                  <a:srgbClr val="0383f7"/>
                </a:gs>
                <a:gs pos="100000">
                  <a:srgbClr val="a7d4fc"/>
                </a:gs>
              </a:gsLst>
              <a:lin ang="5400000"/>
            </a:gradFill>
            <a:ln w="19080">
              <a:solidFill>
                <a:srgbClr val="0383f7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Text Box 20"/>
          <p:cNvSpPr/>
          <p:nvPr/>
        </p:nvSpPr>
        <p:spPr>
          <a:xfrm>
            <a:off x="3308400" y="3962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21"/>
          <p:cNvSpPr/>
          <p:nvPr/>
        </p:nvSpPr>
        <p:spPr>
          <a:xfrm>
            <a:off x="152280" y="41911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923080" y="5432400"/>
            <a:ext cx="492120" cy="492120"/>
            <a:chOff x="5923080" y="5432400"/>
            <a:chExt cx="492120" cy="492120"/>
          </a:xfrm>
        </p:grpSpPr>
        <p:sp>
          <p:nvSpPr>
            <p:cNvPr id="980" name="Oval 23"/>
            <p:cNvSpPr/>
            <p:nvPr/>
          </p:nvSpPr>
          <p:spPr>
            <a:xfrm>
              <a:off x="5923080" y="543240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ecf8f5"/>
                </a:gs>
                <a:gs pos="50000">
                  <a:srgbClr val="45b99b"/>
                </a:gs>
                <a:gs pos="100000">
                  <a:srgbClr val="ecf8f5"/>
                </a:gs>
              </a:gsLst>
              <a:lin ang="5400000"/>
            </a:gradFill>
            <a:ln w="6480">
              <a:solidFill>
                <a:srgbClr val="45b99b"/>
              </a:solidFill>
              <a:miter/>
            </a:ln>
            <a:effectLst>
              <a:outerShdw dist="38160" dir="5400000" blurRad="0" rotWithShape="0">
                <a:srgbClr val="2d201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Oval 24"/>
            <p:cNvSpPr/>
            <p:nvPr/>
          </p:nvSpPr>
          <p:spPr>
            <a:xfrm>
              <a:off x="5937120" y="5446440"/>
              <a:ext cx="460800" cy="463320"/>
            </a:xfrm>
            <a:prstGeom prst="ellipse">
              <a:avLst/>
            </a:prstGeom>
            <a:gradFill rotWithShape="0">
              <a:gsLst>
                <a:gs pos="0">
                  <a:srgbClr val="45b99b"/>
                </a:gs>
                <a:gs pos="50000">
                  <a:srgbClr val="37937b"/>
                </a:gs>
                <a:gs pos="100000">
                  <a:srgbClr val="45b99b"/>
                </a:gs>
              </a:gsLst>
              <a:lin ang="5400000"/>
            </a:gradFill>
            <a:ln w="9360">
              <a:solidFill>
                <a:srgbClr val="45b99b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972040" y="2973240"/>
            <a:ext cx="492120" cy="492120"/>
            <a:chOff x="5972040" y="2973240"/>
            <a:chExt cx="492120" cy="492120"/>
          </a:xfrm>
        </p:grpSpPr>
        <p:sp>
          <p:nvSpPr>
            <p:cNvPr id="983" name="Oval 26"/>
            <p:cNvSpPr/>
            <p:nvPr/>
          </p:nvSpPr>
          <p:spPr>
            <a:xfrm>
              <a:off x="5972040" y="297324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fff7e9"/>
                </a:gs>
                <a:gs pos="50000">
                  <a:srgbClr val="fcb528"/>
                </a:gs>
                <a:gs pos="100000">
                  <a:srgbClr val="fff7e9"/>
                </a:gs>
              </a:gsLst>
              <a:lin ang="5400000"/>
            </a:gradFill>
            <a:ln w="6480">
              <a:solidFill>
                <a:srgbClr val="fcb528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Oval 27"/>
            <p:cNvSpPr/>
            <p:nvPr/>
          </p:nvSpPr>
          <p:spPr>
            <a:xfrm>
              <a:off x="5986080" y="2987280"/>
              <a:ext cx="460800" cy="463320"/>
            </a:xfrm>
            <a:prstGeom prst="ellipse">
              <a:avLst/>
            </a:prstGeom>
            <a:gradFill rotWithShape="0">
              <a:gsLst>
                <a:gs pos="0">
                  <a:srgbClr val="fcb528"/>
                </a:gs>
                <a:gs pos="50000">
                  <a:srgbClr val="c88f20"/>
                </a:gs>
                <a:gs pos="100000">
                  <a:srgbClr val="fcb528"/>
                </a:gs>
              </a:gsLst>
              <a:lin ang="5400000"/>
            </a:gradFill>
            <a:ln w="9360">
              <a:solidFill>
                <a:srgbClr val="fcb528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2671920" y="5437080"/>
            <a:ext cx="492120" cy="492120"/>
            <a:chOff x="2671920" y="5437080"/>
            <a:chExt cx="492120" cy="492120"/>
          </a:xfrm>
        </p:grpSpPr>
        <p:sp>
          <p:nvSpPr>
            <p:cNvPr id="986" name="Oval 29"/>
            <p:cNvSpPr/>
            <p:nvPr/>
          </p:nvSpPr>
          <p:spPr>
            <a:xfrm>
              <a:off x="2671920" y="543708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eef1fb"/>
                </a:gs>
                <a:gs pos="50000">
                  <a:srgbClr val="587ada"/>
                </a:gs>
                <a:gs pos="100000">
                  <a:srgbClr val="eef1fb"/>
                </a:gs>
              </a:gsLst>
              <a:lin ang="5400000"/>
            </a:gradFill>
            <a:ln w="6480">
              <a:solidFill>
                <a:srgbClr val="587ada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30"/>
            <p:cNvSpPr/>
            <p:nvPr/>
          </p:nvSpPr>
          <p:spPr>
            <a:xfrm>
              <a:off x="2685960" y="5451120"/>
              <a:ext cx="460800" cy="463320"/>
            </a:xfrm>
            <a:prstGeom prst="ellipse">
              <a:avLst/>
            </a:prstGeom>
            <a:gradFill rotWithShape="0">
              <a:gsLst>
                <a:gs pos="0">
                  <a:srgbClr val="587ada"/>
                </a:gs>
                <a:gs pos="50000">
                  <a:srgbClr val="4661ad"/>
                </a:gs>
                <a:gs pos="100000">
                  <a:srgbClr val="587ada"/>
                </a:gs>
              </a:gsLst>
              <a:lin ang="5400000"/>
            </a:gradFill>
            <a:ln w="9360">
              <a:solidFill>
                <a:srgbClr val="587ada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2606760" y="2955960"/>
            <a:ext cx="492120" cy="492120"/>
            <a:chOff x="2606760" y="2955960"/>
            <a:chExt cx="492120" cy="492120"/>
          </a:xfrm>
        </p:grpSpPr>
        <p:sp>
          <p:nvSpPr>
            <p:cNvPr id="989" name="Oval 32"/>
            <p:cNvSpPr/>
            <p:nvPr/>
          </p:nvSpPr>
          <p:spPr>
            <a:xfrm>
              <a:off x="2606760" y="2955960"/>
              <a:ext cx="492120" cy="492120"/>
            </a:xfrm>
            <a:prstGeom prst="ellipse">
              <a:avLst/>
            </a:prstGeom>
            <a:gradFill rotWithShape="0">
              <a:gsLst>
                <a:gs pos="0">
                  <a:srgbClr val="fdf1f1"/>
                </a:gs>
                <a:gs pos="50000">
                  <a:srgbClr val="e87774"/>
                </a:gs>
                <a:gs pos="100000">
                  <a:srgbClr val="fdf1f1"/>
                </a:gs>
              </a:gsLst>
              <a:lin ang="5400000"/>
            </a:gradFill>
            <a:ln w="6480">
              <a:solidFill>
                <a:srgbClr val="e87774"/>
              </a:solidFill>
              <a:miter/>
            </a:ln>
            <a:effectLst>
              <a:outerShdw dist="38160" dir="54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33"/>
            <p:cNvSpPr/>
            <p:nvPr/>
          </p:nvSpPr>
          <p:spPr>
            <a:xfrm>
              <a:off x="2620800" y="2970000"/>
              <a:ext cx="460800" cy="463320"/>
            </a:xfrm>
            <a:prstGeom prst="ellipse">
              <a:avLst/>
            </a:prstGeom>
            <a:gradFill rotWithShape="0">
              <a:gsLst>
                <a:gs pos="0">
                  <a:srgbClr val="e87774"/>
                </a:gs>
                <a:gs pos="50000">
                  <a:srgbClr val="b85e5c"/>
                </a:gs>
                <a:gs pos="100000">
                  <a:srgbClr val="e87774"/>
                </a:gs>
              </a:gsLst>
              <a:lin ang="5400000"/>
            </a:gradFill>
            <a:ln w="9360">
              <a:solidFill>
                <a:srgbClr val="e87774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324480" y="4114800"/>
            <a:ext cx="457200" cy="457200"/>
            <a:chOff x="6324480" y="4114800"/>
            <a:chExt cx="457200" cy="457200"/>
          </a:xfrm>
        </p:grpSpPr>
        <p:sp>
          <p:nvSpPr>
            <p:cNvPr id="992" name="Oval 35"/>
            <p:cNvSpPr/>
            <p:nvPr/>
          </p:nvSpPr>
          <p:spPr>
            <a:xfrm>
              <a:off x="632448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5fae5"/>
                </a:gs>
                <a:gs pos="50000">
                  <a:srgbClr val="99cc00"/>
                </a:gs>
                <a:gs pos="100000">
                  <a:srgbClr val="f5fae5"/>
                </a:gs>
              </a:gsLst>
              <a:lin ang="5400000"/>
            </a:gradFill>
            <a:ln w="6480">
              <a:solidFill>
                <a:srgbClr val="99cc00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36"/>
            <p:cNvSpPr/>
            <p:nvPr/>
          </p:nvSpPr>
          <p:spPr>
            <a:xfrm>
              <a:off x="6348240" y="41385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dbeda6"/>
                </a:gs>
                <a:gs pos="50000">
                  <a:srgbClr val="99cc00"/>
                </a:gs>
                <a:gs pos="100000">
                  <a:srgbClr val="dbeda6"/>
                </a:gs>
              </a:gsLst>
              <a:lin ang="5400000"/>
            </a:gradFill>
            <a:ln w="19080">
              <a:solidFill>
                <a:srgbClr val="99cc00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2209680" y="4114800"/>
            <a:ext cx="457200" cy="457200"/>
            <a:chOff x="2209680" y="4114800"/>
            <a:chExt cx="457200" cy="457200"/>
          </a:xfrm>
        </p:grpSpPr>
        <p:sp>
          <p:nvSpPr>
            <p:cNvPr id="995" name="Oval 38"/>
            <p:cNvSpPr/>
            <p:nvPr/>
          </p:nvSpPr>
          <p:spPr>
            <a:xfrm>
              <a:off x="2209680" y="41148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ffa"/>
                </a:gs>
                <a:gs pos="50000">
                  <a:srgbClr val="ff66cc"/>
                </a:gs>
                <a:gs pos="100000">
                  <a:srgbClr val="ffeffa"/>
                </a:gs>
              </a:gsLst>
              <a:lin ang="5400000"/>
            </a:gradFill>
            <a:ln w="6480">
              <a:solidFill>
                <a:srgbClr val="ff66cc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Oval 39"/>
            <p:cNvSpPr/>
            <p:nvPr/>
          </p:nvSpPr>
          <p:spPr>
            <a:xfrm>
              <a:off x="2233440" y="4138560"/>
              <a:ext cx="406440" cy="406440"/>
            </a:xfrm>
            <a:prstGeom prst="ellipse">
              <a:avLst/>
            </a:prstGeom>
            <a:gradFill rotWithShape="0">
              <a:gsLst>
                <a:gs pos="0">
                  <a:srgbClr val="ffcaed"/>
                </a:gs>
                <a:gs pos="50000">
                  <a:srgbClr val="ff66cc"/>
                </a:gs>
                <a:gs pos="100000">
                  <a:srgbClr val="ffcaed"/>
                </a:gs>
              </a:gsLst>
              <a:lin ang="5400000"/>
            </a:gradFill>
            <a:ln w="19080">
              <a:solidFill>
                <a:srgbClr val="ff66cc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511200" y="4235400"/>
            <a:ext cx="8153280" cy="1936440"/>
            <a:chOff x="511200" y="4235400"/>
            <a:chExt cx="8153280" cy="1936440"/>
          </a:xfrm>
        </p:grpSpPr>
        <p:sp>
          <p:nvSpPr>
            <p:cNvPr id="999" name="AutoShape 4"/>
            <p:cNvSpPr/>
            <p:nvPr/>
          </p:nvSpPr>
          <p:spPr>
            <a:xfrm>
              <a:off x="511200" y="4235400"/>
              <a:ext cx="8153280" cy="193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efef"/>
                </a:gs>
                <a:gs pos="50000">
                  <a:srgbClr val="dddddd"/>
                </a:gs>
                <a:gs pos="100000">
                  <a:srgbClr val="efefef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AutoShape 5"/>
            <p:cNvSpPr/>
            <p:nvPr/>
          </p:nvSpPr>
          <p:spPr>
            <a:xfrm>
              <a:off x="540720" y="4273920"/>
              <a:ext cx="8096760" cy="185112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5400000"/>
            </a:gradFill>
            <a:ln w="19080">
              <a:solidFill>
                <a:srgbClr val="dddddd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790560" y="3843360"/>
            <a:ext cx="1854360" cy="816120"/>
            <a:chOff x="790560" y="3843360"/>
            <a:chExt cx="1854360" cy="816120"/>
          </a:xfrm>
        </p:grpSpPr>
        <p:sp>
          <p:nvSpPr>
            <p:cNvPr id="1002" name="AutoShape 7"/>
            <p:cNvSpPr/>
            <p:nvPr/>
          </p:nvSpPr>
          <p:spPr>
            <a:xfrm>
              <a:off x="790560" y="384336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5b99b"/>
                </a:gs>
                <a:gs pos="50000">
                  <a:srgbClr val="ecf8f5"/>
                </a:gs>
                <a:gs pos="100000">
                  <a:srgbClr val="45b99b"/>
                </a:gs>
              </a:gsLst>
              <a:lin ang="10800000"/>
            </a:gradFill>
            <a:ln w="12600">
              <a:solidFill>
                <a:srgbClr val="45b99b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AutoShape 8"/>
            <p:cNvSpPr/>
            <p:nvPr/>
          </p:nvSpPr>
          <p:spPr>
            <a:xfrm>
              <a:off x="822600" y="386532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0dbcc"/>
                </a:gs>
                <a:gs pos="50000">
                  <a:srgbClr val="45b99b"/>
                </a:gs>
                <a:gs pos="100000">
                  <a:srgbClr val="a0db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4" name="Text Box 9"/>
          <p:cNvSpPr/>
          <p:nvPr/>
        </p:nvSpPr>
        <p:spPr>
          <a:xfrm>
            <a:off x="911160" y="3984480"/>
            <a:ext cx="157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2666880" y="3843360"/>
            <a:ext cx="1854360" cy="816120"/>
            <a:chOff x="2666880" y="3843360"/>
            <a:chExt cx="1854360" cy="816120"/>
          </a:xfrm>
        </p:grpSpPr>
        <p:sp>
          <p:nvSpPr>
            <p:cNvPr id="1006" name="AutoShape 11"/>
            <p:cNvSpPr/>
            <p:nvPr/>
          </p:nvSpPr>
          <p:spPr>
            <a:xfrm>
              <a:off x="2666880" y="384336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87774"/>
                </a:gs>
                <a:gs pos="50000">
                  <a:srgbClr val="fdf1f1"/>
                </a:gs>
                <a:gs pos="100000">
                  <a:srgbClr val="e87774"/>
                </a:gs>
              </a:gsLst>
              <a:lin ang="10800000"/>
            </a:gradFill>
            <a:ln w="12600">
              <a:solidFill>
                <a:srgbClr val="e87774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AutoShape 12"/>
            <p:cNvSpPr/>
            <p:nvPr/>
          </p:nvSpPr>
          <p:spPr>
            <a:xfrm>
              <a:off x="2698920" y="386532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bab8"/>
                </a:gs>
                <a:gs pos="50000">
                  <a:srgbClr val="e87774"/>
                </a:gs>
                <a:gs pos="100000">
                  <a:srgbClr val="f3ba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552920" y="3843360"/>
            <a:ext cx="1854360" cy="816120"/>
            <a:chOff x="4552920" y="3843360"/>
            <a:chExt cx="1854360" cy="816120"/>
          </a:xfrm>
        </p:grpSpPr>
        <p:sp>
          <p:nvSpPr>
            <p:cNvPr id="1009" name="AutoShape 14"/>
            <p:cNvSpPr/>
            <p:nvPr/>
          </p:nvSpPr>
          <p:spPr>
            <a:xfrm>
              <a:off x="4552920" y="384336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b528"/>
                </a:gs>
                <a:gs pos="50000">
                  <a:srgbClr val="fff7e9"/>
                </a:gs>
                <a:gs pos="100000">
                  <a:srgbClr val="fcb528"/>
                </a:gs>
              </a:gsLst>
              <a:lin ang="10800000"/>
            </a:gradFill>
            <a:ln w="12600">
              <a:solidFill>
                <a:srgbClr val="fcb528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AutoShape 15"/>
            <p:cNvSpPr/>
            <p:nvPr/>
          </p:nvSpPr>
          <p:spPr>
            <a:xfrm>
              <a:off x="4584960" y="386532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dd991"/>
                </a:gs>
                <a:gs pos="50000">
                  <a:srgbClr val="fcb528"/>
                </a:gs>
                <a:gs pos="100000">
                  <a:srgbClr val="fdd9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6429240" y="3843360"/>
            <a:ext cx="1854360" cy="816120"/>
            <a:chOff x="6429240" y="3843360"/>
            <a:chExt cx="1854360" cy="816120"/>
          </a:xfrm>
        </p:grpSpPr>
        <p:sp>
          <p:nvSpPr>
            <p:cNvPr id="1012" name="AutoShape 17"/>
            <p:cNvSpPr/>
            <p:nvPr/>
          </p:nvSpPr>
          <p:spPr>
            <a:xfrm>
              <a:off x="6429240" y="3843360"/>
              <a:ext cx="1854360" cy="816120"/>
            </a:xfrm>
            <a:custGeom>
              <a:avLst/>
              <a:gdLst>
                <a:gd name="textAreaLeft" fmla="*/ 0 w 1854360"/>
                <a:gd name="textAreaRight" fmla="*/ 1854720 w 18543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87ada"/>
                </a:gs>
                <a:gs pos="50000">
                  <a:srgbClr val="eef1fb"/>
                </a:gs>
                <a:gs pos="100000">
                  <a:srgbClr val="587ada"/>
                </a:gs>
              </a:gsLst>
              <a:lin ang="10800000"/>
            </a:gradFill>
            <a:ln w="12600">
              <a:solidFill>
                <a:srgbClr val="587ada"/>
              </a:solidFill>
              <a:miter/>
            </a:ln>
            <a:effectLst>
              <a:outerShdw dist="50760" dir="5400000" blurRad="0" rotWithShape="0">
                <a:srgbClr val="2d2015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AutoShape 18"/>
            <p:cNvSpPr/>
            <p:nvPr/>
          </p:nvSpPr>
          <p:spPr>
            <a:xfrm>
              <a:off x="6461280" y="3865320"/>
              <a:ext cx="1802880" cy="774720"/>
            </a:xfrm>
            <a:custGeom>
              <a:avLst/>
              <a:gdLst>
                <a:gd name="textAreaLeft" fmla="*/ 0 w 1802880"/>
                <a:gd name="textAreaRight" fmla="*/ 1803240 w 18028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abbec"/>
                </a:gs>
                <a:gs pos="50000">
                  <a:srgbClr val="587ada"/>
                </a:gs>
                <a:gs pos="100000">
                  <a:srgbClr val="aabb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4" name="Text Box 19"/>
          <p:cNvSpPr/>
          <p:nvPr/>
        </p:nvSpPr>
        <p:spPr>
          <a:xfrm>
            <a:off x="739800" y="48182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0"/>
          <p:cNvSpPr/>
          <p:nvPr/>
        </p:nvSpPr>
        <p:spPr>
          <a:xfrm>
            <a:off x="2625840" y="4818240"/>
            <a:ext cx="17524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4529160" y="481824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6453360" y="4818240"/>
            <a:ext cx="17524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4038480" y="191628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en-US" sz="2200" spc="-1" strike="noStrike">
                <a:solidFill>
                  <a:srgbClr val="fff2a3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9" name="Picture 24" descr="num-1_t1"/>
          <p:cNvPicPr/>
          <p:nvPr/>
        </p:nvPicPr>
        <p:blipFill>
          <a:blip r:embed="rId1"/>
          <a:stretch/>
        </p:blipFill>
        <p:spPr>
          <a:xfrm>
            <a:off x="1143000" y="1633680"/>
            <a:ext cx="1873080" cy="2116080"/>
          </a:xfrm>
          <a:prstGeom prst="rect">
            <a:avLst/>
          </a:prstGeom>
          <a:ln w="0">
            <a:noFill/>
          </a:ln>
        </p:spPr>
      </p:pic>
      <p:sp>
        <p:nvSpPr>
          <p:cNvPr id="1020" name="Text Box 25"/>
          <p:cNvSpPr/>
          <p:nvPr/>
        </p:nvSpPr>
        <p:spPr>
          <a:xfrm>
            <a:off x="2825640" y="3984480"/>
            <a:ext cx="1578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26"/>
          <p:cNvSpPr/>
          <p:nvPr/>
        </p:nvSpPr>
        <p:spPr>
          <a:xfrm>
            <a:off x="4708440" y="3984480"/>
            <a:ext cx="1578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27"/>
          <p:cNvSpPr/>
          <p:nvPr/>
        </p:nvSpPr>
        <p:spPr>
          <a:xfrm>
            <a:off x="6600960" y="3984480"/>
            <a:ext cx="1577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5630760" y="4603680"/>
            <a:ext cx="2522520" cy="1478160"/>
          </a:xfrm>
          <a:prstGeom prst="rect">
            <a:avLst/>
          </a:prstGeom>
          <a:gradFill rotWithShape="0">
            <a:gsLst>
              <a:gs pos="0">
                <a:srgbClr val="e87774"/>
              </a:gs>
              <a:gs pos="100000">
                <a:srgbClr val="a856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AutoShape 4"/>
          <p:cNvSpPr/>
          <p:nvPr/>
        </p:nvSpPr>
        <p:spPr>
          <a:xfrm>
            <a:off x="3119400" y="23302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5"/>
          <p:cNvSpPr/>
          <p:nvPr/>
        </p:nvSpPr>
        <p:spPr>
          <a:xfrm>
            <a:off x="5767560" y="23302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6"/>
          <p:cNvSpPr/>
          <p:nvPr/>
        </p:nvSpPr>
        <p:spPr>
          <a:xfrm>
            <a:off x="3016080" y="4748040"/>
            <a:ext cx="2503800" cy="1478160"/>
          </a:xfrm>
          <a:prstGeom prst="rect">
            <a:avLst/>
          </a:prstGeom>
          <a:gradFill rotWithShape="0">
            <a:gsLst>
              <a:gs pos="0">
                <a:srgbClr val="e87774"/>
              </a:gs>
              <a:gs pos="100000">
                <a:srgbClr val="c8676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3328920" y="52038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838080" y="3301920"/>
            <a:ext cx="2111040" cy="1446120"/>
            <a:chOff x="838080" y="3301920"/>
            <a:chExt cx="2111040" cy="1446120"/>
          </a:xfrm>
        </p:grpSpPr>
        <p:sp>
          <p:nvSpPr>
            <p:cNvPr id="1030" name="AutoShape 9"/>
            <p:cNvSpPr/>
            <p:nvPr/>
          </p:nvSpPr>
          <p:spPr>
            <a:xfrm>
              <a:off x="838080" y="33019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AutoShape 10"/>
            <p:cNvSpPr/>
            <p:nvPr/>
          </p:nvSpPr>
          <p:spPr>
            <a:xfrm>
              <a:off x="858960" y="33166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838080" y="4800600"/>
            <a:ext cx="2111040" cy="1447920"/>
            <a:chOff x="838080" y="4800600"/>
            <a:chExt cx="2111040" cy="1447920"/>
          </a:xfrm>
        </p:grpSpPr>
        <p:sp>
          <p:nvSpPr>
            <p:cNvPr id="1033" name="AutoShape 12"/>
            <p:cNvSpPr/>
            <p:nvPr/>
          </p:nvSpPr>
          <p:spPr>
            <a:xfrm>
              <a:off x="838080" y="48006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AutoShape 13"/>
            <p:cNvSpPr/>
            <p:nvPr/>
          </p:nvSpPr>
          <p:spPr>
            <a:xfrm>
              <a:off x="858960" y="48153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Rectangle 14"/>
          <p:cNvSpPr/>
          <p:nvPr/>
        </p:nvSpPr>
        <p:spPr>
          <a:xfrm>
            <a:off x="762120" y="38210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5"/>
          <p:cNvSpPr/>
          <p:nvPr/>
        </p:nvSpPr>
        <p:spPr>
          <a:xfrm>
            <a:off x="762120" y="5315040"/>
            <a:ext cx="2120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16"/>
          <p:cNvSpPr/>
          <p:nvPr/>
        </p:nvSpPr>
        <p:spPr>
          <a:xfrm>
            <a:off x="5767560" y="474192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17"/>
          <p:cNvSpPr/>
          <p:nvPr/>
        </p:nvSpPr>
        <p:spPr>
          <a:xfrm>
            <a:off x="3386160" y="2362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18"/>
          <p:cNvSpPr/>
          <p:nvPr/>
        </p:nvSpPr>
        <p:spPr>
          <a:xfrm>
            <a:off x="6037200" y="2362320"/>
            <a:ext cx="1736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9"/>
          <p:cNvSpPr/>
          <p:nvPr/>
        </p:nvSpPr>
        <p:spPr>
          <a:xfrm>
            <a:off x="5630760" y="3062160"/>
            <a:ext cx="2522520" cy="1476360"/>
          </a:xfrm>
          <a:prstGeom prst="rect">
            <a:avLst/>
          </a:prstGeom>
          <a:gradFill rotWithShape="0">
            <a:gsLst>
              <a:gs pos="0">
                <a:srgbClr val="fcb528"/>
              </a:gs>
              <a:gs pos="100000">
                <a:srgbClr val="b783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20"/>
          <p:cNvSpPr/>
          <p:nvPr/>
        </p:nvSpPr>
        <p:spPr>
          <a:xfrm>
            <a:off x="3016080" y="3198960"/>
            <a:ext cx="2503800" cy="1477800"/>
          </a:xfrm>
          <a:prstGeom prst="rect">
            <a:avLst/>
          </a:prstGeom>
          <a:gradFill rotWithShape="0">
            <a:gsLst>
              <a:gs pos="0">
                <a:srgbClr val="fcb528"/>
              </a:gs>
              <a:gs pos="100000">
                <a:srgbClr val="d99c2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21"/>
          <p:cNvSpPr/>
          <p:nvPr/>
        </p:nvSpPr>
        <p:spPr>
          <a:xfrm>
            <a:off x="3328920" y="36576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22"/>
          <p:cNvSpPr/>
          <p:nvPr/>
        </p:nvSpPr>
        <p:spPr>
          <a:xfrm>
            <a:off x="5767560" y="3200400"/>
            <a:ext cx="224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685800" y="1676520"/>
            <a:ext cx="777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046" name="AutoShape 3"/>
          <p:cNvSpPr/>
          <p:nvPr/>
        </p:nvSpPr>
        <p:spPr>
          <a:xfrm>
            <a:off x="4572000" y="3216240"/>
            <a:ext cx="396252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AutoShape 4"/>
          <p:cNvSpPr/>
          <p:nvPr/>
        </p:nvSpPr>
        <p:spPr>
          <a:xfrm>
            <a:off x="4572000" y="2273400"/>
            <a:ext cx="396252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533520" y="1676520"/>
            <a:ext cx="3809520" cy="466560"/>
            <a:chOff x="533520" y="1676520"/>
            <a:chExt cx="3809520" cy="466560"/>
          </a:xfrm>
        </p:grpSpPr>
        <p:sp>
          <p:nvSpPr>
            <p:cNvPr id="1049" name="AutoShape 6"/>
            <p:cNvSpPr/>
            <p:nvPr/>
          </p:nvSpPr>
          <p:spPr>
            <a:xfrm>
              <a:off x="533520" y="1676520"/>
              <a:ext cx="38095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4c7df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4151880" y="1719360"/>
              <a:ext cx="169560" cy="390600"/>
              <a:chOff x="4151880" y="1719360"/>
              <a:chExt cx="169560" cy="390600"/>
            </a:xfrm>
          </p:grpSpPr>
          <p:pic>
            <p:nvPicPr>
              <p:cNvPr id="105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1880" y="1719360"/>
                <a:ext cx="16956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2" name=""/>
              <p:cNvSpPr/>
              <p:nvPr/>
            </p:nvSpPr>
            <p:spPr>
              <a:xfrm>
                <a:off x="4286160" y="1842840"/>
                <a:ext cx="262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554400" y="1719360"/>
              <a:ext cx="169920" cy="384120"/>
              <a:chOff x="554400" y="1719360"/>
              <a:chExt cx="169920" cy="384120"/>
            </a:xfrm>
          </p:grpSpPr>
          <p:pic>
            <p:nvPicPr>
              <p:cNvPr id="105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54400" y="1719360"/>
                <a:ext cx="1699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5" name=""/>
              <p:cNvSpPr/>
              <p:nvPr/>
            </p:nvSpPr>
            <p:spPr>
              <a:xfrm>
                <a:off x="566640" y="1842120"/>
                <a:ext cx="2628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Text Box 18"/>
          <p:cNvSpPr/>
          <p:nvPr/>
        </p:nvSpPr>
        <p:spPr>
          <a:xfrm>
            <a:off x="873000" y="1676520"/>
            <a:ext cx="3051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10"/>
          <p:cNvSpPr/>
          <p:nvPr/>
        </p:nvSpPr>
        <p:spPr>
          <a:xfrm rot="5400000">
            <a:off x="4334040" y="2471760"/>
            <a:ext cx="488880" cy="488880"/>
          </a:xfrm>
          <a:prstGeom prst="diamond">
            <a:avLst/>
          </a:prstGeom>
          <a:solidFill>
            <a:srgbClr val="fcb528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11"/>
          <p:cNvSpPr/>
          <p:nvPr/>
        </p:nvSpPr>
        <p:spPr>
          <a:xfrm rot="5400000">
            <a:off x="4333680" y="3414600"/>
            <a:ext cx="489240" cy="488880"/>
          </a:xfrm>
          <a:prstGeom prst="diamond">
            <a:avLst/>
          </a:prstGeom>
          <a:solidFill>
            <a:srgbClr val="587ada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12"/>
          <p:cNvSpPr/>
          <p:nvPr/>
        </p:nvSpPr>
        <p:spPr>
          <a:xfrm>
            <a:off x="4572000" y="5092560"/>
            <a:ext cx="396252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13"/>
          <p:cNvSpPr/>
          <p:nvPr/>
        </p:nvSpPr>
        <p:spPr>
          <a:xfrm>
            <a:off x="4572000" y="4149720"/>
            <a:ext cx="3962520" cy="89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AutoShape 14"/>
          <p:cNvSpPr/>
          <p:nvPr/>
        </p:nvSpPr>
        <p:spPr>
          <a:xfrm rot="5400000">
            <a:off x="4334040" y="4348080"/>
            <a:ext cx="488880" cy="488880"/>
          </a:xfrm>
          <a:prstGeom prst="diamond">
            <a:avLst/>
          </a:prstGeom>
          <a:solidFill>
            <a:srgbClr val="45b99b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AutoShape 15"/>
          <p:cNvSpPr/>
          <p:nvPr/>
        </p:nvSpPr>
        <p:spPr>
          <a:xfrm rot="5400000">
            <a:off x="4334040" y="5291280"/>
            <a:ext cx="488880" cy="488880"/>
          </a:xfrm>
          <a:prstGeom prst="diamond">
            <a:avLst/>
          </a:prstGeom>
          <a:solidFill>
            <a:srgbClr val="e87774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4876920" y="24861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4876920" y="328788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8"/>
          <p:cNvSpPr/>
          <p:nvPr/>
        </p:nvSpPr>
        <p:spPr>
          <a:xfrm>
            <a:off x="4876920" y="4352760"/>
            <a:ext cx="3352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9"/>
          <p:cNvSpPr/>
          <p:nvPr/>
        </p:nvSpPr>
        <p:spPr>
          <a:xfrm>
            <a:off x="4876920" y="5164200"/>
            <a:ext cx="3504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Oval 20"/>
          <p:cNvSpPr/>
          <p:nvPr/>
        </p:nvSpPr>
        <p:spPr>
          <a:xfrm>
            <a:off x="533520" y="2363760"/>
            <a:ext cx="3625560" cy="3625920"/>
          </a:xfrm>
          <a:prstGeom prst="ellipse">
            <a:avLst/>
          </a:prstGeom>
          <a:solidFill>
            <a:srgbClr val="fcb528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Oval 21"/>
          <p:cNvSpPr/>
          <p:nvPr/>
        </p:nvSpPr>
        <p:spPr>
          <a:xfrm>
            <a:off x="882720" y="3130560"/>
            <a:ext cx="2927160" cy="2867040"/>
          </a:xfrm>
          <a:prstGeom prst="ellipse">
            <a:avLst/>
          </a:prstGeom>
          <a:solidFill>
            <a:srgbClr val="587ada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Oval 22"/>
          <p:cNvSpPr/>
          <p:nvPr/>
        </p:nvSpPr>
        <p:spPr>
          <a:xfrm>
            <a:off x="1278000" y="3859200"/>
            <a:ext cx="2160360" cy="2139840"/>
          </a:xfrm>
          <a:prstGeom prst="ellipse">
            <a:avLst/>
          </a:prstGeom>
          <a:solidFill>
            <a:srgbClr val="45b99b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Oval 23"/>
          <p:cNvSpPr/>
          <p:nvPr/>
        </p:nvSpPr>
        <p:spPr>
          <a:xfrm>
            <a:off x="1628640" y="4552920"/>
            <a:ext cx="1484280" cy="1452600"/>
          </a:xfrm>
          <a:prstGeom prst="ellipse">
            <a:avLst/>
          </a:prstGeom>
          <a:solidFill>
            <a:srgbClr val="e87774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18"/>
          <p:cNvSpPr/>
          <p:nvPr/>
        </p:nvSpPr>
        <p:spPr>
          <a:xfrm>
            <a:off x="1501920" y="513864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18"/>
          <p:cNvSpPr/>
          <p:nvPr/>
        </p:nvSpPr>
        <p:spPr>
          <a:xfrm>
            <a:off x="1406520" y="411804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18"/>
          <p:cNvSpPr/>
          <p:nvPr/>
        </p:nvSpPr>
        <p:spPr>
          <a:xfrm>
            <a:off x="1406520" y="332568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1406520" y="255888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076" name="Rectangle 3"/>
          <p:cNvSpPr/>
          <p:nvPr/>
        </p:nvSpPr>
        <p:spPr>
          <a:xfrm>
            <a:off x="1814400" y="5711760"/>
            <a:ext cx="660744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2498760" y="2614680"/>
            <a:ext cx="5273640" cy="3017520"/>
            <a:chOff x="2498760" y="2614680"/>
            <a:chExt cx="5273640" cy="3017520"/>
          </a:xfrm>
        </p:grpSpPr>
        <p:pic>
          <p:nvPicPr>
            <p:cNvPr id="1078" name="未知" descr=""/>
            <p:cNvPicPr/>
            <p:nvPr/>
          </p:nvPicPr>
          <p:blipFill>
            <a:blip r:embed="rId1"/>
            <a:stretch/>
          </p:blipFill>
          <p:spPr>
            <a:xfrm>
              <a:off x="2498760" y="2622240"/>
              <a:ext cx="527364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2514600" y="2614680"/>
              <a:ext cx="5240520" cy="30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0" name="Text Box 5"/>
          <p:cNvSpPr/>
          <p:nvPr/>
        </p:nvSpPr>
        <p:spPr>
          <a:xfrm>
            <a:off x="2629080" y="5732640"/>
            <a:ext cx="55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2       03       04      05       06       07       08       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2793600" y="48020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3465000" y="4684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ectangle 8"/>
          <p:cNvSpPr/>
          <p:nvPr/>
        </p:nvSpPr>
        <p:spPr>
          <a:xfrm>
            <a:off x="3926520" y="3940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9"/>
          <p:cNvSpPr/>
          <p:nvPr/>
        </p:nvSpPr>
        <p:spPr>
          <a:xfrm>
            <a:off x="4695120" y="3230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Rectangle 10"/>
          <p:cNvSpPr/>
          <p:nvPr/>
        </p:nvSpPr>
        <p:spPr>
          <a:xfrm>
            <a:off x="5325120" y="4751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Rectangle 11"/>
          <p:cNvSpPr/>
          <p:nvPr/>
        </p:nvSpPr>
        <p:spPr>
          <a:xfrm>
            <a:off x="5839560" y="3753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2"/>
          <p:cNvSpPr/>
          <p:nvPr/>
        </p:nvSpPr>
        <p:spPr>
          <a:xfrm>
            <a:off x="6553080" y="21859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2a3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13"/>
          <p:cNvSpPr/>
          <p:nvPr/>
        </p:nvSpPr>
        <p:spPr>
          <a:xfrm>
            <a:off x="7587360" y="2909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4"/>
          <p:cNvSpPr/>
          <p:nvPr/>
        </p:nvSpPr>
        <p:spPr>
          <a:xfrm>
            <a:off x="1803240" y="616428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1871640" y="57942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16"/>
          <p:cNvSpPr/>
          <p:nvPr/>
        </p:nvSpPr>
        <p:spPr>
          <a:xfrm>
            <a:off x="838080" y="2149560"/>
            <a:ext cx="22100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17"/>
          <p:cNvSpPr/>
          <p:nvPr/>
        </p:nvSpPr>
        <p:spPr>
          <a:xfrm>
            <a:off x="898560" y="2050920"/>
            <a:ext cx="3870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Oval 18"/>
          <p:cNvSpPr/>
          <p:nvPr/>
        </p:nvSpPr>
        <p:spPr>
          <a:xfrm>
            <a:off x="2948040" y="5062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Oval 19"/>
          <p:cNvSpPr/>
          <p:nvPr/>
        </p:nvSpPr>
        <p:spPr>
          <a:xfrm>
            <a:off x="3606840" y="498636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Oval 20"/>
          <p:cNvSpPr/>
          <p:nvPr/>
        </p:nvSpPr>
        <p:spPr>
          <a:xfrm>
            <a:off x="4230720" y="428148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21"/>
          <p:cNvSpPr/>
          <p:nvPr/>
        </p:nvSpPr>
        <p:spPr>
          <a:xfrm>
            <a:off x="4863960" y="3508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Oval 22"/>
          <p:cNvSpPr/>
          <p:nvPr/>
        </p:nvSpPr>
        <p:spPr>
          <a:xfrm>
            <a:off x="5545080" y="4565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Oval 23"/>
          <p:cNvSpPr/>
          <p:nvPr/>
        </p:nvSpPr>
        <p:spPr>
          <a:xfrm>
            <a:off x="6192720" y="4060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24"/>
          <p:cNvSpPr/>
          <p:nvPr/>
        </p:nvSpPr>
        <p:spPr>
          <a:xfrm>
            <a:off x="6929280" y="2590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Oval 25"/>
          <p:cNvSpPr/>
          <p:nvPr/>
        </p:nvSpPr>
        <p:spPr>
          <a:xfrm>
            <a:off x="7621560" y="3176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6b3736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6"/>
          <p:cNvSpPr/>
          <p:nvPr/>
        </p:nvSpPr>
        <p:spPr>
          <a:xfrm>
            <a:off x="2743200" y="214956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45b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7"/>
          <p:cNvSpPr/>
          <p:nvPr/>
        </p:nvSpPr>
        <p:spPr>
          <a:xfrm>
            <a:off x="914400" y="16002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8"/>
          <p:cNvSpPr/>
          <p:nvPr/>
        </p:nvSpPr>
        <p:spPr>
          <a:xfrm>
            <a:off x="3384360" y="630864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fff2a3"/>
                </a:solidFill>
                <a:latin typeface="Arial"/>
                <a:ea typeface="宋体"/>
              </a:rPr>
              <a:t>宝藏</a:t>
            </a: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_www.pptbz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AutoShape 2"/>
          <p:cNvSpPr/>
          <p:nvPr/>
        </p:nvSpPr>
        <p:spPr>
          <a:xfrm flipV="1">
            <a:off x="219240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63d3b"/>
              </a:gs>
              <a:gs pos="100000">
                <a:srgbClr val="e87774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AutoShape 3"/>
          <p:cNvSpPr/>
          <p:nvPr/>
        </p:nvSpPr>
        <p:spPr>
          <a:xfrm>
            <a:off x="459432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87ada"/>
              </a:gs>
              <a:gs pos="100000">
                <a:srgbClr val="4864b4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AutoShape 4"/>
          <p:cNvSpPr/>
          <p:nvPr/>
        </p:nvSpPr>
        <p:spPr>
          <a:xfrm>
            <a:off x="2192400" y="224640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35da6"/>
              </a:gs>
              <a:gs pos="100000">
                <a:srgbClr val="587ada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AutoShape 5"/>
          <p:cNvSpPr/>
          <p:nvPr/>
        </p:nvSpPr>
        <p:spPr>
          <a:xfrm flipV="1">
            <a:off x="3395520" y="224460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54a84"/>
              </a:gs>
              <a:gs pos="100000">
                <a:srgbClr val="587ada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AutoShape 6"/>
          <p:cNvSpPr/>
          <p:nvPr/>
        </p:nvSpPr>
        <p:spPr>
          <a:xfrm>
            <a:off x="3390840" y="3857760"/>
            <a:ext cx="22845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5b58"/>
              </a:gs>
              <a:gs pos="100000">
                <a:srgbClr val="e87774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AutoShape 7"/>
          <p:cNvSpPr/>
          <p:nvPr/>
        </p:nvSpPr>
        <p:spPr>
          <a:xfrm flipV="1">
            <a:off x="4591080" y="3859920"/>
            <a:ext cx="22827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87774"/>
              </a:gs>
              <a:gs pos="100000">
                <a:srgbClr val="a95755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8"/>
          <p:cNvSpPr/>
          <p:nvPr/>
        </p:nvSpPr>
        <p:spPr>
          <a:xfrm>
            <a:off x="3914640" y="233532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9"/>
          <p:cNvSpPr/>
          <p:nvPr/>
        </p:nvSpPr>
        <p:spPr>
          <a:xfrm>
            <a:off x="2719440" y="408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5076720" y="40892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3914640" y="46782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961920" y="26290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13"/>
          <p:cNvSpPr/>
          <p:nvPr/>
        </p:nvSpPr>
        <p:spPr>
          <a:xfrm>
            <a:off x="6400800" y="2646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Rectangle 14"/>
          <p:cNvSpPr/>
          <p:nvPr/>
        </p:nvSpPr>
        <p:spPr>
          <a:xfrm>
            <a:off x="942840" y="44640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15"/>
          <p:cNvSpPr/>
          <p:nvPr/>
        </p:nvSpPr>
        <p:spPr>
          <a:xfrm>
            <a:off x="6448320" y="4481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3048120" y="152388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3317760" y="5530680"/>
            <a:ext cx="24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2719440" y="291924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5076720" y="29192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3686040" y="3276720"/>
            <a:ext cx="1652760" cy="1108080"/>
            <a:chOff x="3686040" y="3276720"/>
            <a:chExt cx="1652760" cy="1108080"/>
          </a:xfrm>
        </p:grpSpPr>
        <p:sp>
          <p:nvSpPr>
            <p:cNvPr id="1123" name="AutoShape 21"/>
            <p:cNvSpPr/>
            <p:nvPr/>
          </p:nvSpPr>
          <p:spPr>
            <a:xfrm>
              <a:off x="3686040" y="327672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AutoShape 22"/>
            <p:cNvSpPr/>
            <p:nvPr/>
          </p:nvSpPr>
          <p:spPr>
            <a:xfrm>
              <a:off x="3729600" y="3303720"/>
              <a:ext cx="1554120" cy="1042200"/>
            </a:xfrm>
            <a:prstGeom prst="hexagon">
              <a:avLst>
                <a:gd name="adj" fmla="val 37280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5" name="Rectangle 23"/>
          <p:cNvSpPr/>
          <p:nvPr/>
        </p:nvSpPr>
        <p:spPr>
          <a:xfrm>
            <a:off x="3886200" y="34448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3139920" y="623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"/>
          <p:cNvGrpSpPr/>
          <p:nvPr/>
        </p:nvGrpSpPr>
        <p:grpSpPr>
          <a:xfrm>
            <a:off x="6072120" y="1865160"/>
            <a:ext cx="2157480" cy="3425760"/>
            <a:chOff x="6072120" y="1865160"/>
            <a:chExt cx="2157480" cy="3425760"/>
          </a:xfrm>
        </p:grpSpPr>
        <p:sp>
          <p:nvSpPr>
            <p:cNvPr id="1129" name="未知"/>
            <p:cNvSpPr/>
            <p:nvPr/>
          </p:nvSpPr>
          <p:spPr>
            <a:xfrm>
              <a:off x="6072120" y="186516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dd78b"/>
                </a:gs>
                <a:gs pos="100000">
                  <a:srgbClr val="fcb528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未知"/>
            <p:cNvSpPr/>
            <p:nvPr/>
          </p:nvSpPr>
          <p:spPr>
            <a:xfrm>
              <a:off x="6084720" y="187164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未知"/>
            <p:cNvSpPr/>
            <p:nvPr/>
          </p:nvSpPr>
          <p:spPr>
            <a:xfrm>
              <a:off x="6089760" y="488304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3427560" y="1865160"/>
            <a:ext cx="2157120" cy="3425760"/>
            <a:chOff x="3427560" y="1865160"/>
            <a:chExt cx="2157120" cy="3425760"/>
          </a:xfrm>
        </p:grpSpPr>
        <p:sp>
          <p:nvSpPr>
            <p:cNvPr id="1133" name="未知"/>
            <p:cNvSpPr/>
            <p:nvPr/>
          </p:nvSpPr>
          <p:spPr>
            <a:xfrm>
              <a:off x="3427560" y="1865160"/>
              <a:ext cx="215712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3b5b4"/>
                </a:gs>
                <a:gs pos="100000">
                  <a:srgbClr val="e87774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3439800" y="1871640"/>
              <a:ext cx="213984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未知"/>
            <p:cNvSpPr/>
            <p:nvPr/>
          </p:nvSpPr>
          <p:spPr>
            <a:xfrm>
              <a:off x="3444840" y="4883040"/>
              <a:ext cx="213480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36" name="Picture 10" descr="shadow_1_m"/>
          <p:cNvPicPr/>
          <p:nvPr/>
        </p:nvPicPr>
        <p:blipFill>
          <a:blip r:embed="rId1"/>
          <a:stretch/>
        </p:blipFill>
        <p:spPr>
          <a:xfrm>
            <a:off x="773280" y="479412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765000" y="1914480"/>
            <a:ext cx="2157480" cy="3425760"/>
            <a:chOff x="765000" y="1914480"/>
            <a:chExt cx="2157480" cy="3425760"/>
          </a:xfrm>
        </p:grpSpPr>
        <p:sp>
          <p:nvSpPr>
            <p:cNvPr id="1138" name="未知"/>
            <p:cNvSpPr/>
            <p:nvPr/>
          </p:nvSpPr>
          <p:spPr>
            <a:xfrm>
              <a:off x="765000" y="1914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89d3bf"/>
                </a:gs>
                <a:gs pos="100000">
                  <a:srgbClr val="45b99b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未知"/>
            <p:cNvSpPr/>
            <p:nvPr/>
          </p:nvSpPr>
          <p:spPr>
            <a:xfrm>
              <a:off x="777600" y="1920960"/>
              <a:ext cx="2140200" cy="598320"/>
            </a:xfrm>
            <a:custGeom>
              <a:avLst/>
              <a:gdLst/>
              <a:ahLst/>
              <a:rect l="l" t="t" r="r" b="b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未知"/>
            <p:cNvSpPr/>
            <p:nvPr/>
          </p:nvSpPr>
          <p:spPr>
            <a:xfrm>
              <a:off x="782640" y="4932360"/>
              <a:ext cx="2135160" cy="404640"/>
            </a:xfrm>
            <a:custGeom>
              <a:avLst/>
              <a:gdLst/>
              <a:ahLst/>
              <a:rect l="l" t="t" r="r" b="b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2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142" name="Text Box 16"/>
          <p:cNvSpPr/>
          <p:nvPr/>
        </p:nvSpPr>
        <p:spPr>
          <a:xfrm>
            <a:off x="763560" y="3476520"/>
            <a:ext cx="21337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17"/>
          <p:cNvSpPr/>
          <p:nvPr/>
        </p:nvSpPr>
        <p:spPr>
          <a:xfrm>
            <a:off x="6072120" y="3405240"/>
            <a:ext cx="21337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18"/>
          <p:cNvSpPr/>
          <p:nvPr/>
        </p:nvSpPr>
        <p:spPr>
          <a:xfrm>
            <a:off x="950760" y="260496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9"/>
          <p:cNvSpPr/>
          <p:nvPr/>
        </p:nvSpPr>
        <p:spPr>
          <a:xfrm>
            <a:off x="942840" y="545472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960480" y="1655640"/>
            <a:ext cx="720720" cy="822240"/>
            <a:chOff x="960480" y="1655640"/>
            <a:chExt cx="720720" cy="822240"/>
          </a:xfrm>
        </p:grpSpPr>
        <p:grpSp>
          <p:nvGrpSpPr>
            <p:cNvPr id="1147" name=""/>
            <p:cNvGrpSpPr/>
            <p:nvPr/>
          </p:nvGrpSpPr>
          <p:grpSpPr>
            <a:xfrm>
              <a:off x="960480" y="1655640"/>
              <a:ext cx="720720" cy="822240"/>
              <a:chOff x="960480" y="1655640"/>
              <a:chExt cx="720720" cy="822240"/>
            </a:xfrm>
          </p:grpSpPr>
          <p:pic>
            <p:nvPicPr>
              <p:cNvPr id="1148" name="Picture 22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028880" y="230040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9" name="Picture 2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60480" y="165564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0" name="Oval 24"/>
              <p:cNvSpPr/>
              <p:nvPr/>
            </p:nvSpPr>
            <p:spPr>
              <a:xfrm>
                <a:off x="960480" y="1655640"/>
                <a:ext cx="716040" cy="760680"/>
              </a:xfrm>
              <a:prstGeom prst="ellipse">
                <a:avLst/>
              </a:prstGeom>
              <a:solidFill>
                <a:srgbClr val="45b99b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51" name="Picture 25" descr="Picture2"/>
            <p:cNvPicPr/>
            <p:nvPr/>
          </p:nvPicPr>
          <p:blipFill>
            <a:blip r:embed="rId4"/>
            <a:stretch/>
          </p:blipFill>
          <p:spPr>
            <a:xfrm>
              <a:off x="1032480" y="166284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WordArt 26"/>
          <p:cNvSpPr txBox="1"/>
          <p:nvPr/>
        </p:nvSpPr>
        <p:spPr>
          <a:xfrm>
            <a:off x="1052640" y="184320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53" name="Line 27"/>
          <p:cNvSpPr/>
          <p:nvPr/>
        </p:nvSpPr>
        <p:spPr>
          <a:xfrm>
            <a:off x="880920" y="328788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 Box 28"/>
          <p:cNvSpPr/>
          <p:nvPr/>
        </p:nvSpPr>
        <p:spPr>
          <a:xfrm>
            <a:off x="3614760" y="258444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575160" y="1600200"/>
            <a:ext cx="739800" cy="822240"/>
            <a:chOff x="3575160" y="1600200"/>
            <a:chExt cx="739800" cy="822240"/>
          </a:xfrm>
        </p:grpSpPr>
        <p:grpSp>
          <p:nvGrpSpPr>
            <p:cNvPr id="1156" name=""/>
            <p:cNvGrpSpPr/>
            <p:nvPr/>
          </p:nvGrpSpPr>
          <p:grpSpPr>
            <a:xfrm>
              <a:off x="3575160" y="1600200"/>
              <a:ext cx="739800" cy="822240"/>
              <a:chOff x="3575160" y="1600200"/>
              <a:chExt cx="739800" cy="822240"/>
            </a:xfrm>
          </p:grpSpPr>
          <p:pic>
            <p:nvPicPr>
              <p:cNvPr id="1157" name="Picture 31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45000" y="224460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8" name="Picture 3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5160" y="160020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9" name="Oval 33"/>
              <p:cNvSpPr/>
              <p:nvPr/>
            </p:nvSpPr>
            <p:spPr>
              <a:xfrm>
                <a:off x="3575160" y="1600200"/>
                <a:ext cx="735120" cy="760320"/>
              </a:xfrm>
              <a:prstGeom prst="ellipse">
                <a:avLst/>
              </a:prstGeom>
              <a:solidFill>
                <a:srgbClr val="e87774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60" name="Picture 34" descr="Picture2"/>
            <p:cNvPicPr/>
            <p:nvPr/>
          </p:nvPicPr>
          <p:blipFill>
            <a:blip r:embed="rId7"/>
            <a:stretch/>
          </p:blipFill>
          <p:spPr>
            <a:xfrm>
              <a:off x="3665520" y="160812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WordArt 35"/>
          <p:cNvSpPr txBox="1"/>
          <p:nvPr/>
        </p:nvSpPr>
        <p:spPr>
          <a:xfrm>
            <a:off x="3687840" y="177480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162" name="Line 36"/>
          <p:cNvSpPr/>
          <p:nvPr/>
        </p:nvSpPr>
        <p:spPr>
          <a:xfrm>
            <a:off x="3514680" y="325584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37"/>
          <p:cNvSpPr/>
          <p:nvPr/>
        </p:nvSpPr>
        <p:spPr>
          <a:xfrm>
            <a:off x="6303960" y="259092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4" name="Picture 38" descr="Picture2"/>
          <p:cNvPicPr/>
          <p:nvPr/>
        </p:nvPicPr>
        <p:blipFill>
          <a:blip r:embed="rId8"/>
          <a:stretch/>
        </p:blipFill>
        <p:spPr>
          <a:xfrm>
            <a:off x="6334200" y="162396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1165" name="Line 39"/>
          <p:cNvSpPr/>
          <p:nvPr/>
        </p:nvSpPr>
        <p:spPr>
          <a:xfrm>
            <a:off x="6203880" y="325296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0"/>
          <p:cNvSpPr/>
          <p:nvPr/>
        </p:nvSpPr>
        <p:spPr>
          <a:xfrm>
            <a:off x="3503520" y="339084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6221520" y="1611360"/>
            <a:ext cx="739800" cy="822240"/>
            <a:chOff x="6221520" y="1611360"/>
            <a:chExt cx="739800" cy="822240"/>
          </a:xfrm>
        </p:grpSpPr>
        <p:grpSp>
          <p:nvGrpSpPr>
            <p:cNvPr id="1168" name=""/>
            <p:cNvGrpSpPr/>
            <p:nvPr/>
          </p:nvGrpSpPr>
          <p:grpSpPr>
            <a:xfrm>
              <a:off x="6221520" y="1611360"/>
              <a:ext cx="739800" cy="822240"/>
              <a:chOff x="6221520" y="1611360"/>
              <a:chExt cx="739800" cy="822240"/>
            </a:xfrm>
          </p:grpSpPr>
          <p:pic>
            <p:nvPicPr>
              <p:cNvPr id="1169" name="Picture 43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91360" y="22557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0" name="Picture 44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221520" y="161136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1" name="Oval 45"/>
              <p:cNvSpPr/>
              <p:nvPr/>
            </p:nvSpPr>
            <p:spPr>
              <a:xfrm>
                <a:off x="6221520" y="1611360"/>
                <a:ext cx="735120" cy="760320"/>
              </a:xfrm>
              <a:prstGeom prst="ellipse">
                <a:avLst/>
              </a:prstGeom>
              <a:solidFill>
                <a:srgbClr val="fcb528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2" name="Picture 46" descr="Picture2"/>
            <p:cNvPicPr/>
            <p:nvPr/>
          </p:nvPicPr>
          <p:blipFill>
            <a:blip r:embed="rId11"/>
            <a:stretch/>
          </p:blipFill>
          <p:spPr>
            <a:xfrm>
              <a:off x="6311880" y="16192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WordArt 47"/>
          <p:cNvSpPr txBox="1"/>
          <p:nvPr/>
        </p:nvSpPr>
        <p:spPr>
          <a:xfrm>
            <a:off x="6345360" y="179064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175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5b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5b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5b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ff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Arc 14"/>
          <p:cNvSpPr/>
          <p:nvPr/>
        </p:nvSpPr>
        <p:spPr>
          <a:xfrm>
            <a:off x="0" y="4567320"/>
            <a:ext cx="2286000" cy="22906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08080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Arc 16"/>
          <p:cNvSpPr/>
          <p:nvPr/>
        </p:nvSpPr>
        <p:spPr>
          <a:xfrm>
            <a:off x="0" y="4667400"/>
            <a:ext cx="2193840" cy="21906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bbc63"/>
              </a:gs>
              <a:gs pos="100000">
                <a:srgbClr val="94894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Arc 17"/>
          <p:cNvSpPr/>
          <p:nvPr/>
        </p:nvSpPr>
        <p:spPr>
          <a:xfrm>
            <a:off x="22320" y="4700520"/>
            <a:ext cx="2138400" cy="21351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"/>
          <p:cNvSpPr/>
          <p:nvPr/>
        </p:nvSpPr>
        <p:spPr>
          <a:xfrm>
            <a:off x="73080" y="5583240"/>
            <a:ext cx="164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9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20"/>
          <p:cNvSpPr/>
          <p:nvPr/>
        </p:nvSpPr>
        <p:spPr>
          <a:xfrm>
            <a:off x="2908440" y="31179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  <a:ea typeface="宋体"/>
              </a:rPr>
              <a:t>2008 ~ 20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21"/>
          <p:cNvSpPr/>
          <p:nvPr/>
        </p:nvSpPr>
        <p:spPr>
          <a:xfrm>
            <a:off x="3424320" y="4392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  <a:ea typeface="宋体"/>
              </a:rPr>
              <a:t>2006 ~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Text Box 22"/>
          <p:cNvSpPr/>
          <p:nvPr/>
        </p:nvSpPr>
        <p:spPr>
          <a:xfrm>
            <a:off x="4479840" y="54831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e002"/>
                </a:solidFill>
                <a:latin typeface="Arial"/>
                <a:ea typeface="宋体"/>
              </a:rPr>
              <a:t>2004 ~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1196" name="AutoShape 24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AutoShape 25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8" name="Text Box 26"/>
          <p:cNvSpPr/>
          <p:nvPr/>
        </p:nvSpPr>
        <p:spPr>
          <a:xfrm>
            <a:off x="2774880" y="203364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3273480" y="3508200"/>
            <a:ext cx="128520" cy="128880"/>
            <a:chOff x="3273480" y="3508200"/>
            <a:chExt cx="128520" cy="128880"/>
          </a:xfrm>
        </p:grpSpPr>
        <p:sp>
          <p:nvSpPr>
            <p:cNvPr id="1200" name="AutoShape 28"/>
            <p:cNvSpPr/>
            <p:nvPr/>
          </p:nvSpPr>
          <p:spPr>
            <a:xfrm>
              <a:off x="3273480" y="3508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AutoShape 29"/>
            <p:cNvSpPr/>
            <p:nvPr/>
          </p:nvSpPr>
          <p:spPr>
            <a:xfrm>
              <a:off x="3312360" y="3525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2" name="Text Box 30"/>
          <p:cNvSpPr/>
          <p:nvPr/>
        </p:nvSpPr>
        <p:spPr>
          <a:xfrm>
            <a:off x="3411360" y="3421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3857760" y="4786200"/>
            <a:ext cx="128520" cy="128880"/>
            <a:chOff x="3857760" y="4786200"/>
            <a:chExt cx="128520" cy="128880"/>
          </a:xfrm>
        </p:grpSpPr>
        <p:sp>
          <p:nvSpPr>
            <p:cNvPr id="1204" name="AutoShape 32"/>
            <p:cNvSpPr/>
            <p:nvPr/>
          </p:nvSpPr>
          <p:spPr>
            <a:xfrm>
              <a:off x="3857760" y="478620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AutoShape 33"/>
            <p:cNvSpPr/>
            <p:nvPr/>
          </p:nvSpPr>
          <p:spPr>
            <a:xfrm>
              <a:off x="3896640" y="48031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6" name="Text Box 34"/>
          <p:cNvSpPr/>
          <p:nvPr/>
        </p:nvSpPr>
        <p:spPr>
          <a:xfrm>
            <a:off x="3995640" y="469908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726080" y="5878440"/>
            <a:ext cx="128520" cy="128520"/>
            <a:chOff x="4726080" y="5878440"/>
            <a:chExt cx="128520" cy="128520"/>
          </a:xfrm>
        </p:grpSpPr>
        <p:sp>
          <p:nvSpPr>
            <p:cNvPr id="1208" name="AutoShape 36"/>
            <p:cNvSpPr/>
            <p:nvPr/>
          </p:nvSpPr>
          <p:spPr>
            <a:xfrm>
              <a:off x="4726080" y="587844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AutoShape 37"/>
            <p:cNvSpPr/>
            <p:nvPr/>
          </p:nvSpPr>
          <p:spPr>
            <a:xfrm>
              <a:off x="4764960" y="589536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0" name="Text Box 38"/>
          <p:cNvSpPr/>
          <p:nvPr/>
        </p:nvSpPr>
        <p:spPr>
          <a:xfrm>
            <a:off x="4863960" y="5791320"/>
            <a:ext cx="40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AutoShape 39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5b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AutoShape 40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45b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AutoShape 41"/>
          <p:cNvSpPr/>
          <p:nvPr/>
        </p:nvSpPr>
        <p:spPr>
          <a:xfrm rot="20226600">
            <a:off x="3521160" y="5398560"/>
            <a:ext cx="514440" cy="51444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440"/>
              <a:gd name="textAreaBottom" fmla="*/ 325800 h 51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87774"/>
              </a:gs>
              <a:gs pos="100000">
                <a:srgbClr val="763d3b"/>
              </a:gs>
            </a:gsLst>
            <a:lin ang="6774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AutoShape 42"/>
          <p:cNvSpPr/>
          <p:nvPr/>
        </p:nvSpPr>
        <p:spPr>
          <a:xfrm>
            <a:off x="1523880" y="175248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ef0d4"/>
              </a:gs>
              <a:gs pos="100000">
                <a:srgbClr val="fcb528"/>
              </a:gs>
            </a:gsLst>
            <a:lin ang="5400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AutoShape 43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caebe2"/>
              </a:gs>
              <a:gs pos="100000">
                <a:srgbClr val="45b99b"/>
              </a:gs>
            </a:gsLst>
            <a:lin ang="4596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44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587ada"/>
              </a:gs>
              <a:gs pos="100000">
                <a:srgbClr val="4661ad"/>
              </a:gs>
            </a:gsLst>
            <a:lin ang="3570000"/>
          </a:gradFill>
          <a:ln w="9360">
            <a:solidFill>
              <a:srgbClr val="feffff"/>
            </a:solidFill>
            <a:round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5"/>
          <p:cNvPicPr/>
          <p:nvPr/>
        </p:nvPicPr>
        <p:blipFill>
          <a:blip r:embed="rId1"/>
          <a:srcRect l="0" t="0" r="0" b="4417"/>
          <a:stretch/>
        </p:blipFill>
        <p:spPr>
          <a:xfrm>
            <a:off x="6580080" y="4381560"/>
            <a:ext cx="2563920" cy="2476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Hot Tip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795320"/>
            <a:ext cx="7467480" cy="32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371600" y="51498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2438280" y="2476440"/>
            <a:ext cx="6299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1066680" y="119376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2a3"/>
                </a:solidFill>
                <a:latin typeface="Times New Roman"/>
                <a:ea typeface="宋体"/>
              </a:rPr>
              <a:t>Thank You!</a:t>
            </a:r>
            <a:endParaRPr b="1" lang="en-US" sz="7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2133720" y="5479920"/>
            <a:ext cx="329760" cy="330120"/>
            <a:chOff x="2133720" y="5479920"/>
            <a:chExt cx="329760" cy="330120"/>
          </a:xfrm>
        </p:grpSpPr>
        <p:sp>
          <p:nvSpPr>
            <p:cNvPr id="1221" name="AutoShape 5"/>
            <p:cNvSpPr/>
            <p:nvPr/>
          </p:nvSpPr>
          <p:spPr>
            <a:xfrm>
              <a:off x="2133720" y="5479920"/>
              <a:ext cx="16272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7dceb9"/>
                </a:gs>
                <a:gs pos="100000">
                  <a:srgbClr val="45b99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AutoShape 6"/>
            <p:cNvSpPr/>
            <p:nvPr/>
          </p:nvSpPr>
          <p:spPr>
            <a:xfrm>
              <a:off x="2133720" y="5648040"/>
              <a:ext cx="16272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fdcb69"/>
                </a:gs>
                <a:gs pos="100000">
                  <a:srgbClr val="fcb5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AutoShape 7"/>
            <p:cNvSpPr/>
            <p:nvPr/>
          </p:nvSpPr>
          <p:spPr>
            <a:xfrm>
              <a:off x="2301120" y="5648040"/>
              <a:ext cx="16236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7dceb9"/>
                </a:gs>
                <a:gs pos="100000">
                  <a:srgbClr val="45b99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6705720" y="4800600"/>
            <a:ext cx="330120" cy="330120"/>
            <a:chOff x="6705720" y="4800600"/>
            <a:chExt cx="330120" cy="330120"/>
          </a:xfrm>
        </p:grpSpPr>
        <p:sp>
          <p:nvSpPr>
            <p:cNvPr id="1225" name="AutoShape 9"/>
            <p:cNvSpPr/>
            <p:nvPr/>
          </p:nvSpPr>
          <p:spPr>
            <a:xfrm rot="10800000">
              <a:off x="6873840" y="4968720"/>
              <a:ext cx="16200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7dceb9"/>
                </a:gs>
                <a:gs pos="100000">
                  <a:srgbClr val="45b99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AutoShape 10"/>
            <p:cNvSpPr/>
            <p:nvPr/>
          </p:nvSpPr>
          <p:spPr>
            <a:xfrm rot="10800000">
              <a:off x="6873840" y="4800600"/>
              <a:ext cx="16200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fdcb69"/>
                </a:gs>
                <a:gs pos="100000">
                  <a:srgbClr val="fcb52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AutoShape 11"/>
            <p:cNvSpPr/>
            <p:nvPr/>
          </p:nvSpPr>
          <p:spPr>
            <a:xfrm rot="10800000">
              <a:off x="6705720" y="4800600"/>
              <a:ext cx="162000" cy="162000"/>
            </a:xfrm>
            <a:prstGeom prst="roundRect">
              <a:avLst>
                <a:gd name="adj" fmla="val 6255"/>
              </a:avLst>
            </a:prstGeom>
            <a:gradFill rotWithShape="0">
              <a:gsLst>
                <a:gs pos="0">
                  <a:srgbClr val="7dceb9"/>
                </a:gs>
                <a:gs pos="100000">
                  <a:srgbClr val="45b99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57752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cb528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042920" y="2270160"/>
            <a:ext cx="1609920" cy="3031200"/>
            <a:chOff x="1042920" y="2270160"/>
            <a:chExt cx="1609920" cy="3031200"/>
          </a:xfrm>
        </p:grpSpPr>
        <p:sp>
          <p:nvSpPr>
            <p:cNvPr id="143" name="未知"/>
            <p:cNvSpPr/>
            <p:nvPr/>
          </p:nvSpPr>
          <p:spPr>
            <a:xfrm flipV="1">
              <a:off x="1289520" y="3723120"/>
              <a:ext cx="1354320" cy="157788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 rot="16200000">
              <a:off x="1647000" y="2934360"/>
              <a:ext cx="401760" cy="16099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1280880" y="2270160"/>
              <a:ext cx="1354320" cy="157788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200" y="2579040"/>
            <a:ext cx="2358720" cy="2358720"/>
            <a:chOff x="160200" y="2579040"/>
            <a:chExt cx="2358720" cy="2358720"/>
          </a:xfrm>
        </p:grpSpPr>
        <p:sp>
          <p:nvSpPr>
            <p:cNvPr id="147" name="Oval 7"/>
            <p:cNvSpPr/>
            <p:nvPr/>
          </p:nvSpPr>
          <p:spPr>
            <a:xfrm rot="2728800">
              <a:off x="505440" y="2924280"/>
              <a:ext cx="1668240" cy="1667520"/>
            </a:xfrm>
            <a:prstGeom prst="ellipse">
              <a:avLst/>
            </a:prstGeom>
            <a:gradFill rotWithShape="0">
              <a:gsLst>
                <a:gs pos="0">
                  <a:srgbClr val="fcb528"/>
                </a:gs>
                <a:gs pos="100000">
                  <a:srgbClr val="c08a1e"/>
                </a:gs>
              </a:gsLst>
              <a:lin ang="2670000"/>
            </a:gradFill>
            <a:ln w="15840">
              <a:solidFill>
                <a:srgbClr val="fcb5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8" name="Picture 8" descr="aaaa"/>
            <p:cNvPicPr/>
            <p:nvPr/>
          </p:nvPicPr>
          <p:blipFill>
            <a:blip r:embed="rId1"/>
            <a:srcRect l="18902" t="0" r="0" b="20180"/>
            <a:stretch/>
          </p:blipFill>
          <p:spPr>
            <a:xfrm>
              <a:off x="1251000" y="2832120"/>
              <a:ext cx="10281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9" descr="aaaa"/>
            <p:cNvPicPr/>
            <p:nvPr/>
          </p:nvPicPr>
          <p:blipFill>
            <a:blip r:embed="rId2"/>
            <a:srcRect l="18902" t="0" r="0" b="20180"/>
            <a:stretch/>
          </p:blipFill>
          <p:spPr>
            <a:xfrm rot="10800000">
              <a:off x="418680" y="3707640"/>
              <a:ext cx="954360" cy="9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3627360" y="3179880"/>
            <a:ext cx="4724640" cy="1197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45b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3627360" y="4479840"/>
            <a:ext cx="4724640" cy="1197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587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627360" y="1878120"/>
            <a:ext cx="4724640" cy="1197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e8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425680" y="1648440"/>
            <a:ext cx="1682280" cy="1681920"/>
            <a:chOff x="2425680" y="1648440"/>
            <a:chExt cx="1682280" cy="1681920"/>
          </a:xfrm>
        </p:grpSpPr>
        <p:sp>
          <p:nvSpPr>
            <p:cNvPr id="155" name="Oval 15"/>
            <p:cNvSpPr/>
            <p:nvPr/>
          </p:nvSpPr>
          <p:spPr>
            <a:xfrm rot="2728800">
              <a:off x="2671920" y="1894680"/>
              <a:ext cx="1189440" cy="1189440"/>
            </a:xfrm>
            <a:prstGeom prst="ellipse">
              <a:avLst/>
            </a:prstGeom>
            <a:gradFill rotWithShape="0">
              <a:gsLst>
                <a:gs pos="0">
                  <a:srgbClr val="e87774"/>
                </a:gs>
                <a:gs pos="100000">
                  <a:srgbClr val="934c4a"/>
                </a:gs>
              </a:gsLst>
              <a:lin ang="2670000"/>
            </a:gradFill>
            <a:ln w="15840">
              <a:solidFill>
                <a:srgbClr val="e877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6" name="Picture 16" descr="aaaa"/>
            <p:cNvPicPr/>
            <p:nvPr/>
          </p:nvPicPr>
          <p:blipFill>
            <a:blip r:embed="rId3"/>
            <a:srcRect l="18902" t="0" r="0" b="20180"/>
            <a:stretch/>
          </p:blipFill>
          <p:spPr>
            <a:xfrm>
              <a:off x="3203280" y="1828800"/>
              <a:ext cx="73332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7" descr="aaaa"/>
            <p:cNvPicPr/>
            <p:nvPr/>
          </p:nvPicPr>
          <p:blipFill>
            <a:blip r:embed="rId4"/>
            <a:srcRect l="18911" t="0" r="0" b="20200"/>
            <a:stretch/>
          </p:blipFill>
          <p:spPr>
            <a:xfrm rot="10800000">
              <a:off x="2609640" y="2452680"/>
              <a:ext cx="680760" cy="69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2425680" y="2950200"/>
            <a:ext cx="1682280" cy="1681920"/>
            <a:chOff x="2425680" y="2950200"/>
            <a:chExt cx="1682280" cy="1681920"/>
          </a:xfrm>
        </p:grpSpPr>
        <p:sp>
          <p:nvSpPr>
            <p:cNvPr id="159" name="Oval 19"/>
            <p:cNvSpPr/>
            <p:nvPr/>
          </p:nvSpPr>
          <p:spPr>
            <a:xfrm rot="2728800">
              <a:off x="2671920" y="3196440"/>
              <a:ext cx="1189440" cy="1189440"/>
            </a:xfrm>
            <a:prstGeom prst="ellipse">
              <a:avLst/>
            </a:prstGeom>
            <a:gradFill rotWithShape="0">
              <a:gsLst>
                <a:gs pos="0">
                  <a:srgbClr val="45b99b"/>
                </a:gs>
                <a:gs pos="100000">
                  <a:srgbClr val="37937b"/>
                </a:gs>
              </a:gsLst>
              <a:lin ang="2670000"/>
            </a:gradFill>
            <a:ln w="15840">
              <a:solidFill>
                <a:srgbClr val="45b9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Picture 20" descr="aaaa"/>
            <p:cNvPicPr/>
            <p:nvPr/>
          </p:nvPicPr>
          <p:blipFill>
            <a:blip r:embed="rId5"/>
            <a:srcRect l="18902" t="0" r="0" b="20180"/>
            <a:stretch/>
          </p:blipFill>
          <p:spPr>
            <a:xfrm>
              <a:off x="3203280" y="3130560"/>
              <a:ext cx="73332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1" descr="aaaa"/>
            <p:cNvPicPr/>
            <p:nvPr/>
          </p:nvPicPr>
          <p:blipFill>
            <a:blip r:embed="rId6"/>
            <a:srcRect l="18911" t="0" r="0" b="20200"/>
            <a:stretch/>
          </p:blipFill>
          <p:spPr>
            <a:xfrm rot="10800000">
              <a:off x="2609640" y="3754440"/>
              <a:ext cx="680760" cy="69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2425680" y="4251960"/>
            <a:ext cx="1682280" cy="1681920"/>
            <a:chOff x="2425680" y="4251960"/>
            <a:chExt cx="1682280" cy="1681920"/>
          </a:xfrm>
        </p:grpSpPr>
        <p:sp>
          <p:nvSpPr>
            <p:cNvPr id="163" name="Oval 23"/>
            <p:cNvSpPr/>
            <p:nvPr/>
          </p:nvSpPr>
          <p:spPr>
            <a:xfrm rot="2728800">
              <a:off x="2671920" y="4498200"/>
              <a:ext cx="1189440" cy="1189440"/>
            </a:xfrm>
            <a:prstGeom prst="ellipse">
              <a:avLst/>
            </a:prstGeom>
            <a:gradFill rotWithShape="0">
              <a:gsLst>
                <a:gs pos="0">
                  <a:srgbClr val="587ada"/>
                </a:gs>
                <a:gs pos="100000">
                  <a:srgbClr val="435da6"/>
                </a:gs>
              </a:gsLst>
              <a:lin ang="2670000"/>
            </a:gradFill>
            <a:ln w="15840">
              <a:solidFill>
                <a:srgbClr val="587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24" descr="aaaa"/>
            <p:cNvPicPr/>
            <p:nvPr/>
          </p:nvPicPr>
          <p:blipFill>
            <a:blip r:embed="rId7"/>
            <a:srcRect l="18902" t="0" r="0" b="20180"/>
            <a:stretch/>
          </p:blipFill>
          <p:spPr>
            <a:xfrm>
              <a:off x="3203280" y="4432320"/>
              <a:ext cx="73332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5" descr="aaaa"/>
            <p:cNvPicPr/>
            <p:nvPr/>
          </p:nvPicPr>
          <p:blipFill>
            <a:blip r:embed="rId8"/>
            <a:srcRect l="18911" t="0" r="0" b="20200"/>
            <a:stretch/>
          </p:blipFill>
          <p:spPr>
            <a:xfrm rot="10800000">
              <a:off x="2609640" y="5056200"/>
              <a:ext cx="680760" cy="69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26"/>
          <p:cNvSpPr/>
          <p:nvPr/>
        </p:nvSpPr>
        <p:spPr>
          <a:xfrm>
            <a:off x="2864160" y="2251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7"/>
          <p:cNvSpPr/>
          <p:nvPr/>
        </p:nvSpPr>
        <p:spPr>
          <a:xfrm>
            <a:off x="2864160" y="3564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2864160" y="48769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29040" y="2075040"/>
            <a:ext cx="43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3952800" y="3403440"/>
            <a:ext cx="3841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3952800" y="4694400"/>
            <a:ext cx="3841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3489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3139920" y="6230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5537160" y="4811760"/>
            <a:ext cx="282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736560" y="4811760"/>
            <a:ext cx="282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 rot="18033600">
            <a:off x="1693440" y="170460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16153" h="7265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gradFill rotWithShape="0">
            <a:gsLst>
              <a:gs pos="0">
                <a:srgbClr val="bbc9f0"/>
              </a:gs>
              <a:gs pos="50000">
                <a:srgbClr val="587ada"/>
              </a:gs>
              <a:gs pos="100000">
                <a:srgbClr val="bbc9f0"/>
              </a:gs>
            </a:gsLst>
            <a:lin ang="8964000"/>
          </a:gradFill>
          <a:ln w="28440">
            <a:solidFill>
              <a:srgbClr val="feffff"/>
            </a:solidFill>
            <a:round/>
          </a:ln>
          <a:effectLst>
            <a:outerShdw dist="17819" dir="2700000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1714680" y="1698480"/>
            <a:ext cx="5630760" cy="5693040"/>
          </a:xfrm>
          <a:custGeom>
            <a:avLst/>
            <a:gdLst>
              <a:gd name="textAreaLeft" fmla="*/ 978120 w 5630760"/>
              <a:gd name="textAreaRight" fmla="*/ 4652640 w 5630760"/>
              <a:gd name="textAreaTop" fmla="*/ 0 h 5693040"/>
              <a:gd name="textAreaBottom" fmla="*/ 2015640 h 5693040"/>
            </a:gdLst>
            <a:ahLst/>
            <a:rect l="textAreaLeft" t="textAreaTop" r="textAreaRight" b="textAreaBottom"/>
            <a:pathLst>
              <a:path w="16150" h="7187">
                <a:moveTo>
                  <a:pt x="8739" y="7186"/>
                </a:moveTo>
                <a:cubicBezTo>
                  <a:pt x="9367" y="6828"/>
                  <a:pt x="10077" y="6639"/>
                  <a:pt x="10800" y="6640"/>
                </a:cubicBezTo>
                <a:cubicBezTo>
                  <a:pt x="11522" y="6640"/>
                  <a:pt x="12232" y="6828"/>
                  <a:pt x="12860" y="7186"/>
                </a:cubicBezTo>
                <a:lnTo>
                  <a:pt x="16150" y="1418"/>
                </a:lnTo>
                <a:cubicBezTo>
                  <a:pt x="14520" y="488"/>
                  <a:pt x="12676" y="-1"/>
                  <a:pt x="10799" y="0"/>
                </a:cubicBezTo>
                <a:cubicBezTo>
                  <a:pt x="8923" y="0"/>
                  <a:pt x="7079" y="488"/>
                  <a:pt x="5449" y="1418"/>
                </a:cubicBezTo>
                <a:lnTo>
                  <a:pt x="8739" y="7186"/>
                </a:lnTo>
                <a:close/>
              </a:path>
            </a:pathLst>
          </a:custGeom>
          <a:gradFill rotWithShape="0">
            <a:gsLst>
              <a:gs pos="0">
                <a:srgbClr val="f8d3d2"/>
              </a:gs>
              <a:gs pos="50000">
                <a:srgbClr val="e87774"/>
              </a:gs>
              <a:gs pos="100000">
                <a:srgbClr val="f8d3d2"/>
              </a:gs>
            </a:gsLst>
            <a:lin ang="5400000"/>
          </a:gradFill>
          <a:ln w="28440">
            <a:solidFill>
              <a:srgbClr val="feffff"/>
            </a:solidFill>
            <a:round/>
          </a:ln>
          <a:effectLst>
            <a:outerShdw dist="17819" dir="2700000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19440" y="1916280"/>
            <a:ext cx="1881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3492360" y="3457440"/>
            <a:ext cx="2075040" cy="200196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960"/>
              <a:gd name="textAreaBottom" fmla="*/ 330120 h 2001960"/>
            </a:gdLst>
            <a:ahLst/>
            <a:rect l="textAreaLeft" t="textAreaTop" r="textAreaRight" b="textAreaBottom"/>
            <a:pathLst>
              <a:path w="16241" h="2474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e87774"/>
          </a:solidFill>
          <a:ln w="28440">
            <a:solidFill>
              <a:srgbClr val="fe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 rot="18061200">
            <a:off x="3413520" y="3502440"/>
            <a:ext cx="2098440" cy="1979640"/>
          </a:xfrm>
          <a:custGeom>
            <a:avLst/>
            <a:gdLst>
              <a:gd name="textAreaLeft" fmla="*/ 353160 w 2098440"/>
              <a:gd name="textAreaRight" fmla="*/ 1745280 w 2098440"/>
              <a:gd name="textAreaTop" fmla="*/ 0 h 1979640"/>
              <a:gd name="textAreaBottom" fmla="*/ 329760 h 1979640"/>
            </a:gdLst>
            <a:ahLst/>
            <a:rect l="textAreaLeft" t="textAreaTop" r="textAreaRight" b="textAreaBottom"/>
            <a:pathLst>
              <a:path w="16271" h="2504">
                <a:moveTo>
                  <a:pt x="5925" y="2503"/>
                </a:moveTo>
                <a:cubicBezTo>
                  <a:pt x="7402" y="1634"/>
                  <a:pt x="9085" y="1176"/>
                  <a:pt x="10800" y="1177"/>
                </a:cubicBezTo>
                <a:cubicBezTo>
                  <a:pt x="12514" y="1177"/>
                  <a:pt x="14197" y="1634"/>
                  <a:pt x="15674" y="2503"/>
                </a:cubicBezTo>
                <a:lnTo>
                  <a:pt x="16271" y="1488"/>
                </a:lnTo>
                <a:cubicBezTo>
                  <a:pt x="14612" y="513"/>
                  <a:pt x="12723" y="-1"/>
                  <a:pt x="10799" y="0"/>
                </a:cubicBezTo>
                <a:cubicBezTo>
                  <a:pt x="8876" y="0"/>
                  <a:pt x="6987" y="513"/>
                  <a:pt x="5328" y="1488"/>
                </a:cubicBezTo>
                <a:lnTo>
                  <a:pt x="5925" y="2503"/>
                </a:lnTo>
                <a:close/>
              </a:path>
            </a:pathLst>
          </a:custGeom>
          <a:solidFill>
            <a:srgbClr val="587ada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959120" y="329868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 rot="3543600">
            <a:off x="1695600" y="1718280"/>
            <a:ext cx="5692680" cy="5630760"/>
          </a:xfrm>
          <a:custGeom>
            <a:avLst/>
            <a:gdLst>
              <a:gd name="textAreaLeft" fmla="*/ 1003320 w 5692680"/>
              <a:gd name="textAreaRight" fmla="*/ 4689360 w 5692680"/>
              <a:gd name="textAreaTop" fmla="*/ 0 h 5630760"/>
              <a:gd name="textAreaBottom" fmla="*/ 2006280 h 5630760"/>
            </a:gdLst>
            <a:ahLst/>
            <a:rect l="textAreaLeft" t="textAreaTop" r="textAreaRight" b="textAreaBottom"/>
            <a:pathLst>
              <a:path w="16091" h="7251">
                <a:moveTo>
                  <a:pt x="8805" y="7250"/>
                </a:moveTo>
                <a:cubicBezTo>
                  <a:pt x="9414" y="6907"/>
                  <a:pt x="10101" y="6727"/>
                  <a:pt x="10800" y="6728"/>
                </a:cubicBezTo>
                <a:cubicBezTo>
                  <a:pt x="11498" y="6728"/>
                  <a:pt x="12185" y="6907"/>
                  <a:pt x="12794" y="7250"/>
                </a:cubicBezTo>
                <a:lnTo>
                  <a:pt x="16091" y="1384"/>
                </a:lnTo>
                <a:cubicBezTo>
                  <a:pt x="14475" y="476"/>
                  <a:pt x="12653" y="-1"/>
                  <a:pt x="10799" y="0"/>
                </a:cubicBezTo>
                <a:cubicBezTo>
                  <a:pt x="8946" y="0"/>
                  <a:pt x="7124" y="476"/>
                  <a:pt x="5508" y="1384"/>
                </a:cubicBezTo>
                <a:lnTo>
                  <a:pt x="8805" y="7250"/>
                </a:lnTo>
                <a:close/>
              </a:path>
            </a:pathLst>
          </a:custGeom>
          <a:gradFill rotWithShape="0">
            <a:gsLst>
              <a:gs pos="0">
                <a:srgbClr val="c4e9df"/>
              </a:gs>
              <a:gs pos="50000">
                <a:srgbClr val="45b99b"/>
              </a:gs>
              <a:gs pos="100000">
                <a:srgbClr val="c4e9df"/>
              </a:gs>
            </a:gsLst>
            <a:lin ang="1854000"/>
          </a:gradFill>
          <a:ln w="28440">
            <a:solidFill>
              <a:srgbClr val="feffff"/>
            </a:solidFill>
            <a:round/>
          </a:ln>
          <a:effectLst>
            <a:outerShdw dist="17819" dir="2700000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348160" y="32986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3532200">
            <a:off x="3570840" y="3501360"/>
            <a:ext cx="2095560" cy="1979640"/>
          </a:xfrm>
          <a:custGeom>
            <a:avLst/>
            <a:gdLst>
              <a:gd name="textAreaLeft" fmla="*/ 348120 w 2095560"/>
              <a:gd name="textAreaRight" fmla="*/ 1747440 w 2095560"/>
              <a:gd name="textAreaTop" fmla="*/ 0 h 1979640"/>
              <a:gd name="textAreaBottom" fmla="*/ 341640 h 1979640"/>
            </a:gdLst>
            <a:ahLst/>
            <a:rect l="textAreaLeft" t="textAreaTop" r="textAreaRight" b="textAreaBottom"/>
            <a:pathLst>
              <a:path w="16322" h="2637">
                <a:moveTo>
                  <a:pt x="5942" y="2636"/>
                </a:moveTo>
                <a:cubicBezTo>
                  <a:pt x="7411" y="1761"/>
                  <a:pt x="9089" y="1299"/>
                  <a:pt x="10800" y="1300"/>
                </a:cubicBezTo>
                <a:cubicBezTo>
                  <a:pt x="12510" y="1300"/>
                  <a:pt x="14188" y="1761"/>
                  <a:pt x="15657" y="2636"/>
                </a:cubicBezTo>
                <a:lnTo>
                  <a:pt x="16322" y="1518"/>
                </a:lnTo>
                <a:cubicBezTo>
                  <a:pt x="14652" y="524"/>
                  <a:pt x="12744" y="-1"/>
                  <a:pt x="10799" y="0"/>
                </a:cubicBezTo>
                <a:cubicBezTo>
                  <a:pt x="8855" y="0"/>
                  <a:pt x="6947" y="524"/>
                  <a:pt x="5277" y="1518"/>
                </a:cubicBezTo>
                <a:lnTo>
                  <a:pt x="5942" y="2636"/>
                </a:lnTo>
                <a:close/>
              </a:path>
            </a:pathLst>
          </a:custGeom>
          <a:solidFill>
            <a:srgbClr val="45b99b"/>
          </a:solidFill>
          <a:ln w="28440">
            <a:solidFill>
              <a:srgbClr val="fe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263040" y="3271320"/>
            <a:ext cx="2552760" cy="2552760"/>
            <a:chOff x="3263040" y="3271320"/>
            <a:chExt cx="2552760" cy="2552760"/>
          </a:xfrm>
        </p:grpSpPr>
        <p:sp>
          <p:nvSpPr>
            <p:cNvPr id="187" name="Oval 15"/>
            <p:cNvSpPr/>
            <p:nvPr/>
          </p:nvSpPr>
          <p:spPr>
            <a:xfrm rot="2728800">
              <a:off x="3636360" y="3645360"/>
              <a:ext cx="1805760" cy="1804320"/>
            </a:xfrm>
            <a:prstGeom prst="ellipse">
              <a:avLst/>
            </a:prstGeom>
            <a:gradFill rotWithShape="0">
              <a:gsLst>
                <a:gs pos="0">
                  <a:srgbClr val="fcb528"/>
                </a:gs>
                <a:gs pos="100000">
                  <a:srgbClr val="c08a1e"/>
                </a:gs>
              </a:gsLst>
              <a:lin ang="2670000"/>
            </a:gradFill>
            <a:ln w="15840">
              <a:solidFill>
                <a:srgbClr val="fcb5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6" descr="aaaa"/>
            <p:cNvPicPr/>
            <p:nvPr/>
          </p:nvPicPr>
          <p:blipFill>
            <a:blip r:embed="rId1"/>
            <a:srcRect l="18902" t="0" r="0" b="20180"/>
            <a:stretch/>
          </p:blipFill>
          <p:spPr>
            <a:xfrm>
              <a:off x="4443480" y="3544920"/>
              <a:ext cx="1112040" cy="107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7" descr="aaaa"/>
            <p:cNvPicPr/>
            <p:nvPr/>
          </p:nvPicPr>
          <p:blipFill>
            <a:blip r:embed="rId2"/>
            <a:srcRect l="18902" t="0" r="0" b="20180"/>
            <a:stretch/>
          </p:blipFill>
          <p:spPr>
            <a:xfrm rot="10800000">
              <a:off x="3543480" y="4492800"/>
              <a:ext cx="1032480" cy="105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 Box 18"/>
          <p:cNvSpPr/>
          <p:nvPr/>
        </p:nvSpPr>
        <p:spPr>
          <a:xfrm>
            <a:off x="4051080" y="4265640"/>
            <a:ext cx="96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21240" y="2587680"/>
            <a:ext cx="4760640" cy="2414880"/>
            <a:chOff x="3621240" y="2587680"/>
            <a:chExt cx="4760640" cy="2414880"/>
          </a:xfrm>
        </p:grpSpPr>
        <p:sp>
          <p:nvSpPr>
            <p:cNvPr id="193" name="Line 4"/>
            <p:cNvSpPr/>
            <p:nvPr/>
          </p:nvSpPr>
          <p:spPr>
            <a:xfrm>
              <a:off x="3621240" y="25876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3621240" y="29930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3621240" y="33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3621240" y="37922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3621240" y="41860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3621240" y="459144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0"/>
            <p:cNvSpPr/>
            <p:nvPr/>
          </p:nvSpPr>
          <p:spPr>
            <a:xfrm>
              <a:off x="3621240" y="50022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3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196440" y="2328840"/>
            <a:ext cx="636480" cy="2670480"/>
            <a:chOff x="3196440" y="2328840"/>
            <a:chExt cx="636480" cy="2670480"/>
          </a:xfrm>
        </p:grpSpPr>
        <p:sp>
          <p:nvSpPr>
            <p:cNvPr id="201" name="Rectangle 12"/>
            <p:cNvSpPr/>
            <p:nvPr/>
          </p:nvSpPr>
          <p:spPr>
            <a:xfrm>
              <a:off x="3226320" y="4692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3220560" y="43182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3220560" y="38916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3196440" y="3485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3196440" y="3110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3196440" y="26838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3196440" y="23288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Text Box 19"/>
          <p:cNvSpPr/>
          <p:nvPr/>
        </p:nvSpPr>
        <p:spPr>
          <a:xfrm>
            <a:off x="2522520" y="56516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31960" y="5197320"/>
            <a:ext cx="6478560" cy="792000"/>
            <a:chOff x="1731960" y="5197320"/>
            <a:chExt cx="6478560" cy="792000"/>
          </a:xfrm>
        </p:grpSpPr>
        <p:sp>
          <p:nvSpPr>
            <p:cNvPr id="210" name="Rectangle 21"/>
            <p:cNvSpPr/>
            <p:nvPr/>
          </p:nvSpPr>
          <p:spPr>
            <a:xfrm flipV="1">
              <a:off x="1731960" y="57391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901960" y="5197320"/>
              <a:ext cx="5308560" cy="792000"/>
              <a:chOff x="2901960" y="5197320"/>
              <a:chExt cx="5308560" cy="792000"/>
            </a:xfrm>
          </p:grpSpPr>
          <p:sp>
            <p:nvSpPr>
              <p:cNvPr id="212" name="Line 23"/>
              <p:cNvSpPr/>
              <p:nvPr/>
            </p:nvSpPr>
            <p:spPr>
              <a:xfrm flipV="1">
                <a:off x="2901960" y="52164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4799160" y="52401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5657760" y="53827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26"/>
              <p:cNvSpPr/>
              <p:nvPr/>
            </p:nvSpPr>
            <p:spPr>
              <a:xfrm flipV="1">
                <a:off x="6581880" y="54255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27"/>
              <p:cNvSpPr/>
              <p:nvPr/>
            </p:nvSpPr>
            <p:spPr>
              <a:xfrm flipV="1">
                <a:off x="7497720" y="54529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3867120" y="51973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651120" y="2657520"/>
            <a:ext cx="4376880" cy="2993760"/>
            <a:chOff x="3651120" y="2657520"/>
            <a:chExt cx="4376880" cy="2993760"/>
          </a:xfrm>
        </p:grpSpPr>
        <p:pic>
          <p:nvPicPr>
            <p:cNvPr id="219" name="未知" descr=""/>
            <p:cNvPicPr/>
            <p:nvPr/>
          </p:nvPicPr>
          <p:blipFill>
            <a:blip r:embed="rId1"/>
            <a:stretch/>
          </p:blipFill>
          <p:spPr>
            <a:xfrm>
              <a:off x="3899160" y="2679480"/>
              <a:ext cx="410292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651120" y="2657520"/>
              <a:ext cx="4376880" cy="27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62480" y="3876840"/>
            <a:ext cx="4352760" cy="1950840"/>
            <a:chOff x="3462480" y="3876840"/>
            <a:chExt cx="4352760" cy="1950840"/>
          </a:xfrm>
        </p:grpSpPr>
        <p:pic>
          <p:nvPicPr>
            <p:cNvPr id="222" name="未知" descr=""/>
            <p:cNvPicPr/>
            <p:nvPr/>
          </p:nvPicPr>
          <p:blipFill>
            <a:blip r:embed="rId2"/>
            <a:stretch/>
          </p:blipFill>
          <p:spPr>
            <a:xfrm>
              <a:off x="3706560" y="3876840"/>
              <a:ext cx="4083120" cy="19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462480" y="3882960"/>
              <a:ext cx="43527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31"/>
          <p:cNvSpPr/>
          <p:nvPr/>
        </p:nvSpPr>
        <p:spPr>
          <a:xfrm>
            <a:off x="3471840" y="57276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4389480" y="5835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5280120" y="5911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6192720" y="59878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7118280" y="60642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6440400" y="334656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4025880" y="45529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38"/>
          <p:cNvSpPr/>
          <p:nvPr/>
        </p:nvSpPr>
        <p:spPr>
          <a:xfrm>
            <a:off x="4195800" y="32749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587ad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39"/>
          <p:cNvSpPr/>
          <p:nvPr/>
        </p:nvSpPr>
        <p:spPr>
          <a:xfrm>
            <a:off x="6075360" y="214632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e8777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54160" y="4241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154160" y="46576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512640" y="241308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43"/>
          <p:cNvSpPr/>
          <p:nvPr/>
        </p:nvSpPr>
        <p:spPr>
          <a:xfrm>
            <a:off x="512640" y="401328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4"/>
          <p:cNvSpPr/>
          <p:nvPr/>
        </p:nvSpPr>
        <p:spPr>
          <a:xfrm>
            <a:off x="797040" y="4699080"/>
            <a:ext cx="314280" cy="330120"/>
          </a:xfrm>
          <a:custGeom>
            <a:avLst/>
            <a:gdLst>
              <a:gd name="textAreaLeft" fmla="*/ 72000 w 314280"/>
              <a:gd name="textAreaRight" fmla="*/ 242280 w 314280"/>
              <a:gd name="textAreaTop" fmla="*/ 75600 h 330120"/>
              <a:gd name="textAreaBottom" fmla="*/ 2545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e87774"/>
              </a:gs>
              <a:gs pos="100000">
                <a:srgbClr val="9b4f4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45"/>
          <p:cNvSpPr/>
          <p:nvPr/>
        </p:nvSpPr>
        <p:spPr>
          <a:xfrm>
            <a:off x="790560" y="4272120"/>
            <a:ext cx="314280" cy="330120"/>
          </a:xfrm>
          <a:custGeom>
            <a:avLst/>
            <a:gdLst>
              <a:gd name="textAreaLeft" fmla="*/ 72000 w 314280"/>
              <a:gd name="textAreaRight" fmla="*/ 242280 w 314280"/>
              <a:gd name="textAreaTop" fmla="*/ 75600 h 330120"/>
              <a:gd name="textAreaBottom" fmla="*/ 254520 h 330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87ada"/>
              </a:gs>
              <a:gs pos="100000">
                <a:srgbClr val="3b5191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2d2015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2774880" y="3552840"/>
            <a:ext cx="3765600" cy="884160"/>
          </a:xfrm>
          <a:prstGeom prst="ellipse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 rot="20601600">
            <a:off x="2284560" y="2144520"/>
            <a:ext cx="3900240" cy="2011320"/>
          </a:xfrm>
          <a:prstGeom prst="ellipse">
            <a:avLst/>
          </a:prstGeom>
          <a:gradFill rotWithShape="0">
            <a:gsLst>
              <a:gs pos="0">
                <a:srgbClr val="aeaeae"/>
              </a:gs>
              <a:gs pos="50000">
                <a:srgbClr val="808080"/>
              </a:gs>
              <a:gs pos="100000">
                <a:srgbClr val="aeae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 rot="20601600">
            <a:off x="2322000" y="2036880"/>
            <a:ext cx="3765600" cy="1947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rc 6"/>
          <p:cNvSpPr/>
          <p:nvPr/>
        </p:nvSpPr>
        <p:spPr>
          <a:xfrm rot="20601600">
            <a:off x="4121280" y="1961640"/>
            <a:ext cx="1928520" cy="13114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587ada"/>
              </a:gs>
              <a:gs pos="100000">
                <a:srgbClr val="95abe7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rc 7"/>
          <p:cNvSpPr/>
          <p:nvPr/>
        </p:nvSpPr>
        <p:spPr>
          <a:xfrm flipH="1" rot="20602200">
            <a:off x="2486520" y="3213000"/>
            <a:ext cx="2220840" cy="98388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599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45b99b"/>
              </a:gs>
              <a:gs pos="100000">
                <a:srgbClr val="89d3b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rc 8"/>
          <p:cNvSpPr/>
          <p:nvPr/>
        </p:nvSpPr>
        <p:spPr>
          <a:xfrm rot="20601600">
            <a:off x="3170160" y="1991880"/>
            <a:ext cx="2185920" cy="9460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-1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e87774"/>
              </a:gs>
              <a:gs pos="100000">
                <a:srgbClr val="f2b1a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rc 9"/>
          <p:cNvSpPr/>
          <p:nvPr/>
        </p:nvSpPr>
        <p:spPr>
          <a:xfrm flipH="1" rot="20602200">
            <a:off x="2255040" y="2389320"/>
            <a:ext cx="1930320" cy="137736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fcb528"/>
              </a:gs>
              <a:gs pos="100000">
                <a:srgbClr val="fdce70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>
            <a:off x="5025960" y="2990880"/>
            <a:ext cx="1187640" cy="11858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cdd7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0539200">
            <a:off x="4379400" y="2582640"/>
            <a:ext cx="1846440" cy="12398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fff6bf"/>
              </a:gs>
              <a:gs pos="100000">
                <a:srgbClr val="fff2a3"/>
              </a:gs>
            </a:gsLst>
            <a:lin ang="91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4356000" y="3218040"/>
            <a:ext cx="696960" cy="98244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cdd7d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3"/>
          <p:cNvSpPr/>
          <p:nvPr/>
        </p:nvSpPr>
        <p:spPr>
          <a:xfrm rot="20601600">
            <a:off x="3311640" y="2512800"/>
            <a:ext cx="1823760" cy="8935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2582280" y="301464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3872880" y="211608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5109480" y="24066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4903200" y="321948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8"/>
          <p:cNvSpPr/>
          <p:nvPr/>
        </p:nvSpPr>
        <p:spPr>
          <a:xfrm>
            <a:off x="3407760" y="367668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4302000" y="3362400"/>
            <a:ext cx="584280" cy="71892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20"/>
          <p:cNvSpPr/>
          <p:nvPr/>
        </p:nvSpPr>
        <p:spPr>
          <a:xfrm rot="20601600">
            <a:off x="3379680" y="2681280"/>
            <a:ext cx="1751040" cy="727200"/>
          </a:xfrm>
          <a:prstGeom prst="ellipse">
            <a:avLst/>
          </a:prstGeom>
          <a:gradFill rotWithShape="0">
            <a:gsLst>
              <a:gs pos="0">
                <a:srgbClr val="0b5898"/>
              </a:gs>
              <a:gs pos="100000">
                <a:srgbClr val="0e74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5884920" y="166680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22"/>
          <p:cNvCxnSpPr/>
          <p:nvPr/>
        </p:nvCxnSpPr>
        <p:spPr>
          <a:xfrm flipV="1" rot="10800000">
            <a:off x="5691960" y="1784520"/>
            <a:ext cx="192960" cy="2955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Text Box 23"/>
          <p:cNvSpPr/>
          <p:nvPr/>
        </p:nvSpPr>
        <p:spPr>
          <a:xfrm>
            <a:off x="533520" y="2374920"/>
            <a:ext cx="196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AutoShape 24"/>
          <p:cNvCxnSpPr/>
          <p:nvPr/>
        </p:nvCxnSpPr>
        <p:spPr>
          <a:xfrm>
            <a:off x="2494080" y="2492280"/>
            <a:ext cx="180000" cy="2955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2" name="Text Box 25"/>
          <p:cNvSpPr/>
          <p:nvPr/>
        </p:nvSpPr>
        <p:spPr>
          <a:xfrm>
            <a:off x="1981080" y="1608120"/>
            <a:ext cx="19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AutoShape 26"/>
          <p:cNvCxnSpPr/>
          <p:nvPr/>
        </p:nvCxnSpPr>
        <p:spPr>
          <a:xfrm>
            <a:off x="3922560" y="1725120"/>
            <a:ext cx="178200" cy="2962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4" name="Text Box 27"/>
          <p:cNvSpPr/>
          <p:nvPr/>
        </p:nvSpPr>
        <p:spPr>
          <a:xfrm>
            <a:off x="6421320" y="3611520"/>
            <a:ext cx="211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AutoShape 28"/>
          <p:cNvCxnSpPr/>
          <p:nvPr/>
        </p:nvCxnSpPr>
        <p:spPr>
          <a:xfrm rot="10800000">
            <a:off x="5884200" y="33170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266" name="Text Box 29"/>
          <p:cNvSpPr/>
          <p:nvPr/>
        </p:nvSpPr>
        <p:spPr>
          <a:xfrm>
            <a:off x="83808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7" name="AutoShape 30"/>
          <p:cNvCxnSpPr>
            <a:stCxn id="266" idx="3"/>
            <a:endCxn id="255" idx="2"/>
          </p:cNvCxnSpPr>
          <p:nvPr/>
        </p:nvCxnSpPr>
        <p:spPr>
          <a:xfrm flipV="1">
            <a:off x="2666880" y="3980880"/>
            <a:ext cx="1062720" cy="3625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8" name="AutoShape 31"/>
          <p:cNvSpPr/>
          <p:nvPr/>
        </p:nvSpPr>
        <p:spPr>
          <a:xfrm>
            <a:off x="1295280" y="5315040"/>
            <a:ext cx="2111400" cy="1041480"/>
          </a:xfrm>
          <a:prstGeom prst="bevel">
            <a:avLst>
              <a:gd name="adj" fmla="val 1648"/>
            </a:avLst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2"/>
          <p:cNvSpPr/>
          <p:nvPr/>
        </p:nvSpPr>
        <p:spPr>
          <a:xfrm>
            <a:off x="1295280" y="4888080"/>
            <a:ext cx="2111400" cy="426960"/>
          </a:xfrm>
          <a:prstGeom prst="bevel">
            <a:avLst>
              <a:gd name="adj" fmla="val 3718"/>
            </a:avLst>
          </a:prstGeom>
          <a:solidFill>
            <a:srgbClr val="45b9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33"/>
          <p:cNvSpPr/>
          <p:nvPr/>
        </p:nvSpPr>
        <p:spPr>
          <a:xfrm>
            <a:off x="3429000" y="5315040"/>
            <a:ext cx="2111400" cy="1041480"/>
          </a:xfrm>
          <a:prstGeom prst="bevel">
            <a:avLst>
              <a:gd name="adj" fmla="val 1648"/>
            </a:avLst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34"/>
          <p:cNvSpPr/>
          <p:nvPr/>
        </p:nvSpPr>
        <p:spPr>
          <a:xfrm>
            <a:off x="3429000" y="4888080"/>
            <a:ext cx="2111400" cy="426960"/>
          </a:xfrm>
          <a:prstGeom prst="bevel">
            <a:avLst>
              <a:gd name="adj" fmla="val 3718"/>
            </a:avLst>
          </a:prstGeom>
          <a:solidFill>
            <a:srgbClr val="fc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1760400" y="494496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3893760" y="495468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295280" y="5415120"/>
            <a:ext cx="203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8"/>
          <p:cNvSpPr/>
          <p:nvPr/>
        </p:nvSpPr>
        <p:spPr>
          <a:xfrm>
            <a:off x="3429000" y="5415120"/>
            <a:ext cx="203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39"/>
          <p:cNvSpPr/>
          <p:nvPr/>
        </p:nvSpPr>
        <p:spPr>
          <a:xfrm>
            <a:off x="5543640" y="5311800"/>
            <a:ext cx="2111400" cy="1041480"/>
          </a:xfrm>
          <a:prstGeom prst="bevel">
            <a:avLst>
              <a:gd name="adj" fmla="val 1648"/>
            </a:avLst>
          </a:prstGeom>
          <a:gradFill rotWithShape="0">
            <a:gsLst>
              <a:gs pos="0">
                <a:srgbClr val="f4f4f4"/>
              </a:gs>
              <a:gs pos="50000">
                <a:srgbClr val="dddddd"/>
              </a:gs>
              <a:gs pos="100000">
                <a:srgbClr val="f4f4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40"/>
          <p:cNvSpPr/>
          <p:nvPr/>
        </p:nvSpPr>
        <p:spPr>
          <a:xfrm>
            <a:off x="5543640" y="4884840"/>
            <a:ext cx="2111400" cy="426960"/>
          </a:xfrm>
          <a:prstGeom prst="bevel">
            <a:avLst>
              <a:gd name="adj" fmla="val 3718"/>
            </a:avLst>
          </a:prstGeom>
          <a:solidFill>
            <a:srgbClr val="e8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41"/>
          <p:cNvSpPr/>
          <p:nvPr/>
        </p:nvSpPr>
        <p:spPr>
          <a:xfrm>
            <a:off x="6008400" y="4951440"/>
            <a:ext cx="11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2"/>
          <p:cNvSpPr/>
          <p:nvPr/>
        </p:nvSpPr>
        <p:spPr>
          <a:xfrm>
            <a:off x="5543640" y="5411880"/>
            <a:ext cx="203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1295280" y="4656240"/>
            <a:ext cx="6324840" cy="228600"/>
          </a:xfrm>
          <a:custGeom>
            <a:avLst/>
            <a:gdLst/>
            <a:ahLst/>
            <a:rect l="l" t="t" r="r" b="b"/>
            <a:pathLst>
              <a:path w="3984" h="144">
                <a:moveTo>
                  <a:pt x="0" y="144"/>
                </a:moveTo>
                <a:lnTo>
                  <a:pt x="624" y="0"/>
                </a:lnTo>
                <a:lnTo>
                  <a:pt x="3529" y="0"/>
                </a:lnTo>
                <a:lnTo>
                  <a:pt x="3984" y="144"/>
                </a:lnTo>
                <a:lnTo>
                  <a:pt x="0" y="144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c0c0c0"/>
              </a:gs>
              <a:gs pos="100000">
                <a:srgbClr val="dfdfd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44"/>
          <p:cNvSpPr/>
          <p:nvPr/>
        </p:nvSpPr>
        <p:spPr>
          <a:xfrm flipV="1">
            <a:off x="3425760" y="4647960"/>
            <a:ext cx="187560" cy="2062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45"/>
          <p:cNvSpPr/>
          <p:nvPr/>
        </p:nvSpPr>
        <p:spPr>
          <a:xfrm flipH="1" flipV="1">
            <a:off x="5343120" y="4652640"/>
            <a:ext cx="190440" cy="222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46"/>
          <p:cNvSpPr/>
          <p:nvPr/>
        </p:nvSpPr>
        <p:spPr>
          <a:xfrm>
            <a:off x="3176280" y="637524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fff2a3"/>
                </a:solidFill>
                <a:latin typeface="Arial"/>
                <a:ea typeface="宋体"/>
              </a:rPr>
              <a:t>宝藏</a:t>
            </a:r>
            <a:r>
              <a:rPr b="1" lang="en-US" sz="1800" spc="-1" strike="noStrike">
                <a:solidFill>
                  <a:srgbClr val="fff2a3"/>
                </a:solidFill>
                <a:latin typeface="Arial"/>
              </a:rPr>
              <a:t>_www.pptbz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265400" y="196992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87774"/>
              </a:gs>
              <a:gs pos="100000">
                <a:srgbClr val="a25351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268280" y="356076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87ada"/>
              </a:gs>
              <a:gs pos="100000">
                <a:srgbClr val="3d5598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1276200" y="5076720"/>
            <a:ext cx="6653520" cy="1032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cb528"/>
              </a:gs>
              <a:gs pos="100000">
                <a:srgbClr val="b07e1c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 flipV="1">
            <a:off x="1440000" y="3189960"/>
            <a:ext cx="6397560" cy="36180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61920 h 361800"/>
              <a:gd name="textAreaBottom" fmla="*/ 29988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87ada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 flipV="1">
            <a:off x="1343160" y="1599840"/>
            <a:ext cx="6502320" cy="36360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62280 h 363600"/>
              <a:gd name="textAreaBottom" fmla="*/ 30132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8777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 flipV="1">
            <a:off x="1395360" y="4711320"/>
            <a:ext cx="6475320" cy="363600"/>
          </a:xfrm>
          <a:custGeom>
            <a:avLst/>
            <a:gdLst>
              <a:gd name="textAreaLeft" fmla="*/ 1111320 w 6475320"/>
              <a:gd name="textAreaRight" fmla="*/ 5364000 w 6475320"/>
              <a:gd name="textAreaTop" fmla="*/ 62280 h 363600"/>
              <a:gd name="textAreaBottom" fmla="*/ 30132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cb528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9" descr="Picture4"/>
          <p:cNvPicPr/>
          <p:nvPr/>
        </p:nvPicPr>
        <p:blipFill>
          <a:blip r:embed="rId1"/>
          <a:stretch/>
        </p:blipFill>
        <p:spPr>
          <a:xfrm>
            <a:off x="1322280" y="2013120"/>
            <a:ext cx="674640" cy="57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Picture4"/>
          <p:cNvPicPr/>
          <p:nvPr/>
        </p:nvPicPr>
        <p:blipFill>
          <a:blip r:embed="rId2"/>
          <a:stretch/>
        </p:blipFill>
        <p:spPr>
          <a:xfrm>
            <a:off x="1319040" y="3606840"/>
            <a:ext cx="676440" cy="573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Picture4"/>
          <p:cNvPicPr/>
          <p:nvPr/>
        </p:nvPicPr>
        <p:blipFill>
          <a:blip r:embed="rId3"/>
          <a:stretch/>
        </p:blipFill>
        <p:spPr>
          <a:xfrm>
            <a:off x="1324080" y="511812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2"/>
          <p:cNvSpPr/>
          <p:nvPr/>
        </p:nvSpPr>
        <p:spPr>
          <a:xfrm>
            <a:off x="1752480" y="174312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e877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1752480" y="33526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587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1752480" y="4854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cb5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1676520" y="23526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1676520" y="38894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1676520" y="53672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2133720" y="1743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7774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2133720" y="33624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7ada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133720" y="48657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b52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4008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2a3"/>
                </a:solidFill>
                <a:latin typeface="Times New Roman"/>
                <a:ea typeface="宋体"/>
              </a:rPr>
              <a:t>Click to edit title style</a:t>
            </a:r>
            <a:endParaRPr b="1" lang="en-US" sz="4000" spc="-1" strike="noStrike">
              <a:solidFill>
                <a:srgbClr val="fff2a3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547640" y="2577960"/>
            <a:ext cx="3111840" cy="698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547640" y="3311640"/>
            <a:ext cx="3111840" cy="698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1547640" y="4051440"/>
            <a:ext cx="3111840" cy="709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 rot="308400">
            <a:off x="6705720" y="2575080"/>
            <a:ext cx="1469880" cy="1573200"/>
          </a:xfrm>
          <a:custGeom>
            <a:avLst/>
            <a:gdLst>
              <a:gd name="textAreaLeft" fmla="*/ 215280 w 1469880"/>
              <a:gd name="textAreaRight" fmla="*/ 1254600 w 1469880"/>
              <a:gd name="textAreaTop" fmla="*/ 230400 h 1573200"/>
              <a:gd name="textAreaBottom" fmla="*/ 1342800 h 157320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0e74c8">
                  <a:alpha val="0"/>
                </a:srgbClr>
              </a:gs>
              <a:gs pos="100000">
                <a:srgbClr val="ffffff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6164280" y="211140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e87774"/>
              </a:gs>
              <a:gs pos="50000">
                <a:srgbClr val="9a4f4d"/>
              </a:gs>
              <a:gs pos="100000">
                <a:srgbClr val="e877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7326360" y="3787920"/>
            <a:ext cx="1220760" cy="1220760"/>
          </a:xfrm>
          <a:prstGeom prst="ellipse">
            <a:avLst/>
          </a:prstGeom>
          <a:gradFill rotWithShape="0">
            <a:gsLst>
              <a:gs pos="0">
                <a:srgbClr val="587ada"/>
              </a:gs>
              <a:gs pos="50000">
                <a:srgbClr val="202c4f"/>
              </a:gs>
              <a:gs pos="100000">
                <a:srgbClr val="587ada"/>
              </a:gs>
            </a:gsLst>
            <a:lin ang="81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9"/>
          <p:cNvSpPr/>
          <p:nvPr/>
        </p:nvSpPr>
        <p:spPr>
          <a:xfrm rot="7527600">
            <a:off x="6083280" y="3889080"/>
            <a:ext cx="1468440" cy="1573200"/>
          </a:xfrm>
          <a:custGeom>
            <a:avLst/>
            <a:gdLst>
              <a:gd name="textAreaLeft" fmla="*/ 214920 w 1468440"/>
              <a:gd name="textAreaRight" fmla="*/ 1253520 w 1468440"/>
              <a:gd name="textAreaTop" fmla="*/ 230400 h 1573200"/>
              <a:gd name="textAreaBottom" fmla="*/ 1342800 h 157320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0e74c8">
                  <a:alpha val="0"/>
                </a:srgbClr>
              </a:gs>
              <a:gs pos="100000">
                <a:srgbClr val="ffffff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 rot="15216000">
            <a:off x="5223600" y="2751480"/>
            <a:ext cx="1468440" cy="1575000"/>
          </a:xfrm>
          <a:custGeom>
            <a:avLst/>
            <a:gdLst>
              <a:gd name="textAreaLeft" fmla="*/ 214920 w 1468440"/>
              <a:gd name="textAreaRight" fmla="*/ 1253520 w 1468440"/>
              <a:gd name="textAreaTop" fmla="*/ 230400 h 1575000"/>
              <a:gd name="textAreaBottom" fmla="*/ 1344600 h 1575000"/>
            </a:gdLst>
            <a:ahLst/>
            <a:rect l="textAreaLeft" t="textAreaTop" r="textAreaRight" b="textAreaBottom"/>
            <a:pathLst>
              <a:path w="24298" h="15151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0e74c8">
                  <a:alpha val="0"/>
                </a:srgbClr>
              </a:gs>
              <a:gs pos="100000">
                <a:srgbClr val="ffffff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5146560" y="3792600"/>
            <a:ext cx="1220760" cy="1218960"/>
          </a:xfrm>
          <a:prstGeom prst="ellipse">
            <a:avLst/>
          </a:prstGeom>
          <a:gradFill rotWithShape="0">
            <a:gsLst>
              <a:gs pos="0">
                <a:srgbClr val="fcb528"/>
              </a:gs>
              <a:gs pos="100000">
                <a:srgbClr val="cf9421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092280" y="2718000"/>
            <a:ext cx="1030320" cy="669960"/>
            <a:chOff x="6092280" y="2718000"/>
            <a:chExt cx="1030320" cy="669960"/>
          </a:xfrm>
        </p:grpSpPr>
        <p:grpSp>
          <p:nvGrpSpPr>
            <p:cNvPr id="314" name=""/>
            <p:cNvGrpSpPr/>
            <p:nvPr/>
          </p:nvGrpSpPr>
          <p:grpSpPr>
            <a:xfrm>
              <a:off x="6203160" y="2921760"/>
              <a:ext cx="919440" cy="456120"/>
              <a:chOff x="6203160" y="2921760"/>
              <a:chExt cx="919440" cy="456120"/>
            </a:xfrm>
          </p:grpSpPr>
          <p:sp>
            <p:nvSpPr>
              <p:cNvPr id="315" name="AutoShape 14"/>
              <p:cNvSpPr/>
              <p:nvPr/>
            </p:nvSpPr>
            <p:spPr>
              <a:xfrm flipH="1" flipV="1" rot="5374800">
                <a:off x="6701400" y="2861280"/>
                <a:ext cx="17064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AutoShape 15"/>
              <p:cNvSpPr/>
              <p:nvPr/>
            </p:nvSpPr>
            <p:spPr>
              <a:xfrm flipH="1" flipV="1" rot="6190800">
                <a:off x="6590880" y="2857320"/>
                <a:ext cx="17064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AutoShape 16"/>
              <p:cNvSpPr/>
              <p:nvPr/>
            </p:nvSpPr>
            <p:spPr>
              <a:xfrm flipH="1" flipV="1" rot="6486600">
                <a:off x="6527880" y="2837520"/>
                <a:ext cx="170640" cy="67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AutoShape 17"/>
              <p:cNvSpPr/>
              <p:nvPr/>
            </p:nvSpPr>
            <p:spPr>
              <a:xfrm flipH="1" flipV="1" rot="7018800">
                <a:off x="6454800" y="2814840"/>
                <a:ext cx="170640" cy="67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092280" y="2718000"/>
              <a:ext cx="835560" cy="669960"/>
              <a:chOff x="6092280" y="2718000"/>
              <a:chExt cx="835560" cy="669960"/>
            </a:xfrm>
          </p:grpSpPr>
          <p:sp>
            <p:nvSpPr>
              <p:cNvPr id="320" name="AutoShape 19"/>
              <p:cNvSpPr/>
              <p:nvPr/>
            </p:nvSpPr>
            <p:spPr>
              <a:xfrm flipH="1" flipV="1" rot="6727800">
                <a:off x="6499080" y="2831760"/>
                <a:ext cx="171720" cy="67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AutoShape 20"/>
              <p:cNvSpPr/>
              <p:nvPr/>
            </p:nvSpPr>
            <p:spPr>
              <a:xfrm flipH="1" flipV="1" rot="7543800">
                <a:off x="6397200" y="278604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AutoShape 21"/>
              <p:cNvSpPr/>
              <p:nvPr/>
            </p:nvSpPr>
            <p:spPr>
              <a:xfrm flipH="1" flipV="1" rot="7839000">
                <a:off x="6347520" y="274464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AutoShape 22"/>
              <p:cNvSpPr/>
              <p:nvPr/>
            </p:nvSpPr>
            <p:spPr>
              <a:xfrm flipH="1" flipV="1" rot="8371200">
                <a:off x="6288840" y="269352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6172200" y="2784960"/>
            <a:ext cx="845280" cy="548280"/>
            <a:chOff x="6172200" y="2784960"/>
            <a:chExt cx="845280" cy="548280"/>
          </a:xfrm>
        </p:grpSpPr>
        <p:grpSp>
          <p:nvGrpSpPr>
            <p:cNvPr id="325" name=""/>
            <p:cNvGrpSpPr/>
            <p:nvPr/>
          </p:nvGrpSpPr>
          <p:grpSpPr>
            <a:xfrm>
              <a:off x="6262200" y="2952000"/>
              <a:ext cx="755280" cy="374400"/>
              <a:chOff x="6262200" y="2952000"/>
              <a:chExt cx="755280" cy="374400"/>
            </a:xfrm>
          </p:grpSpPr>
          <p:sp>
            <p:nvSpPr>
              <p:cNvPr id="326" name="AutoShape 25"/>
              <p:cNvSpPr/>
              <p:nvPr/>
            </p:nvSpPr>
            <p:spPr>
              <a:xfrm flipH="1" flipV="1" rot="5374800">
                <a:off x="6671880" y="290160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AutoShape 26"/>
              <p:cNvSpPr/>
              <p:nvPr/>
            </p:nvSpPr>
            <p:spPr>
              <a:xfrm flipH="1" flipV="1" rot="6190800">
                <a:off x="6579720" y="289872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AutoShape 27"/>
              <p:cNvSpPr/>
              <p:nvPr/>
            </p:nvSpPr>
            <p:spPr>
              <a:xfrm flipH="1" flipV="1" rot="6486600">
                <a:off x="6529320" y="288360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AutoShape 28"/>
              <p:cNvSpPr/>
              <p:nvPr/>
            </p:nvSpPr>
            <p:spPr>
              <a:xfrm flipH="1" flipV="1" rot="7018800">
                <a:off x="6469560" y="2863080"/>
                <a:ext cx="13968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172200" y="2784960"/>
              <a:ext cx="686520" cy="548280"/>
              <a:chOff x="6172200" y="2784960"/>
              <a:chExt cx="686520" cy="548280"/>
            </a:xfrm>
          </p:grpSpPr>
          <p:sp>
            <p:nvSpPr>
              <p:cNvPr id="331" name="AutoShape 30"/>
              <p:cNvSpPr/>
              <p:nvPr/>
            </p:nvSpPr>
            <p:spPr>
              <a:xfrm flipH="1" flipV="1" rot="6727800">
                <a:off x="6506280" y="2877480"/>
                <a:ext cx="14076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AutoShape 31"/>
              <p:cNvSpPr/>
              <p:nvPr/>
            </p:nvSpPr>
            <p:spPr>
              <a:xfrm flipH="1" flipV="1" rot="7543800">
                <a:off x="6422400" y="2840760"/>
                <a:ext cx="140400" cy="55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AutoShape 32"/>
              <p:cNvSpPr/>
              <p:nvPr/>
            </p:nvSpPr>
            <p:spPr>
              <a:xfrm flipH="1" flipV="1" rot="7839000">
                <a:off x="6381360" y="2806200"/>
                <a:ext cx="14076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AutoShape 33"/>
              <p:cNvSpPr/>
              <p:nvPr/>
            </p:nvSpPr>
            <p:spPr>
              <a:xfrm flipH="1" flipV="1" rot="8371200">
                <a:off x="6333840" y="2764440"/>
                <a:ext cx="14076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5080680" y="4399920"/>
            <a:ext cx="1032840" cy="670320"/>
            <a:chOff x="5080680" y="4399920"/>
            <a:chExt cx="1032840" cy="670320"/>
          </a:xfrm>
        </p:grpSpPr>
        <p:grpSp>
          <p:nvGrpSpPr>
            <p:cNvPr id="336" name=""/>
            <p:cNvGrpSpPr/>
            <p:nvPr/>
          </p:nvGrpSpPr>
          <p:grpSpPr>
            <a:xfrm>
              <a:off x="5191200" y="4603320"/>
              <a:ext cx="922320" cy="456840"/>
              <a:chOff x="5191200" y="4603320"/>
              <a:chExt cx="922320" cy="456840"/>
            </a:xfrm>
          </p:grpSpPr>
          <p:sp>
            <p:nvSpPr>
              <p:cNvPr id="337" name="AutoShape 36"/>
              <p:cNvSpPr/>
              <p:nvPr/>
            </p:nvSpPr>
            <p:spPr>
              <a:xfrm flipH="1" flipV="1" rot="5374800">
                <a:off x="5690880" y="4542480"/>
                <a:ext cx="17100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AutoShape 37"/>
              <p:cNvSpPr/>
              <p:nvPr/>
            </p:nvSpPr>
            <p:spPr>
              <a:xfrm flipH="1" flipV="1" rot="6190800">
                <a:off x="5578920" y="4538880"/>
                <a:ext cx="17100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AutoShape 38"/>
              <p:cNvSpPr/>
              <p:nvPr/>
            </p:nvSpPr>
            <p:spPr>
              <a:xfrm flipH="1" flipV="1" rot="6486600">
                <a:off x="5517000" y="4520520"/>
                <a:ext cx="17100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AutoShape 39"/>
              <p:cNvSpPr/>
              <p:nvPr/>
            </p:nvSpPr>
            <p:spPr>
              <a:xfrm flipH="1" flipV="1" rot="7018800">
                <a:off x="5443920" y="4495680"/>
                <a:ext cx="17100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080680" y="4399920"/>
              <a:ext cx="838440" cy="670320"/>
              <a:chOff x="5080680" y="4399920"/>
              <a:chExt cx="838440" cy="670320"/>
            </a:xfrm>
          </p:grpSpPr>
          <p:sp>
            <p:nvSpPr>
              <p:cNvPr id="342" name="AutoShape 41"/>
              <p:cNvSpPr/>
              <p:nvPr/>
            </p:nvSpPr>
            <p:spPr>
              <a:xfrm flipH="1" flipV="1" rot="6727800">
                <a:off x="5488560" y="4513320"/>
                <a:ext cx="17208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AutoShape 42"/>
              <p:cNvSpPr/>
              <p:nvPr/>
            </p:nvSpPr>
            <p:spPr>
              <a:xfrm flipH="1" flipV="1" rot="7543800">
                <a:off x="5386680" y="4466880"/>
                <a:ext cx="17208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AutoShape 43"/>
              <p:cNvSpPr/>
              <p:nvPr/>
            </p:nvSpPr>
            <p:spPr>
              <a:xfrm flipH="1" flipV="1" rot="7839000">
                <a:off x="5336640" y="4425480"/>
                <a:ext cx="17208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AutoShape 44"/>
              <p:cNvSpPr/>
              <p:nvPr/>
            </p:nvSpPr>
            <p:spPr>
              <a:xfrm flipH="1" flipV="1" rot="8371200">
                <a:off x="5277600" y="4375080"/>
                <a:ext cx="17208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5159880" y="4467600"/>
            <a:ext cx="846000" cy="548640"/>
            <a:chOff x="5159880" y="4467600"/>
            <a:chExt cx="846000" cy="548640"/>
          </a:xfrm>
        </p:grpSpPr>
        <p:grpSp>
          <p:nvGrpSpPr>
            <p:cNvPr id="347" name=""/>
            <p:cNvGrpSpPr/>
            <p:nvPr/>
          </p:nvGrpSpPr>
          <p:grpSpPr>
            <a:xfrm>
              <a:off x="5250240" y="4634280"/>
              <a:ext cx="755640" cy="374400"/>
              <a:chOff x="5250240" y="4634280"/>
              <a:chExt cx="755640" cy="374400"/>
            </a:xfrm>
          </p:grpSpPr>
          <p:sp>
            <p:nvSpPr>
              <p:cNvPr id="348" name="AutoShape 47"/>
              <p:cNvSpPr/>
              <p:nvPr/>
            </p:nvSpPr>
            <p:spPr>
              <a:xfrm flipH="1" flipV="1" rot="5374800">
                <a:off x="5659200" y="4583520"/>
                <a:ext cx="13968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AutoShape 48"/>
              <p:cNvSpPr/>
              <p:nvPr/>
            </p:nvSpPr>
            <p:spPr>
              <a:xfrm flipH="1" flipV="1" rot="6190800">
                <a:off x="5568120" y="4580280"/>
                <a:ext cx="139680" cy="55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AutoShape 49"/>
              <p:cNvSpPr/>
              <p:nvPr/>
            </p:nvSpPr>
            <p:spPr>
              <a:xfrm flipH="1" flipV="1" rot="6486600">
                <a:off x="5516280" y="4565880"/>
                <a:ext cx="13968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AutoShape 50"/>
              <p:cNvSpPr/>
              <p:nvPr/>
            </p:nvSpPr>
            <p:spPr>
              <a:xfrm flipH="1" flipV="1" rot="7018800">
                <a:off x="5457240" y="4545720"/>
                <a:ext cx="139680" cy="55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159880" y="4467600"/>
              <a:ext cx="686520" cy="548640"/>
              <a:chOff x="5159880" y="4467600"/>
              <a:chExt cx="686520" cy="548640"/>
            </a:xfrm>
          </p:grpSpPr>
          <p:sp>
            <p:nvSpPr>
              <p:cNvPr id="353" name="AutoShape 52"/>
              <p:cNvSpPr/>
              <p:nvPr/>
            </p:nvSpPr>
            <p:spPr>
              <a:xfrm flipH="1" flipV="1" rot="6727800">
                <a:off x="5493600" y="4559400"/>
                <a:ext cx="14076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AutoShape 53"/>
              <p:cNvSpPr/>
              <p:nvPr/>
            </p:nvSpPr>
            <p:spPr>
              <a:xfrm flipH="1" flipV="1" rot="7543800">
                <a:off x="5410440" y="4521960"/>
                <a:ext cx="140400" cy="55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AutoShape 54"/>
              <p:cNvSpPr/>
              <p:nvPr/>
            </p:nvSpPr>
            <p:spPr>
              <a:xfrm flipH="1" flipV="1" rot="7839000">
                <a:off x="5368680" y="4487760"/>
                <a:ext cx="140760" cy="551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utoShape 55"/>
              <p:cNvSpPr/>
              <p:nvPr/>
            </p:nvSpPr>
            <p:spPr>
              <a:xfrm flipH="1" flipV="1" rot="8371200">
                <a:off x="5321880" y="4447080"/>
                <a:ext cx="140760" cy="55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7274880" y="4399200"/>
            <a:ext cx="1030320" cy="669960"/>
            <a:chOff x="7274880" y="4399200"/>
            <a:chExt cx="1030320" cy="669960"/>
          </a:xfrm>
        </p:grpSpPr>
        <p:grpSp>
          <p:nvGrpSpPr>
            <p:cNvPr id="358" name=""/>
            <p:cNvGrpSpPr/>
            <p:nvPr/>
          </p:nvGrpSpPr>
          <p:grpSpPr>
            <a:xfrm>
              <a:off x="7385760" y="4602960"/>
              <a:ext cx="919440" cy="456120"/>
              <a:chOff x="7385760" y="4602960"/>
              <a:chExt cx="919440" cy="456120"/>
            </a:xfrm>
          </p:grpSpPr>
          <p:sp>
            <p:nvSpPr>
              <p:cNvPr id="359" name="AutoShape 58"/>
              <p:cNvSpPr/>
              <p:nvPr/>
            </p:nvSpPr>
            <p:spPr>
              <a:xfrm flipH="1" flipV="1" rot="5374800">
                <a:off x="7884000" y="4542480"/>
                <a:ext cx="17064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AutoShape 59"/>
              <p:cNvSpPr/>
              <p:nvPr/>
            </p:nvSpPr>
            <p:spPr>
              <a:xfrm flipH="1" flipV="1" rot="6190800">
                <a:off x="7773480" y="4538520"/>
                <a:ext cx="170640" cy="670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AutoShape 60"/>
              <p:cNvSpPr/>
              <p:nvPr/>
            </p:nvSpPr>
            <p:spPr>
              <a:xfrm flipH="1" flipV="1" rot="6486600">
                <a:off x="7710480" y="4518720"/>
                <a:ext cx="170640" cy="671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AutoShape 61"/>
              <p:cNvSpPr/>
              <p:nvPr/>
            </p:nvSpPr>
            <p:spPr>
              <a:xfrm flipH="1" flipV="1" rot="7018800">
                <a:off x="7637400" y="4496040"/>
                <a:ext cx="170640" cy="67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274880" y="4399200"/>
              <a:ext cx="835560" cy="669960"/>
              <a:chOff x="7274880" y="4399200"/>
              <a:chExt cx="835560" cy="669960"/>
            </a:xfrm>
          </p:grpSpPr>
          <p:sp>
            <p:nvSpPr>
              <p:cNvPr id="364" name="AutoShape 63"/>
              <p:cNvSpPr/>
              <p:nvPr/>
            </p:nvSpPr>
            <p:spPr>
              <a:xfrm flipH="1" flipV="1" rot="6727800">
                <a:off x="7681680" y="4512960"/>
                <a:ext cx="171720" cy="670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AutoShape 64"/>
              <p:cNvSpPr/>
              <p:nvPr/>
            </p:nvSpPr>
            <p:spPr>
              <a:xfrm flipH="1" flipV="1" rot="7543800">
                <a:off x="7579800" y="446724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AutoShape 65"/>
              <p:cNvSpPr/>
              <p:nvPr/>
            </p:nvSpPr>
            <p:spPr>
              <a:xfrm flipH="1" flipV="1" rot="7839000">
                <a:off x="7530120" y="442584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66"/>
              <p:cNvSpPr/>
              <p:nvPr/>
            </p:nvSpPr>
            <p:spPr>
              <a:xfrm flipH="1" flipV="1" rot="8371200">
                <a:off x="7471440" y="4374720"/>
                <a:ext cx="171720" cy="671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7355160" y="4466160"/>
            <a:ext cx="845280" cy="548280"/>
            <a:chOff x="7355160" y="4466160"/>
            <a:chExt cx="845280" cy="548280"/>
          </a:xfrm>
        </p:grpSpPr>
        <p:grpSp>
          <p:nvGrpSpPr>
            <p:cNvPr id="369" name=""/>
            <p:cNvGrpSpPr/>
            <p:nvPr/>
          </p:nvGrpSpPr>
          <p:grpSpPr>
            <a:xfrm>
              <a:off x="7445160" y="4633200"/>
              <a:ext cx="755280" cy="374400"/>
              <a:chOff x="7445160" y="4633200"/>
              <a:chExt cx="755280" cy="374400"/>
            </a:xfrm>
          </p:grpSpPr>
          <p:sp>
            <p:nvSpPr>
              <p:cNvPr id="370" name="AutoShape 69"/>
              <p:cNvSpPr/>
              <p:nvPr/>
            </p:nvSpPr>
            <p:spPr>
              <a:xfrm flipH="1" flipV="1" rot="5374800">
                <a:off x="7854840" y="458280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AutoShape 70"/>
              <p:cNvSpPr/>
              <p:nvPr/>
            </p:nvSpPr>
            <p:spPr>
              <a:xfrm flipH="1" flipV="1" rot="6190800">
                <a:off x="7762680" y="457992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AutoShape 71"/>
              <p:cNvSpPr/>
              <p:nvPr/>
            </p:nvSpPr>
            <p:spPr>
              <a:xfrm flipH="1" flipV="1" rot="6486600">
                <a:off x="7712280" y="456480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utoShape 72"/>
              <p:cNvSpPr/>
              <p:nvPr/>
            </p:nvSpPr>
            <p:spPr>
              <a:xfrm flipH="1" flipV="1" rot="7018800">
                <a:off x="7652520" y="4544280"/>
                <a:ext cx="13968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7355160" y="4466160"/>
              <a:ext cx="686520" cy="548280"/>
              <a:chOff x="7355160" y="4466160"/>
              <a:chExt cx="686520" cy="548280"/>
            </a:xfrm>
          </p:grpSpPr>
          <p:sp>
            <p:nvSpPr>
              <p:cNvPr id="375" name="AutoShape 74"/>
              <p:cNvSpPr/>
              <p:nvPr/>
            </p:nvSpPr>
            <p:spPr>
              <a:xfrm flipH="1" flipV="1" rot="6727800">
                <a:off x="7689240" y="4558680"/>
                <a:ext cx="14076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AutoShape 75"/>
              <p:cNvSpPr/>
              <p:nvPr/>
            </p:nvSpPr>
            <p:spPr>
              <a:xfrm flipH="1" flipV="1" rot="7543800">
                <a:off x="7605360" y="4521960"/>
                <a:ext cx="140400" cy="55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AutoShape 76"/>
              <p:cNvSpPr/>
              <p:nvPr/>
            </p:nvSpPr>
            <p:spPr>
              <a:xfrm flipH="1" flipV="1" rot="7839000">
                <a:off x="7564320" y="4487400"/>
                <a:ext cx="14076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AutoShape 77"/>
              <p:cNvSpPr/>
              <p:nvPr/>
            </p:nvSpPr>
            <p:spPr>
              <a:xfrm flipH="1" flipV="1" rot="8371200">
                <a:off x="7516800" y="4445640"/>
                <a:ext cx="14076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6533280" y="2065680"/>
            <a:ext cx="951120" cy="778680"/>
            <a:chOff x="6533280" y="2065680"/>
            <a:chExt cx="951120" cy="778680"/>
          </a:xfrm>
        </p:grpSpPr>
        <p:grpSp>
          <p:nvGrpSpPr>
            <p:cNvPr id="380" name=""/>
            <p:cNvGrpSpPr/>
            <p:nvPr/>
          </p:nvGrpSpPr>
          <p:grpSpPr>
            <a:xfrm>
              <a:off x="6533280" y="2065680"/>
              <a:ext cx="893160" cy="567720"/>
              <a:chOff x="6533280" y="2065680"/>
              <a:chExt cx="893160" cy="567720"/>
            </a:xfrm>
          </p:grpSpPr>
          <p:sp>
            <p:nvSpPr>
              <p:cNvPr id="381" name="AutoShape 80"/>
              <p:cNvSpPr/>
              <p:nvPr/>
            </p:nvSpPr>
            <p:spPr>
              <a:xfrm flipH="1" flipV="1" rot="16891800">
                <a:off x="6794280" y="1922040"/>
                <a:ext cx="17064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AutoShape 81"/>
              <p:cNvSpPr/>
              <p:nvPr/>
            </p:nvSpPr>
            <p:spPr>
              <a:xfrm flipH="1" flipV="1" rot="17707200">
                <a:off x="6902640" y="1949760"/>
                <a:ext cx="170640" cy="671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AutoShape 82"/>
              <p:cNvSpPr/>
              <p:nvPr/>
            </p:nvSpPr>
            <p:spPr>
              <a:xfrm flipH="1" flipV="1" rot="18003000">
                <a:off x="6959520" y="1980360"/>
                <a:ext cx="17064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AutoShape 83"/>
              <p:cNvSpPr/>
              <p:nvPr/>
            </p:nvSpPr>
            <p:spPr>
              <a:xfrm flipH="1" flipV="1" rot="18535200">
                <a:off x="7026120" y="2019600"/>
                <a:ext cx="17064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744600" y="2070000"/>
              <a:ext cx="739800" cy="774360"/>
              <a:chOff x="6744600" y="2070000"/>
              <a:chExt cx="739800" cy="774360"/>
            </a:xfrm>
          </p:grpSpPr>
          <p:sp>
            <p:nvSpPr>
              <p:cNvPr id="386" name="AutoShape 85"/>
              <p:cNvSpPr/>
              <p:nvPr/>
            </p:nvSpPr>
            <p:spPr>
              <a:xfrm flipH="1" flipV="1" rot="18244800">
                <a:off x="6985080" y="1993320"/>
                <a:ext cx="17172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AutoShape 86"/>
              <p:cNvSpPr/>
              <p:nvPr/>
            </p:nvSpPr>
            <p:spPr>
              <a:xfrm flipH="1" flipV="1" rot="19060800">
                <a:off x="7075080" y="2059200"/>
                <a:ext cx="17172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AutoShape 87"/>
              <p:cNvSpPr/>
              <p:nvPr/>
            </p:nvSpPr>
            <p:spPr>
              <a:xfrm flipH="1" flipV="1" rot="19356000">
                <a:off x="7115760" y="2108880"/>
                <a:ext cx="17172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AutoShape 88"/>
              <p:cNvSpPr/>
              <p:nvPr/>
            </p:nvSpPr>
            <p:spPr>
              <a:xfrm flipH="1" flipV="1" rot="19888200">
                <a:off x="7162200" y="2171880"/>
                <a:ext cx="171720" cy="672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6636240" y="2128320"/>
            <a:ext cx="778680" cy="639000"/>
            <a:chOff x="6636240" y="2128320"/>
            <a:chExt cx="778680" cy="639000"/>
          </a:xfrm>
        </p:grpSpPr>
        <p:grpSp>
          <p:nvGrpSpPr>
            <p:cNvPr id="391" name=""/>
            <p:cNvGrpSpPr/>
            <p:nvPr/>
          </p:nvGrpSpPr>
          <p:grpSpPr>
            <a:xfrm>
              <a:off x="6636240" y="2128320"/>
              <a:ext cx="732240" cy="465840"/>
              <a:chOff x="6636240" y="2128320"/>
              <a:chExt cx="732240" cy="465840"/>
            </a:xfrm>
          </p:grpSpPr>
          <p:sp>
            <p:nvSpPr>
              <p:cNvPr id="392" name="AutoShape 91"/>
              <p:cNvSpPr/>
              <p:nvPr/>
            </p:nvSpPr>
            <p:spPr>
              <a:xfrm flipH="1" flipV="1" rot="16891800">
                <a:off x="6849720" y="201168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utoShape 92"/>
              <p:cNvSpPr/>
              <p:nvPr/>
            </p:nvSpPr>
            <p:spPr>
              <a:xfrm flipH="1" flipV="1" rot="17707200">
                <a:off x="6938640" y="203328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utoShape 93"/>
              <p:cNvSpPr/>
              <p:nvPr/>
            </p:nvSpPr>
            <p:spPr>
              <a:xfrm flipH="1" flipV="1" rot="18003000">
                <a:off x="6985080" y="2058840"/>
                <a:ext cx="13968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utoShape 94"/>
              <p:cNvSpPr/>
              <p:nvPr/>
            </p:nvSpPr>
            <p:spPr>
              <a:xfrm flipH="1" flipV="1" rot="18535200">
                <a:off x="7040160" y="2091240"/>
                <a:ext cx="13968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808680" y="2132640"/>
              <a:ext cx="606240" cy="634680"/>
              <a:chOff x="6808680" y="2132640"/>
              <a:chExt cx="606240" cy="634680"/>
            </a:xfrm>
          </p:grpSpPr>
          <p:sp>
            <p:nvSpPr>
              <p:cNvPr id="397" name="AutoShape 96"/>
              <p:cNvSpPr/>
              <p:nvPr/>
            </p:nvSpPr>
            <p:spPr>
              <a:xfrm flipH="1" flipV="1" rot="18244800">
                <a:off x="7005240" y="2069280"/>
                <a:ext cx="14076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AutoShape 97"/>
              <p:cNvSpPr/>
              <p:nvPr/>
            </p:nvSpPr>
            <p:spPr>
              <a:xfrm flipH="1" flipV="1" rot="19060800">
                <a:off x="7080120" y="2123640"/>
                <a:ext cx="14076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utoShape 98"/>
              <p:cNvSpPr/>
              <p:nvPr/>
            </p:nvSpPr>
            <p:spPr>
              <a:xfrm flipH="1" flipV="1" rot="19356000">
                <a:off x="7113600" y="2165400"/>
                <a:ext cx="140760" cy="550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utoShape 99"/>
              <p:cNvSpPr/>
              <p:nvPr/>
            </p:nvSpPr>
            <p:spPr>
              <a:xfrm flipH="1" flipV="1" rot="19888200">
                <a:off x="7150320" y="2216520"/>
                <a:ext cx="141120" cy="550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"/>
          <p:cNvGrpSpPr/>
          <p:nvPr/>
        </p:nvGrpSpPr>
        <p:grpSpPr>
          <a:xfrm>
            <a:off x="7731360" y="3727080"/>
            <a:ext cx="897840" cy="836640"/>
            <a:chOff x="7731360" y="3727080"/>
            <a:chExt cx="897840" cy="836640"/>
          </a:xfrm>
        </p:grpSpPr>
        <p:grpSp>
          <p:nvGrpSpPr>
            <p:cNvPr id="402" name=""/>
            <p:cNvGrpSpPr/>
            <p:nvPr/>
          </p:nvGrpSpPr>
          <p:grpSpPr>
            <a:xfrm>
              <a:off x="7731360" y="3727080"/>
              <a:ext cx="866520" cy="624960"/>
              <a:chOff x="7731360" y="3727080"/>
              <a:chExt cx="866520" cy="624960"/>
            </a:xfrm>
          </p:grpSpPr>
          <p:sp>
            <p:nvSpPr>
              <p:cNvPr id="403" name="AutoShape 102"/>
              <p:cNvSpPr/>
              <p:nvPr/>
            </p:nvSpPr>
            <p:spPr>
              <a:xfrm flipH="1" flipV="1" rot="17235600">
                <a:off x="7992360" y="3598200"/>
                <a:ext cx="17064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utoShape 103"/>
              <p:cNvSpPr/>
              <p:nvPr/>
            </p:nvSpPr>
            <p:spPr>
              <a:xfrm flipH="1" flipV="1" rot="18051600">
                <a:off x="8096760" y="3636000"/>
                <a:ext cx="17064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utoShape 104"/>
              <p:cNvSpPr/>
              <p:nvPr/>
            </p:nvSpPr>
            <p:spPr>
              <a:xfrm flipH="1" flipV="1" rot="18346800">
                <a:off x="8150760" y="3672000"/>
                <a:ext cx="17064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utoShape 105"/>
              <p:cNvSpPr/>
              <p:nvPr/>
            </p:nvSpPr>
            <p:spPr>
              <a:xfrm flipH="1" flipV="1" rot="18879000">
                <a:off x="8213040" y="3718440"/>
                <a:ext cx="17064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7947720" y="3742560"/>
              <a:ext cx="681480" cy="821160"/>
              <a:chOff x="7947720" y="3742560"/>
              <a:chExt cx="681480" cy="821160"/>
            </a:xfrm>
          </p:grpSpPr>
          <p:sp>
            <p:nvSpPr>
              <p:cNvPr id="408" name="AutoShape 107"/>
              <p:cNvSpPr/>
              <p:nvPr/>
            </p:nvSpPr>
            <p:spPr>
              <a:xfrm flipH="1" flipV="1" rot="18588600">
                <a:off x="8175240" y="3686760"/>
                <a:ext cx="17136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AutoShape 108"/>
              <p:cNvSpPr/>
              <p:nvPr/>
            </p:nvSpPr>
            <p:spPr>
              <a:xfrm flipH="1" flipV="1" rot="19404600">
                <a:off x="8258040" y="3762360"/>
                <a:ext cx="17172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AutoShape 109"/>
              <p:cNvSpPr/>
              <p:nvPr/>
            </p:nvSpPr>
            <p:spPr>
              <a:xfrm flipH="1" flipV="1" rot="19699800">
                <a:off x="8293680" y="3816720"/>
                <a:ext cx="171720" cy="672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AutoShape 110"/>
              <p:cNvSpPr/>
              <p:nvPr/>
            </p:nvSpPr>
            <p:spPr>
              <a:xfrm flipH="1" flipV="1" rot="20232000">
                <a:off x="8333280" y="3883680"/>
                <a:ext cx="171720" cy="672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2" name=""/>
          <p:cNvGrpSpPr/>
          <p:nvPr/>
        </p:nvGrpSpPr>
        <p:grpSpPr>
          <a:xfrm>
            <a:off x="7830720" y="3796560"/>
            <a:ext cx="736560" cy="685440"/>
            <a:chOff x="7830720" y="3796560"/>
            <a:chExt cx="736560" cy="685440"/>
          </a:xfrm>
        </p:grpSpPr>
        <p:grpSp>
          <p:nvGrpSpPr>
            <p:cNvPr id="413" name=""/>
            <p:cNvGrpSpPr/>
            <p:nvPr/>
          </p:nvGrpSpPr>
          <p:grpSpPr>
            <a:xfrm>
              <a:off x="7830720" y="3796560"/>
              <a:ext cx="709920" cy="511920"/>
              <a:chOff x="7830720" y="3796560"/>
              <a:chExt cx="709920" cy="511920"/>
            </a:xfrm>
          </p:grpSpPr>
          <p:sp>
            <p:nvSpPr>
              <p:cNvPr id="414" name="AutoShape 113"/>
              <p:cNvSpPr/>
              <p:nvPr/>
            </p:nvSpPr>
            <p:spPr>
              <a:xfrm flipH="1" flipV="1" rot="17235600">
                <a:off x="8044920" y="3691440"/>
                <a:ext cx="13968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AutoShape 114"/>
              <p:cNvSpPr/>
              <p:nvPr/>
            </p:nvSpPr>
            <p:spPr>
              <a:xfrm flipH="1" flipV="1" rot="18051600">
                <a:off x="8130240" y="3722040"/>
                <a:ext cx="139680" cy="551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AutoShape 115"/>
              <p:cNvSpPr/>
              <p:nvPr/>
            </p:nvSpPr>
            <p:spPr>
              <a:xfrm flipH="1" flipV="1" rot="18346800">
                <a:off x="8174880" y="3752280"/>
                <a:ext cx="13968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AutoShape 116"/>
              <p:cNvSpPr/>
              <p:nvPr/>
            </p:nvSpPr>
            <p:spPr>
              <a:xfrm flipH="1" flipV="1" rot="18879000">
                <a:off x="8225640" y="3788640"/>
                <a:ext cx="13968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008200" y="3809880"/>
              <a:ext cx="559080" cy="672120"/>
              <a:chOff x="8008200" y="3809880"/>
              <a:chExt cx="559080" cy="672120"/>
            </a:xfrm>
          </p:grpSpPr>
          <p:sp>
            <p:nvSpPr>
              <p:cNvPr id="419" name="AutoShape 118"/>
              <p:cNvSpPr/>
              <p:nvPr/>
            </p:nvSpPr>
            <p:spPr>
              <a:xfrm flipH="1" flipV="1" rot="18588600">
                <a:off x="8194320" y="3764880"/>
                <a:ext cx="14076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AutoShape 119"/>
              <p:cNvSpPr/>
              <p:nvPr/>
            </p:nvSpPr>
            <p:spPr>
              <a:xfrm flipH="1" flipV="1" rot="19404600">
                <a:off x="8262000" y="3826080"/>
                <a:ext cx="140760" cy="550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AutoShape 120"/>
              <p:cNvSpPr/>
              <p:nvPr/>
            </p:nvSpPr>
            <p:spPr>
              <a:xfrm flipH="1" flipV="1" rot="19699800">
                <a:off x="8292240" y="3870000"/>
                <a:ext cx="14076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AutoShape 121"/>
              <p:cNvSpPr/>
              <p:nvPr/>
            </p:nvSpPr>
            <p:spPr>
              <a:xfrm flipH="1" flipV="1" rot="20232000">
                <a:off x="8323560" y="3924360"/>
                <a:ext cx="140760" cy="5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502960" y="3707640"/>
            <a:ext cx="907200" cy="825840"/>
            <a:chOff x="5502960" y="3707640"/>
            <a:chExt cx="907200" cy="825840"/>
          </a:xfrm>
        </p:grpSpPr>
        <p:grpSp>
          <p:nvGrpSpPr>
            <p:cNvPr id="424" name=""/>
            <p:cNvGrpSpPr/>
            <p:nvPr/>
          </p:nvGrpSpPr>
          <p:grpSpPr>
            <a:xfrm>
              <a:off x="5502960" y="3707640"/>
              <a:ext cx="907200" cy="825840"/>
              <a:chOff x="5502960" y="3707640"/>
              <a:chExt cx="907200" cy="82584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502960" y="3707640"/>
                <a:ext cx="871200" cy="614520"/>
                <a:chOff x="5502960" y="3707640"/>
                <a:chExt cx="871200" cy="614520"/>
              </a:xfrm>
            </p:grpSpPr>
            <p:sp>
              <p:nvSpPr>
                <p:cNvPr id="426" name="AutoShape 125"/>
                <p:cNvSpPr/>
                <p:nvPr/>
              </p:nvSpPr>
              <p:spPr>
                <a:xfrm flipH="1" flipV="1" rot="17172600">
                  <a:off x="5763960" y="3577320"/>
                  <a:ext cx="170640" cy="67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26"/>
                <p:cNvSpPr/>
                <p:nvPr/>
              </p:nvSpPr>
              <p:spPr>
                <a:xfrm flipH="1" flipV="1" rot="17988600">
                  <a:off x="5869440" y="3612600"/>
                  <a:ext cx="170640" cy="67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127"/>
                <p:cNvSpPr/>
                <p:nvPr/>
              </p:nvSpPr>
              <p:spPr>
                <a:xfrm flipH="1" flipV="1" rot="18283800">
                  <a:off x="5923800" y="3647880"/>
                  <a:ext cx="170640" cy="67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128"/>
                <p:cNvSpPr/>
                <p:nvPr/>
              </p:nvSpPr>
              <p:spPr>
                <a:xfrm flipH="1" flipV="1" rot="18816000">
                  <a:off x="5986440" y="3692520"/>
                  <a:ext cx="170640" cy="67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718240" y="3721680"/>
                <a:ext cx="691920" cy="811800"/>
                <a:chOff x="5718240" y="3721680"/>
                <a:chExt cx="691920" cy="811800"/>
              </a:xfrm>
            </p:grpSpPr>
            <p:sp>
              <p:nvSpPr>
                <p:cNvPr id="431" name="AutoShape 130"/>
                <p:cNvSpPr/>
                <p:nvPr/>
              </p:nvSpPr>
              <p:spPr>
                <a:xfrm flipH="1" flipV="1" rot="18525600">
                  <a:off x="5947920" y="3662280"/>
                  <a:ext cx="17172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31"/>
                <p:cNvSpPr/>
                <p:nvPr/>
              </p:nvSpPr>
              <p:spPr>
                <a:xfrm flipH="1" flipV="1" rot="19341600">
                  <a:off x="6032160" y="3736800"/>
                  <a:ext cx="171720" cy="67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AutoShape 132"/>
                <p:cNvSpPr/>
                <p:nvPr/>
              </p:nvSpPr>
              <p:spPr>
                <a:xfrm flipH="1" flipV="1" rot="19636800">
                  <a:off x="6068880" y="3789000"/>
                  <a:ext cx="17172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133"/>
                <p:cNvSpPr/>
                <p:nvPr/>
              </p:nvSpPr>
              <p:spPr>
                <a:xfrm flipH="1" flipV="1" rot="20169000">
                  <a:off x="6109200" y="3854520"/>
                  <a:ext cx="171720" cy="67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5602320" y="3776040"/>
              <a:ext cx="743760" cy="677160"/>
              <a:chOff x="5602320" y="3776040"/>
              <a:chExt cx="743760" cy="67716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5602320" y="3776040"/>
                <a:ext cx="714600" cy="503640"/>
                <a:chOff x="5602320" y="3776040"/>
                <a:chExt cx="714600" cy="503640"/>
              </a:xfrm>
            </p:grpSpPr>
            <p:sp>
              <p:nvSpPr>
                <p:cNvPr id="437" name="AutoShape 136"/>
                <p:cNvSpPr/>
                <p:nvPr/>
              </p:nvSpPr>
              <p:spPr>
                <a:xfrm flipH="1" flipV="1" rot="17172600">
                  <a:off x="5815800" y="3669480"/>
                  <a:ext cx="13968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AutoShape 137"/>
                <p:cNvSpPr/>
                <p:nvPr/>
              </p:nvSpPr>
              <p:spPr>
                <a:xfrm flipH="1" flipV="1" rot="17988600">
                  <a:off x="5902920" y="3698280"/>
                  <a:ext cx="139680" cy="54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138"/>
                <p:cNvSpPr/>
                <p:nvPr/>
              </p:nvSpPr>
              <p:spPr>
                <a:xfrm flipH="1" flipV="1" rot="18283800">
                  <a:off x="5947920" y="3726360"/>
                  <a:ext cx="139680" cy="55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139"/>
                <p:cNvSpPr/>
                <p:nvPr/>
              </p:nvSpPr>
              <p:spPr>
                <a:xfrm flipH="1" flipV="1" rot="18816000">
                  <a:off x="5999760" y="3763800"/>
                  <a:ext cx="139680" cy="55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778720" y="3787560"/>
                <a:ext cx="567360" cy="665640"/>
                <a:chOff x="5778720" y="3787560"/>
                <a:chExt cx="567360" cy="665640"/>
              </a:xfrm>
            </p:grpSpPr>
            <p:sp>
              <p:nvSpPr>
                <p:cNvPr id="442" name="AutoShape 141"/>
                <p:cNvSpPr/>
                <p:nvPr/>
              </p:nvSpPr>
              <p:spPr>
                <a:xfrm flipH="1" flipV="1" rot="18525600">
                  <a:off x="5967000" y="3738960"/>
                  <a:ext cx="140760" cy="55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AutoShape 142"/>
                <p:cNvSpPr/>
                <p:nvPr/>
              </p:nvSpPr>
              <p:spPr>
                <a:xfrm flipH="1" flipV="1" rot="19341600">
                  <a:off x="6035760" y="3798720"/>
                  <a:ext cx="140760" cy="55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143"/>
                <p:cNvSpPr/>
                <p:nvPr/>
              </p:nvSpPr>
              <p:spPr>
                <a:xfrm flipH="1" flipV="1" rot="19636800">
                  <a:off x="6066000" y="3843720"/>
                  <a:ext cx="140760" cy="55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44"/>
                <p:cNvSpPr/>
                <p:nvPr/>
              </p:nvSpPr>
              <p:spPr>
                <a:xfrm flipH="1" flipV="1" rot="20169000">
                  <a:off x="6099840" y="3897360"/>
                  <a:ext cx="141120" cy="55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6" name=""/>
          <p:cNvGrpSpPr/>
          <p:nvPr/>
        </p:nvGrpSpPr>
        <p:grpSpPr>
          <a:xfrm>
            <a:off x="5538960" y="3734640"/>
            <a:ext cx="907560" cy="824040"/>
            <a:chOff x="5538960" y="3734640"/>
            <a:chExt cx="907560" cy="824040"/>
          </a:xfrm>
        </p:grpSpPr>
        <p:grpSp>
          <p:nvGrpSpPr>
            <p:cNvPr id="447" name=""/>
            <p:cNvGrpSpPr/>
            <p:nvPr/>
          </p:nvGrpSpPr>
          <p:grpSpPr>
            <a:xfrm>
              <a:off x="5538960" y="3734640"/>
              <a:ext cx="907560" cy="824040"/>
              <a:chOff x="5538960" y="3734640"/>
              <a:chExt cx="907560" cy="82404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5538960" y="3734640"/>
                <a:ext cx="871920" cy="614160"/>
                <a:chOff x="5538960" y="3734640"/>
                <a:chExt cx="871920" cy="614160"/>
              </a:xfrm>
            </p:grpSpPr>
            <p:sp>
              <p:nvSpPr>
                <p:cNvPr id="449" name="AutoShape 148"/>
                <p:cNvSpPr/>
                <p:nvPr/>
              </p:nvSpPr>
              <p:spPr>
                <a:xfrm flipH="1" flipV="1" rot="17172600">
                  <a:off x="5800320" y="3602880"/>
                  <a:ext cx="169560" cy="672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AutoShape 149"/>
                <p:cNvSpPr/>
                <p:nvPr/>
              </p:nvSpPr>
              <p:spPr>
                <a:xfrm flipH="1" flipV="1" rot="17988600">
                  <a:off x="5906160" y="3638880"/>
                  <a:ext cx="169920" cy="671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150"/>
                <p:cNvSpPr/>
                <p:nvPr/>
              </p:nvSpPr>
              <p:spPr>
                <a:xfrm flipH="1" flipV="1" rot="18283800">
                  <a:off x="5960520" y="3674160"/>
                  <a:ext cx="16992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151"/>
                <p:cNvSpPr/>
                <p:nvPr/>
              </p:nvSpPr>
              <p:spPr>
                <a:xfrm flipH="1" flipV="1" rot="18816000">
                  <a:off x="6024240" y="3719880"/>
                  <a:ext cx="169920" cy="671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5755320" y="3747960"/>
                <a:ext cx="691200" cy="810720"/>
                <a:chOff x="5755320" y="3747960"/>
                <a:chExt cx="691200" cy="810720"/>
              </a:xfrm>
            </p:grpSpPr>
            <p:sp>
              <p:nvSpPr>
                <p:cNvPr id="454" name="AutoShape 153"/>
                <p:cNvSpPr/>
                <p:nvPr/>
              </p:nvSpPr>
              <p:spPr>
                <a:xfrm flipH="1" flipV="1" rot="18525600">
                  <a:off x="5985000" y="3688920"/>
                  <a:ext cx="17100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AutoShape 154"/>
                <p:cNvSpPr/>
                <p:nvPr/>
              </p:nvSpPr>
              <p:spPr>
                <a:xfrm flipH="1" flipV="1" rot="19341600">
                  <a:off x="6069600" y="3761640"/>
                  <a:ext cx="17064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AutoShape 155"/>
                <p:cNvSpPr/>
                <p:nvPr/>
              </p:nvSpPr>
              <p:spPr>
                <a:xfrm flipH="1" flipV="1" rot="19636800">
                  <a:off x="6105960" y="3814920"/>
                  <a:ext cx="17064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AutoShape 156"/>
                <p:cNvSpPr/>
                <p:nvPr/>
              </p:nvSpPr>
              <p:spPr>
                <a:xfrm flipH="1" flipV="1" rot="20169000">
                  <a:off x="6147360" y="3880800"/>
                  <a:ext cx="170280" cy="672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639040" y="3802320"/>
              <a:ext cx="743400" cy="675720"/>
              <a:chOff x="5639040" y="3802320"/>
              <a:chExt cx="743400" cy="67572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639040" y="3802320"/>
                <a:ext cx="714240" cy="502920"/>
                <a:chOff x="5639040" y="3802320"/>
                <a:chExt cx="714240" cy="502920"/>
              </a:xfrm>
            </p:grpSpPr>
            <p:sp>
              <p:nvSpPr>
                <p:cNvPr id="460" name="AutoShape 159"/>
                <p:cNvSpPr/>
                <p:nvPr/>
              </p:nvSpPr>
              <p:spPr>
                <a:xfrm flipH="1" flipV="1" rot="17172600">
                  <a:off x="5852880" y="3695400"/>
                  <a:ext cx="13896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AutoShape 160"/>
                <p:cNvSpPr/>
                <p:nvPr/>
              </p:nvSpPr>
              <p:spPr>
                <a:xfrm flipH="1" flipV="1" rot="17988600">
                  <a:off x="5939640" y="3724200"/>
                  <a:ext cx="13896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161"/>
                <p:cNvSpPr/>
                <p:nvPr/>
              </p:nvSpPr>
              <p:spPr>
                <a:xfrm flipH="1" flipV="1" rot="18283800">
                  <a:off x="5983920" y="3753000"/>
                  <a:ext cx="138960" cy="55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62"/>
                <p:cNvSpPr/>
                <p:nvPr/>
              </p:nvSpPr>
              <p:spPr>
                <a:xfrm flipH="1" flipV="1" rot="18816000">
                  <a:off x="6036120" y="3789720"/>
                  <a:ext cx="13860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816160" y="3813840"/>
                <a:ext cx="566280" cy="664200"/>
                <a:chOff x="5816160" y="3813840"/>
                <a:chExt cx="566280" cy="664200"/>
              </a:xfrm>
            </p:grpSpPr>
            <p:sp>
              <p:nvSpPr>
                <p:cNvPr id="465" name="AutoShape 164"/>
                <p:cNvSpPr/>
                <p:nvPr/>
              </p:nvSpPr>
              <p:spPr>
                <a:xfrm flipH="1" flipV="1" rot="18525600">
                  <a:off x="6004080" y="3764880"/>
                  <a:ext cx="13932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165"/>
                <p:cNvSpPr/>
                <p:nvPr/>
              </p:nvSpPr>
              <p:spPr>
                <a:xfrm flipH="1" flipV="1" rot="19341600">
                  <a:off x="6073920" y="3825000"/>
                  <a:ext cx="139680" cy="55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AutoShape 166"/>
                <p:cNvSpPr/>
                <p:nvPr/>
              </p:nvSpPr>
              <p:spPr>
                <a:xfrm flipH="1" flipV="1" rot="19636800">
                  <a:off x="6103080" y="3867840"/>
                  <a:ext cx="13968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AutoShape 167"/>
                <p:cNvSpPr/>
                <p:nvPr/>
              </p:nvSpPr>
              <p:spPr>
                <a:xfrm flipH="1" flipV="1" rot="20169000">
                  <a:off x="6136920" y="3922560"/>
                  <a:ext cx="139680" cy="55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69" name="Rectangle 168"/>
          <p:cNvSpPr/>
          <p:nvPr/>
        </p:nvSpPr>
        <p:spPr>
          <a:xfrm>
            <a:off x="681120" y="2577960"/>
            <a:ext cx="1081080" cy="709920"/>
          </a:xfrm>
          <a:prstGeom prst="rect">
            <a:avLst/>
          </a:prstGeom>
          <a:solidFill>
            <a:srgbClr val="e87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Rectangle 169"/>
          <p:cNvSpPr/>
          <p:nvPr/>
        </p:nvSpPr>
        <p:spPr>
          <a:xfrm>
            <a:off x="681120" y="3305160"/>
            <a:ext cx="1081080" cy="716040"/>
          </a:xfrm>
          <a:prstGeom prst="rect">
            <a:avLst/>
          </a:prstGeom>
          <a:solidFill>
            <a:srgbClr val="fcb5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70"/>
          <p:cNvSpPr/>
          <p:nvPr/>
        </p:nvSpPr>
        <p:spPr>
          <a:xfrm>
            <a:off x="681120" y="4051440"/>
            <a:ext cx="1081080" cy="709560"/>
          </a:xfrm>
          <a:prstGeom prst="rect">
            <a:avLst/>
          </a:prstGeom>
          <a:solidFill>
            <a:srgbClr val="587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71"/>
          <p:cNvSpPr/>
          <p:nvPr/>
        </p:nvSpPr>
        <p:spPr>
          <a:xfrm>
            <a:off x="757800" y="2746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72"/>
          <p:cNvSpPr/>
          <p:nvPr/>
        </p:nvSpPr>
        <p:spPr>
          <a:xfrm>
            <a:off x="725040" y="35114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73"/>
          <p:cNvSpPr/>
          <p:nvPr/>
        </p:nvSpPr>
        <p:spPr>
          <a:xfrm>
            <a:off x="612360" y="4241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74"/>
          <p:cNvSpPr/>
          <p:nvPr/>
        </p:nvSpPr>
        <p:spPr>
          <a:xfrm>
            <a:off x="1836720" y="26877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75"/>
          <p:cNvSpPr/>
          <p:nvPr/>
        </p:nvSpPr>
        <p:spPr>
          <a:xfrm>
            <a:off x="1836720" y="341640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76"/>
          <p:cNvSpPr/>
          <p:nvPr/>
        </p:nvSpPr>
        <p:spPr>
          <a:xfrm>
            <a:off x="1836720" y="41641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77"/>
          <p:cNvSpPr/>
          <p:nvPr/>
        </p:nvSpPr>
        <p:spPr>
          <a:xfrm>
            <a:off x="6304680" y="2538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178"/>
          <p:cNvSpPr/>
          <p:nvPr/>
        </p:nvSpPr>
        <p:spPr>
          <a:xfrm>
            <a:off x="5244480" y="4229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179"/>
          <p:cNvSpPr/>
          <p:nvPr/>
        </p:nvSpPr>
        <p:spPr>
          <a:xfrm>
            <a:off x="7340040" y="42116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180"/>
          <p:cNvSpPr/>
          <p:nvPr/>
        </p:nvSpPr>
        <p:spPr>
          <a:xfrm>
            <a:off x="779400" y="4813200"/>
            <a:ext cx="378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181"/>
          <p:cNvSpPr/>
          <p:nvPr/>
        </p:nvSpPr>
        <p:spPr>
          <a:xfrm>
            <a:off x="704880" y="19620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69400" y="632448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3:32:35Z</dcterms:created>
  <dc:creator/>
  <dc:description/>
  <dc:language>en-US</dc:language>
  <cp:lastModifiedBy>king</cp:lastModifiedBy>
  <cp:lastPrinted>1899-12-30T00:00:00Z</cp:lastPrinted>
  <dcterms:modified xsi:type="dcterms:W3CDTF">2014-05-30T07:26:3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