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7476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124640">
              <a:spcBef>
                <a:spcPts val="7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99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99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99400">
              <a:spcBef>
                <a:spcPts val="7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7089840" y="2451240"/>
            <a:ext cx="2047680" cy="2199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454356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2"/>
          <a:srcRect l="0" t="30664" r="40528" b="19530"/>
          <a:stretch/>
        </p:blipFill>
        <p:spPr>
          <a:xfrm>
            <a:off x="0" y="1181160"/>
            <a:ext cx="6784920" cy="3971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"/>
          <p:cNvSpPr/>
          <p:nvPr/>
        </p:nvSpPr>
        <p:spPr>
          <a:xfrm>
            <a:off x="6883200" y="462456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"/>
          <p:cNvSpPr/>
          <p:nvPr/>
        </p:nvSpPr>
        <p:spPr>
          <a:xfrm>
            <a:off x="1358640" y="4732200"/>
            <a:ext cx="42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8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1:51:50Z</dcterms:created>
  <dc:creator>Administrator</dc:creator>
  <dc:description/>
  <dc:language>en-US</dc:language>
  <cp:lastModifiedBy>tukj</cp:lastModifiedBy>
  <dcterms:modified xsi:type="dcterms:W3CDTF">2014-11-01T23:55:37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