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EB4-8A95-4B92-8FF7-6618DBE8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53C-4F31-4B1A-866A-D89D9789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16C-DC0A-44C8-9040-32373AA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675-17B7-4ABD-A9D9-069DC43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725-8D66-40EE-BD78-1F61DED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18C-B064-4B93-B53A-6BC97536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9FF-3C03-4B18-BA4A-C9F6290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0DB-3FFC-49D2-B171-BCE48AC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CA5-2E2B-4146-9A27-42C25C4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254-E782-4814-BEA0-3DF1A02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B38-4396-418C-AD9B-03E0440D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A0E-1DF5-4F80-8D02-54EB6E1D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766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" descr="ND-1"/>
          <p:cNvPicPr/>
          <p:nvPr/>
        </p:nvPicPr>
        <p:blipFill>
          <a:blip r:embed="rId3"/>
          <a:stretch/>
        </p:blipFill>
        <p:spPr>
          <a:xfrm>
            <a:off x="7524720" y="558972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9EAB-B954-412E-817D-6EAD169BAD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FF51-8751-43D5-9443-10AA7E86D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22560" y="99684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62560" y="1430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456080" y="1486080"/>
            <a:ext cx="468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0" y="738360"/>
            <a:ext cx="45734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上海诺睿网络信息科技有限公司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a</cp:lastModifiedBy>
  <dcterms:modified xsi:type="dcterms:W3CDTF">2014-10-28T01:29:04Z</dcterms:modified>
  <cp:revision>24</cp:revision>
  <dc:subject/>
  <dc:title>免费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