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5AB-A18B-4F67-A27F-8C22E9B7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E8D6-A6B8-4FC5-9CE1-2E5FD629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423-628E-451F-AF2C-E260A695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FC45-C0F0-41C0-8947-E2BF8A13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4C5-AAA5-4A9F-9928-7AE717C4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EC60-CB3F-4D30-94C2-DCF10388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32B0-1A52-411F-9BB2-9E0A28E9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6274-B05F-4FE8-8910-6F109F30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6A78-1F93-45AF-BDCC-952AFC86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8021-FAB9-4FF2-9CBA-9E801E88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904-01E3-4FBB-9357-2BF77C40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EC47-73E7-44D5-B5C8-23892D88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33D9-B865-4E41-B956-E68B1D24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D86A-06E7-4C57-8939-661A6D62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D8FA-6067-425E-B351-A7D9EF30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38BC-B187-449A-8DA9-2303B2FE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58E9-9103-46AB-A68A-6599EA96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50BD-433A-4858-BAA6-3A94EFC1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97580-6CE4-43A6-B7BE-127FCDA5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311AB-EF1C-4C79-B257-48B55C7E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D9B28-47F7-4FFE-B816-206E9855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318-A59A-42F4-A679-817ED02B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3F85F-76BE-40A3-B832-CD201CA4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58673-36E4-4609-8E7C-71D45B78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80DDD-3EBF-4F59-B56A-4DB01062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1BDF9-C66F-4EF9-9676-A6776443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EF7C3-852A-4D2E-A254-83813B11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A2720-9F42-4F54-9B51-F164DCC5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BE5EC-F4F5-45D7-A025-2C3DDF11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A8E16-637E-4D60-8CEA-5B8C9F82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B2B1B-F98D-4B59-9CAE-49C95C92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48A4-FEEE-479C-889D-3F6D50EE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B64-5EDF-4A87-B5C0-3061BADF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816-4B50-4045-9FFB-654E6EB6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E75-7688-47B6-A782-61301EEC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F5E-5F40-4801-B277-73981AA1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415B-7D1B-4C5F-BB67-C42B2DFB5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2" descr="PPT--模版内页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PPT--模版内页2"/>
          <p:cNvPicPr/>
          <p:nvPr/>
        </p:nvPicPr>
        <p:blipFill>
          <a:blip r:embed="rId2"/>
          <a:stretch/>
        </p:blipFill>
        <p:spPr>
          <a:xfrm>
            <a:off x="0" y="309096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2" descr="PPT--模版内页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8" descr="PPT--模版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2762-92F2-492A-ACC1-BB9161B9A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FDA6-9DFA-4F4E-85DE-2E683A5F39E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44DC-6412-4D40-A349-E55C245EAE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2" descr="PPT封面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031840" y="1168560"/>
            <a:ext cx="508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122560" y="4521240"/>
            <a:ext cx="507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PPT--模版内页 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2:35:49Z</dcterms:created>
  <dc:creator/>
  <dc:description/>
  <dc:language>en-US</dc:language>
  <cp:lastModifiedBy>a</cp:lastModifiedBy>
  <dcterms:modified xsi:type="dcterms:W3CDTF">2014-10-28T01:27:39Z</dcterms:modified>
  <cp:revision>94</cp:revision>
  <dc:subject/>
  <dc:title>WPS在线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