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54A-D0D0-4DBB-B0A2-825416A4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5A5-2C49-418F-94EB-B7936D52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B81-85BF-49F9-A683-1ED93438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426-AA35-4A4E-B728-148EF856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BB8-2B6B-43AE-9DA5-EE7F9AD5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049-103E-4F1B-96C7-D97C75C2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2E4-B9AF-43F4-BA34-9026B60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926-B2E2-4DEE-8559-A1A3280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45B-A9F7-4AFC-A669-660549D0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683-B367-46D8-B9A0-31D0A5E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2FB-3D8B-404D-9BF2-BAFF8F8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CB8-5062-494E-8469-CBBAA8C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50C-D4E6-430F-8110-99BB1F13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-205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4032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 Black"/>
                <a:ea typeface="黑体"/>
              </a:rPr>
              <a:t>彩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8000" y="3357720"/>
            <a:ext cx="590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omic Sans MS"/>
              </a:rPr>
              <a:t>R</a:t>
            </a:r>
            <a:r>
              <a:rPr b="0" lang="zh-CN" sz="4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zh-CN" sz="4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zh-CN" sz="4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zh-CN" sz="4800" spc="-1" strike="noStrike">
                <a:solidFill>
                  <a:srgbClr val="ccff33"/>
                </a:solidFill>
                <a:latin typeface="Comic Sans MS"/>
              </a:rPr>
              <a:t>b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zh-CN" sz="4800" spc="-1" strike="noStrike">
                <a:solidFill>
                  <a:srgbClr val="9933ff"/>
                </a:solidFill>
                <a:latin typeface="Comic Sans MS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5340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4763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h</a:t>
            </a:r>
            <a:r>
              <a:rPr b="0" lang="zh-CN" sz="4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zh-CN" sz="4400" spc="-1" strike="noStrike">
                <a:solidFill>
                  <a:srgbClr val="66ff66"/>
                </a:solidFill>
                <a:latin typeface="Comic Sans MS"/>
              </a:rPr>
              <a:t>n</a:t>
            </a:r>
            <a:r>
              <a:rPr b="0" lang="zh-CN" sz="4400" spc="-1" strike="noStrike">
                <a:solidFill>
                  <a:srgbClr val="00ff00"/>
                </a:solidFill>
                <a:latin typeface="Comic Sans MS"/>
              </a:rPr>
              <a:t>k</a:t>
            </a:r>
            <a:r>
              <a:rPr b="0" lang="zh-CN" sz="4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zh-CN" sz="4400" spc="-1" strike="noStrike">
                <a:solidFill>
                  <a:srgbClr val="9933ff"/>
                </a:solidFill>
                <a:latin typeface="Comic Sans MS"/>
              </a:rPr>
              <a:t>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6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32:28Z</dcterms:created>
  <dc:creator>Administrator</dc:creator>
  <dc:description/>
  <dc:language>en-US</dc:language>
  <cp:lastModifiedBy/>
  <cp:lastPrinted>1899-12-30T00:00:00Z</cp:lastPrinted>
  <dcterms:modified xsi:type="dcterms:W3CDTF">2014-05-28T06:18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