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00E8-7038-4562-991B-E257F2A7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4C03-27AB-4E05-82D7-42A1E0E3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EBF-B55F-4DAF-A84E-24759C9C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3757-32BB-4447-9767-515A8831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BBD1-8BC6-46C0-89F4-485F06D9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A0A9-68F0-445B-86BE-C11C0682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7DDB-A010-4690-83A8-4C91E06A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65C-77B0-4918-981A-8EA26C98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CD3-E9B9-4B04-B254-4142AA93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A246-2AF0-4C26-8ACE-9F4ECC6B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ECA8-7CE3-4EB5-85A0-5A5D135F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E82-CE52-43B1-946E-516F1701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" descr="F:\图片\29副本.png"/>
          <p:cNvPicPr/>
          <p:nvPr/>
        </p:nvPicPr>
        <p:blipFill>
          <a:blip r:embed="rId2"/>
          <a:stretch/>
        </p:blipFill>
        <p:spPr>
          <a:xfrm>
            <a:off x="0" y="0"/>
            <a:ext cx="4373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101520" y="281160"/>
            <a:ext cx="8940960" cy="6467400"/>
            <a:chOff x="101520" y="281160"/>
            <a:chExt cx="8940960" cy="6467400"/>
          </a:xfrm>
        </p:grpSpPr>
        <p:pic>
          <p:nvPicPr>
            <p:cNvPr id="2" name="矩形​​ 8" descr=""/>
            <p:cNvPicPr/>
            <p:nvPr/>
          </p:nvPicPr>
          <p:blipFill>
            <a:blip r:embed="rId3"/>
            <a:stretch/>
          </p:blipFill>
          <p:spPr>
            <a:xfrm>
              <a:off x="101520" y="281160"/>
              <a:ext cx="8940960" cy="646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" name=""/>
            <p:cNvGrpSpPr/>
            <p:nvPr/>
          </p:nvGrpSpPr>
          <p:grpSpPr>
            <a:xfrm>
              <a:off x="149400" y="322920"/>
              <a:ext cx="8821080" cy="6348240"/>
              <a:chOff x="149400" y="322920"/>
              <a:chExt cx="8821080" cy="6348240"/>
            </a:xfrm>
          </p:grpSpPr>
          <p:pic>
            <p:nvPicPr>
              <p:cNvPr id="4" name="矩形​​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49400" y="322920"/>
                <a:ext cx="8821080" cy="634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>
                <a:off x="164160" y="335520"/>
                <a:ext cx="8796240" cy="632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" name="图片 6" descr="F:\7788\gifs_card2.png"/>
          <p:cNvPicPr/>
          <p:nvPr/>
        </p:nvPicPr>
        <p:blipFill>
          <a:blip r:embed="rId5"/>
          <a:stretch/>
        </p:blipFill>
        <p:spPr>
          <a:xfrm>
            <a:off x="7812000" y="12600"/>
            <a:ext cx="1524240" cy="13287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BC03-7E99-4644-A1E8-E116E07BE6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9" name="矩形​​ 5"/>
          <p:cNvSpPr/>
          <p:nvPr/>
        </p:nvSpPr>
        <p:spPr>
          <a:xfrm>
            <a:off x="0" y="5911920"/>
            <a:ext cx="9144000" cy="75708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​​ 6"/>
          <p:cNvSpPr/>
          <p:nvPr/>
        </p:nvSpPr>
        <p:spPr>
          <a:xfrm>
            <a:off x="3707280" y="5978520"/>
            <a:ext cx="164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中倩简体"/>
                <a:ea typeface="方正中倩简体"/>
              </a:rPr>
              <a:t>三尺讲台，染苍苍白发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中倩简体"/>
                <a:ea typeface="方正中倩简体"/>
              </a:rPr>
              <a:t>桃李满园，露美美笑厣。赞美您，敬爱的老师，祝福您，敬爱的老师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6" descr="F:\7788\gifs_card2.png"/>
          <p:cNvPicPr/>
          <p:nvPr/>
        </p:nvPicPr>
        <p:blipFill>
          <a:blip r:embed="rId2"/>
          <a:stretch/>
        </p:blipFill>
        <p:spPr>
          <a:xfrm>
            <a:off x="7907400" y="5629320"/>
            <a:ext cx="1523880" cy="132876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72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211640" y="1125360"/>
            <a:ext cx="43210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九月，如期而至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世界因此灿烂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我们歌唱九月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因为这是您永恒的节日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我们牢记九月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因为这是我们真诚的表白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九月，是只情满四溢的杯子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我们用双手高高地举起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一片真诚的祝福声中， 请您干杯。 九月的乐章已经奏响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请接受我们九月的献礼吧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所有拼搏在教育战线的老师们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6292800"/>
            <a:ext cx="5873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01:39:13Z</dcterms:created>
  <dc:creator/>
  <dc:description/>
  <dc:language>en-US</dc:language>
  <cp:lastModifiedBy>锐普PPT</cp:lastModifiedBy>
  <dcterms:modified xsi:type="dcterms:W3CDTF">2014-11-02T00:59:31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