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0F5-88F1-48AD-8BB1-8100A9FF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CA3-D937-4B77-9799-8CACC411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09E-7764-4703-9CFE-64BA0775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1EC-6853-44FF-845C-570177B0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ACB5-4DF1-4316-BA9B-3D6D59A0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A85-2705-478F-AE94-122581AC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928B-29F7-4B0B-B941-7BA41A40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393B-C13D-4F8E-A35B-A92D81B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4B8B-8B24-4D3A-A426-ED7FE9F4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33D1-8935-43FB-BF05-6496EE3F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12AC-3A3A-4A0C-B227-47D5D598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47A-C4D7-4CAF-BB1E-6E838918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2AFD-6242-42EA-808F-7A838EF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28A3-E57D-4DD3-B51B-91D1A790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43A4-39E4-44F0-B9DF-AB2559D5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7ECA-16CA-49FC-804A-2537B776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8D54-3D6D-4028-A3C1-D9071806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C16-1C69-4C6E-B735-46B2A361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709-75BF-423B-8FDD-3488C68D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BBA-28F7-4EEA-9F53-7803B6B2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D01-EF99-4E8D-9959-2698D83B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BCB-D4D1-410F-88B4-F2D0646F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9EA-6E9A-435C-949C-3DFAF440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E1D-3A5E-44DB-87C9-BB588761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23A1-8DF1-46BA-8AD1-8031AEC9B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43629" r="0" b="37615"/>
          <a:stretch/>
        </p:blipFill>
        <p:spPr>
          <a:xfrm>
            <a:off x="0" y="0"/>
            <a:ext cx="9144000" cy="1287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263" r="0" b="0"/>
          <a:stretch/>
        </p:blipFill>
        <p:spPr>
          <a:xfrm>
            <a:off x="5580000" y="44280"/>
            <a:ext cx="3600360" cy="312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14972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B73-2C52-44E4-AD83-34E1F33CD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16960" r="0" b="13713"/>
          <a:stretch/>
        </p:blipFill>
        <p:spPr>
          <a:xfrm>
            <a:off x="5003640" y="189000"/>
            <a:ext cx="3321360" cy="230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15158" r="0" b="0"/>
          <a:stretch/>
        </p:blipFill>
        <p:spPr>
          <a:xfrm rot="60000">
            <a:off x="3850920" y="117360"/>
            <a:ext cx="3417840" cy="290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0" t="11775" r="12845" b="13049"/>
          <a:stretch/>
        </p:blipFill>
        <p:spPr>
          <a:xfrm>
            <a:off x="2700360" y="44280"/>
            <a:ext cx="3325680" cy="287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rcRect l="8148" t="25327" r="0" b="15184"/>
          <a:stretch/>
        </p:blipFill>
        <p:spPr>
          <a:xfrm rot="10680000">
            <a:off x="1044360" y="116640"/>
            <a:ext cx="4108320" cy="2661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rcRect l="0" t="15446" r="186" b="0"/>
          <a:stretch/>
        </p:blipFill>
        <p:spPr>
          <a:xfrm rot="120000">
            <a:off x="539640" y="549360"/>
            <a:ext cx="3603600" cy="305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rcRect l="13690" t="13322" r="0" b="0"/>
          <a:stretch/>
        </p:blipFill>
        <p:spPr>
          <a:xfrm>
            <a:off x="0" y="692280"/>
            <a:ext cx="3446640" cy="34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14972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带你全程关注日全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5157720"/>
            <a:ext cx="35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食介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食是月球运动到太阳和地球中间，如果三者正好处在一条直线时，月球就会挡住太阳射向地球的光，月球身后的黑影正好落到地球上，这时发生日食现象。在地球上月影里的人们开始看到阳光逐渐减弱，太阳面被圆的黑影遮住，天色转暗，全部遮住时，天空中可以看到最亮的恒星和行星，几分钟后，从月球黑影边缘逐渐露出阳光，开始生光、复圆。由于月球比地球小，只有在月影中的人们才能看到日食。月球把太阳全部挡住时发生日全食，遮住一部分时发生日偏食，遮住太阳中央部分发生日环食。发生日全食的延续时间不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秒。日环食的最长时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秒。法国的一位天文学家为了延长观测日全食的时间，他乘坐超音速飞机追赶月亮的影子，使观测时间延长到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。我国有世界上最古老的日食记录，公元前一千多年已有确切的日食记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14972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谢谢观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10:23:21Z</dcterms:created>
  <dc:creator/>
  <dc:description/>
  <dc:language>en-US</dc:language>
  <cp:lastModifiedBy/>
  <cp:lastPrinted>1899-12-30T00:00:00Z</cp:lastPrinted>
  <dcterms:modified xsi:type="dcterms:W3CDTF">2014-05-23T02:55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