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FEF34-8B63-43F9-B5AD-4047BDD4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FEE0-27F5-4ED4-A30A-61F53D6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516E9-3371-487C-9582-5917BC86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1A31-57DA-4569-9698-E76A967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26B82-6A9C-46EC-8E79-942FB59E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5F61D-E314-46DB-8F2A-2B78992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F7611-DEAD-4F84-A5A2-2D570D2B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EF348-1B9D-40DB-9A73-E7698D6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C8480-1DCF-488B-81E3-69B7670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9CDEB-BB6F-40A6-8F2D-1F2343C8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3E989-74B6-4C5D-89CF-2703AA2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21D9F-BFD9-4368-ABD7-BBE129EA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2374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44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92CB-F12A-4D9C-ABA1-E016B76DEFEB}" type="slidenum"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9"/>
          <p:cNvSpPr/>
          <p:nvPr/>
        </p:nvSpPr>
        <p:spPr>
          <a:xfrm>
            <a:off x="969840" y="341316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969840" y="4076640"/>
            <a:ext cx="288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3480" y="645336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72374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500040" y="3786120"/>
            <a:ext cx="50007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07244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24:34Z</dcterms:created>
  <dc:creator/>
  <dc:description/>
  <dc:language>en-US</dc:language>
  <cp:lastModifiedBy>dell</cp:lastModifiedBy>
  <cp:lastPrinted>1899-12-30T00:00:00Z</cp:lastPrinted>
  <dcterms:modified xsi:type="dcterms:W3CDTF">2014-05-22T08:49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