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C45-46EA-4B65-8AEB-6A0D1FFB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F0F-5C73-4AAD-A8E5-B9932967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C84-99F0-4528-A183-694E8A84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672-7961-450E-B24C-BDED1516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229E-7E46-45E2-A90D-B08F009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7D2B-6614-4A05-A8A5-5C72A115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B323-F3E4-4868-86D3-15E3EA67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2F49-C069-4464-85A6-B71C7AF6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DBB2-C6A6-4E67-BE97-A9015E12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1B87-140D-4CF9-B8E4-41827C83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A9E6-2607-4AE7-8D01-5AE1206E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693-994A-4D95-9735-B002ADCA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22BC-E54A-43F2-978D-3653339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1C28-A4FE-43B3-BA0A-0A9D210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4D19-1164-44D8-A958-0C1AFE52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AFA7-2879-40AF-AAFB-C6C06FC8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0EE6-C685-4B39-BEF7-9F2C9BBE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7E0E-1AB6-401B-BAAC-0F3D110F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DB36-4D1D-4685-8A26-DD05721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E99-315F-4159-9815-5429FD7E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9E94-89C9-499A-A8B7-693DC96E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0068-1E35-46C2-90AF-6ADB8FE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2D0-CADD-4AFC-BEF5-22BE322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58E-2BD0-4CAD-9B87-8D794ED5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360-DBA6-44B3-9DC2-D814C1E288B8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684e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8684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5395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9ca3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89ca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32A-786D-4D20-BC97-B3835B93CA82}" type="slidenum">
              <a:rPr b="0" lang="en-US" sz="1200" spc="-1" strike="noStrike">
                <a:solidFill>
                  <a:srgbClr val="089ca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763640" y="1773000"/>
            <a:ext cx="64008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3763"/>
                </a:solidFill>
                <a:latin typeface="宋体"/>
                <a:ea typeface="宋体"/>
              </a:rPr>
              <a:t>大自然</a:t>
            </a:r>
            <a:r>
              <a:rPr b="0" lang="zh-CN" sz="3200" spc="-1" strike="noStrike">
                <a:solidFill>
                  <a:srgbClr val="083763"/>
                </a:solidFill>
                <a:latin typeface="宋体"/>
                <a:ea typeface="宋体"/>
              </a:rPr>
              <a:t>PPT</a:t>
            </a:r>
            <a:endParaRPr b="0" lang="en-US" sz="3200" spc="-1" strike="noStrike">
              <a:solidFill>
                <a:srgbClr val="0b5395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6720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00360" y="571320"/>
            <a:ext cx="44290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84e"/>
              </a:solidFill>
              <a:latin typeface="宋体"/>
              <a:ea typeface="宋体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498920" y="156672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b5395"/>
                </a:solidFill>
                <a:latin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227160" y="4633920"/>
            <a:ext cx="78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b5395"/>
                </a:solidFill>
                <a:latin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684e"/>
              </a:solidFill>
              <a:latin typeface="Verdana"/>
              <a:ea typeface="宋体"/>
            </a:endParaRPr>
          </a:p>
        </p:txBody>
      </p:sp>
      <p:sp>
        <p:nvSpPr>
          <p:cNvPr id="88" name=""/>
          <p:cNvSpPr/>
          <p:nvPr/>
        </p:nvSpPr>
        <p:spPr>
          <a:xfrm>
            <a:off x="1627560" y="60325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37:54Z</dcterms:created>
  <dc:creator/>
  <dc:description/>
  <dc:language>en-US</dc:language>
  <cp:lastModifiedBy/>
  <cp:lastPrinted>1899-12-30T00:00:00Z</cp:lastPrinted>
  <dcterms:modified xsi:type="dcterms:W3CDTF">2014-06-07T07:53:4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3626432052</vt:lpwstr>
  </property>
</Properties>
</file>