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4856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3152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4856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057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4856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3152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4856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057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4856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315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713680"/>
            <a:ext cx="525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5960" y="358092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2590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670572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2041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"/>
          <p:cNvSpPr/>
          <p:nvPr/>
        </p:nvSpPr>
        <p:spPr>
          <a:xfrm>
            <a:off x="2430000" y="632448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57dd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57dd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757dd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757dd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iDesign</cp:lastModifiedBy>
  <cp:lastPrinted>1899-12-30T00:00:00Z</cp:lastPrinted>
  <dcterms:modified xsi:type="dcterms:W3CDTF">2014-05-29T06:10:24Z</dcterms:modified>
  <cp:revision>108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