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2C4D-C022-4769-9951-F58D9ED3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918D-9327-4BE8-B600-015F8D96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621B-8CCE-4C07-9FC8-89F88BC4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A674-775F-487A-8ACC-E99B912C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844D-446E-4F9C-9962-5F65B014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56EB-CAA2-4872-84C5-AAB0BC96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085D-A163-488F-945B-A5E4161C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F7F6-8107-428B-BFDB-5409AE0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3C30-EA6C-42B7-8D0D-31282E43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B7CE-0213-46FF-8D96-70A407A1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A6EE-594D-4ACB-9CCF-331641E3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5AF73-A979-4CD7-B0B6-F81C9CCE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FC27714-E992-4FCF-BBD3-EE2A5600465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8AC4-585B-4DCF-937E-E830A1C775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8AB1-431E-4837-A135-F345DA6E1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68360" y="364320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8360" y="2492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™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43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9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30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9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删除与替换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51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55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59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1479600" y="306864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75600" y="486900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A6B7-F655-44EE-97C9-5BDFE76D9D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ERICLAU</cp:lastModifiedBy>
  <cp:lastPrinted>1899-12-30T00:00:00Z</cp:lastPrinted>
  <dcterms:modified xsi:type="dcterms:W3CDTF">2014-05-16T06:50:20Z</dcterms:modified>
  <cp:revision>27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