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2DA-6504-43FC-B2FF-3AFDBCA3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0FE-2702-43D6-A4EE-85148E5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19D-EBEE-4F78-8811-09062947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03F-BD21-41BD-9BF9-3FEC7802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4AD-08C2-4E4D-A6A2-56B92276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B777-E83A-45FB-A8EA-D5FFA03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C173-D000-43E4-95C3-D133A6F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3D2A-6B46-44E8-ABCE-5AAE87D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886A-F69A-4878-9EA6-9D81779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9921-CF23-48D9-A93D-1D587544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746-C4C4-453B-A2D0-26F654E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CB7-AB26-43F1-A3B9-7078930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B23A-2B5D-477B-A99D-7F41995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952B-5B3A-4738-AAA9-E1A2E18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26BF-0A51-4E16-986C-9A49BA07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DC68-2D84-492B-B1C0-74BDB372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082D-4FF8-4E54-8064-16FC9325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755D-1991-4BBC-9309-CB9DD66C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D0BA-D783-4E1A-B035-D70A35CF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DC1B-8088-43C7-BE8F-EE336EB6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93F8-E779-4217-AA3E-88765339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C4FF-9AF5-413D-A2B4-3B2783F7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B42-59E3-40EA-A5AD-DB780FEA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6E74-2AEE-43B9-AD23-B3FF94C6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5E95-0579-4EAE-80B9-FE757F3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E857-50D2-4E39-9AF3-A3C680A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DA0B-4DD6-450D-AD2A-E7914502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760B-DA16-4524-89A9-4375E9A2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79BB-EFB8-4B4F-BA39-42A8B01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75C4-CE02-4C26-9DB0-29F9931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BDB2-F55D-4783-B68B-080DADEC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7E73-7A26-4D03-B628-F00E14BE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0BAF-4C8B-49FA-9A13-C923446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7D1-26B7-491E-97D0-798218CB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69B0-C0BF-409D-9F9F-F9091A82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B030-9C80-4FDB-A129-2F7C1777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C9D4-106E-409A-A5A3-46CB32D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E6C3-B7CC-4B9B-B24E-9E4F1CF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B311-91B6-43CF-83FB-22E5BCA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7EB7-864F-486C-9600-EFA0EBE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2943-3515-42B9-8AAD-1892236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B96B-78A1-4849-AE8F-3F550FDA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504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4F2A-E478-4135-B9D4-491CE3E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C5D-5DD4-4C37-A049-F8EB2C62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0E1-15C8-4415-80D5-0D14F05F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A00-66BE-4DB0-9087-E631F39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50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F9C-6244-4D7C-BDFC-2E93D3C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F08-41B9-4D88-A77A-EE7CC99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83D-9853-4E89-BDC5-259B835B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BF7-D35B-433E-A189-4E75641E6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90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260280"/>
            <a:ext cx="8209080" cy="5857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17D-5D31-444A-903E-26BA86FF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90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2720" y="838080"/>
            <a:ext cx="568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D4A0-5082-4ECF-B555-66DC6707C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838080"/>
            <a:ext cx="568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滴水穿石的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12360" y="2374920"/>
            <a:ext cx="5689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317600" cy="1914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51640" y="2779560"/>
            <a:ext cx="29232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2266 L -0.00799 0.24092 E">
                                      <p:cBhvr>
                                        <p:cTn id="6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50920" y="2421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汉鼎繁颜体"/>
              </a:rPr>
              <a:t>我来介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0" y="2768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马克思的脚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伦敦，有一座举世闻名的博物馆——大英博物馆。虽然它与我们远隔千山万水，但很多中国人对它并不陌生。由于马克思成年累月在大英博物馆的圆形阅览室里阅读、写作，竟然在坚硬的水泥地上磨出了两个清晰的脚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80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马克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498920" y="2922120"/>
            <a:ext cx="46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贝多芬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开始听力逐渐减退，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双耳全聋。这对一位作曲家来说是一个致命的打击。但他没有放弃对音乐的追求，他的目标只有一个：创造出最美的音乐。他说过一句有名的话：呃住命运的喉咙，绝不能向它屈服。二十多年来，他一直在无声的世界里谱写最美的乐章。持之以恒的努力使他取得了巨大的成功。他的曲子在世界乐坛掀起狂澜，他的作品成为人类音乐宝库中光芒万丈的珍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332000" y="5805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贝多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55640" y="1463400"/>
            <a:ext cx="79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看，古今中外，所有成就事业的人，在前进的道路上，不都是靠着这种“滴水穿石”的精神，才“滴穿”一块块“顽石”，最终取得成功的吗？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3141720"/>
            <a:ext cx="0" cy="1224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2492280"/>
            <a:ext cx="0" cy="29527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86040" y="434664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克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4365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5516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目标专一   持之以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3141720"/>
            <a:ext cx="0" cy="1224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4012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古今中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89160" y="32925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是什么原因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3284640"/>
            <a:ext cx="75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它没有专     一的目标，也不能持之以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86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我们也能像水滴那样，还有什么事情做不成呢？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由朗读课文的第四自然段，思考：雨水为什么没把石块滴穿？试着结合“滴水穿石”的精神来谈一谈。</a:t>
            </a: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07520" y="63039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126828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"/>
              </a:rPr>
              <a:t>目标专一而不三心二意，持之以恒而不半途而废，就一定能够实现我们美好的理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116000" y="2017800"/>
            <a:ext cx="7315200" cy="698040"/>
            <a:chOff x="1116000" y="2017800"/>
            <a:chExt cx="7315200" cy="698040"/>
          </a:xfrm>
        </p:grpSpPr>
        <p:grpSp>
          <p:nvGrpSpPr>
            <p:cNvPr id="251" name=""/>
            <p:cNvGrpSpPr/>
            <p:nvPr/>
          </p:nvGrpSpPr>
          <p:grpSpPr>
            <a:xfrm>
              <a:off x="1116000" y="2017800"/>
              <a:ext cx="7315200" cy="697680"/>
              <a:chOff x="1116000" y="2017800"/>
              <a:chExt cx="7315200" cy="697680"/>
            </a:xfrm>
          </p:grpSpPr>
          <p:sp>
            <p:nvSpPr>
              <p:cNvPr id="252" name=""/>
              <p:cNvSpPr/>
              <p:nvPr/>
            </p:nvSpPr>
            <p:spPr>
              <a:xfrm>
                <a:off x="1116000" y="201780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愚公移山，贵在坚持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16000" y="201780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116000" y="201780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116000" y="644400"/>
            <a:ext cx="7315200" cy="990360"/>
            <a:chOff x="1116000" y="644400"/>
            <a:chExt cx="7315200" cy="990360"/>
          </a:xfrm>
        </p:grpSpPr>
        <p:grpSp>
          <p:nvGrpSpPr>
            <p:cNvPr id="256" name=""/>
            <p:cNvGrpSpPr/>
            <p:nvPr/>
          </p:nvGrpSpPr>
          <p:grpSpPr>
            <a:xfrm>
              <a:off x="1116000" y="644400"/>
              <a:ext cx="7315200" cy="990000"/>
              <a:chOff x="1116000" y="644400"/>
              <a:chExt cx="7315200" cy="990000"/>
            </a:xfrm>
          </p:grpSpPr>
          <p:sp>
            <p:nvSpPr>
              <p:cNvPr id="257" name=""/>
              <p:cNvSpPr/>
              <p:nvPr/>
            </p:nvSpPr>
            <p:spPr>
              <a:xfrm>
                <a:off x="1116000" y="644400"/>
                <a:ext cx="7315200" cy="99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一日无书，百事荒芜。读书要持之以恒，一日不可间断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16000" y="644400"/>
                <a:ext cx="7315200" cy="99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116000" y="644400"/>
              <a:ext cx="7315200" cy="99036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16000" y="3048120"/>
            <a:ext cx="7315200" cy="698040"/>
            <a:chOff x="1116000" y="3048120"/>
            <a:chExt cx="7315200" cy="698040"/>
          </a:xfrm>
        </p:grpSpPr>
        <p:grpSp>
          <p:nvGrpSpPr>
            <p:cNvPr id="261" name=""/>
            <p:cNvGrpSpPr/>
            <p:nvPr/>
          </p:nvGrpSpPr>
          <p:grpSpPr>
            <a:xfrm>
              <a:off x="1116000" y="3048120"/>
              <a:ext cx="7315200" cy="697680"/>
              <a:chOff x="1116000" y="3048120"/>
              <a:chExt cx="7315200" cy="697680"/>
            </a:xfrm>
          </p:grpSpPr>
          <p:sp>
            <p:nvSpPr>
              <p:cNvPr id="262" name=""/>
              <p:cNvSpPr/>
              <p:nvPr/>
            </p:nvSpPr>
            <p:spPr>
              <a:xfrm>
                <a:off x="1116000" y="304812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学贵有恒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16000" y="304812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116000" y="304812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116000" y="4149720"/>
            <a:ext cx="7315200" cy="698040"/>
            <a:chOff x="1116000" y="4149720"/>
            <a:chExt cx="7315200" cy="698040"/>
          </a:xfrm>
        </p:grpSpPr>
        <p:grpSp>
          <p:nvGrpSpPr>
            <p:cNvPr id="266" name=""/>
            <p:cNvGrpSpPr/>
            <p:nvPr/>
          </p:nvGrpSpPr>
          <p:grpSpPr>
            <a:xfrm>
              <a:off x="1116000" y="4149720"/>
              <a:ext cx="7315200" cy="697680"/>
              <a:chOff x="1116000" y="4149720"/>
              <a:chExt cx="7315200" cy="697680"/>
            </a:xfrm>
          </p:grpSpPr>
          <p:sp>
            <p:nvSpPr>
              <p:cNvPr id="267" name=""/>
              <p:cNvSpPr/>
              <p:nvPr/>
            </p:nvSpPr>
            <p:spPr>
              <a:xfrm>
                <a:off x="1116000" y="4149720"/>
                <a:ext cx="731520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坚持到底，就是胜利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116000" y="4149720"/>
                <a:ext cx="7315200" cy="697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16000" y="4149720"/>
              <a:ext cx="7315200" cy="69804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116000" y="5229360"/>
            <a:ext cx="7315200" cy="609120"/>
            <a:chOff x="1116000" y="5229360"/>
            <a:chExt cx="7315200" cy="609120"/>
          </a:xfrm>
        </p:grpSpPr>
        <p:grpSp>
          <p:nvGrpSpPr>
            <p:cNvPr id="271" name=""/>
            <p:cNvGrpSpPr/>
            <p:nvPr/>
          </p:nvGrpSpPr>
          <p:grpSpPr>
            <a:xfrm>
              <a:off x="1116000" y="5229360"/>
              <a:ext cx="7315200" cy="608760"/>
              <a:chOff x="1116000" y="5229360"/>
              <a:chExt cx="7315200" cy="608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116000" y="5229360"/>
                <a:ext cx="731520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壮志与毅力是事业的双翼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16000" y="5229360"/>
                <a:ext cx="7315200" cy="608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116000" y="5229360"/>
              <a:ext cx="7315200" cy="60912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9079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安徽广德太极洞内，有一块状如卧兔的石头，石头正中有一个光滑圆润的小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31370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原来在这块石头的上方，有水滴接连不断地从岩缝中滴落下来，而且总是滴在同一个地方。几百年过去了，几千年、几万年过去了……水滴锲而不舍，日雕月琢，终于滴穿了石块，成为今天太极洞内的一大奇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1024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水滴的力量是微不足道的，可是它目标专一、持之以恒，所以能把石块滴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34936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自学指导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"/>
                <a:ea typeface="楷体"/>
              </a:rPr>
              <a:t>读一读课文第一自然段描写小水滴把石头滴穿的句子，看看哪些词写出水滴的目标专一，哪些词写出了水滴的持之以恒，分别用横线和波浪线画出，并将自己的感受和同桌交流交流。</a:t>
            </a:r>
            <a:r>
              <a:rPr b="0" lang="en-US" sz="3600" spc="-1" strike="noStrike">
                <a:solidFill>
                  <a:srgbClr val="333399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31370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原来在这块石头的上方，有水滴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接连不断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地从岩缝中滴落下来，而且</a:t>
            </a: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总是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滴在</a:t>
            </a:r>
            <a:r>
              <a:rPr b="1" lang="zh-CN" sz="3600" spc="-1" strike="noStrike">
                <a:solidFill>
                  <a:srgbClr val="cc0099"/>
                </a:solidFill>
                <a:latin typeface="楷体"/>
                <a:ea typeface="楷体"/>
              </a:rPr>
              <a:t>同一个地方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几百年过去了，几千年、几万年过去了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……水滴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锲而不舍，日雕月琢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终于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滴穿了石块，成为今天太极洞内的一大奇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0249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黑体"/>
              </a:rPr>
              <a:t>水滴的力量是微不足道的，可是它目标专一、持之以恒，所以能把石块滴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5908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我们也能像水滴那样，还有什么事情做不成呢？</a:t>
            </a:r>
            <a:r>
              <a:rPr b="0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26370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21300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378936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默读课文的第三自然段，思考：这一小节介绍了哪几位名人？文中哪些词句可以体现他们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目标专一，持之以恒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的精神？在文中圈画出来，并完成下面的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3860640"/>
          <a:ext cx="8424720" cy="244944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376720"/>
                <a:gridCol w="2087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目标专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持之以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26370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21300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78936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61440" y="6383160"/>
            <a:ext cx="431640" cy="285840"/>
          </a:xfrm>
          <a:custGeom>
            <a:avLst/>
            <a:gdLst>
              <a:gd name="textAreaLeft" fmla="*/ 17640 w 431640"/>
              <a:gd name="textAreaRight" fmla="*/ 414000 w 431640"/>
              <a:gd name="textAreaTop" fmla="*/ 17640 h 285840"/>
              <a:gd name="textAreaBottom" fmla="*/ 268200 h 285840"/>
            </a:gdLst>
            <a:ahLst/>
            <a:rect l="textAreaLeft" t="textAreaTop" r="textAreaRight" b="textAreaBottom"/>
            <a:pathLst>
              <a:path w="32604" h="21600">
                <a:moveTo>
                  <a:pt x="0" y="0"/>
                </a:moveTo>
                <a:lnTo>
                  <a:pt x="32604" y="0"/>
                </a:lnTo>
                <a:lnTo>
                  <a:pt x="32604" y="21600"/>
                </a:lnTo>
                <a:lnTo>
                  <a:pt x="0" y="21600"/>
                </a:lnTo>
                <a:close/>
              </a:path>
              <a:path fill="lightenLess" w="32604" h="21600">
                <a:moveTo>
                  <a:pt x="0" y="0"/>
                </a:moveTo>
                <a:lnTo>
                  <a:pt x="32604" y="0"/>
                </a:lnTo>
                <a:lnTo>
                  <a:pt x="31254" y="1350"/>
                </a:lnTo>
                <a:lnTo>
                  <a:pt x="1350" y="1350"/>
                </a:lnTo>
                <a:close/>
              </a:path>
              <a:path fill="darken" w="32604" h="21600">
                <a:moveTo>
                  <a:pt x="32604" y="0"/>
                </a:moveTo>
                <a:lnTo>
                  <a:pt x="32604" y="21600"/>
                </a:lnTo>
                <a:lnTo>
                  <a:pt x="31254" y="20250"/>
                </a:lnTo>
                <a:lnTo>
                  <a:pt x="31254" y="1350"/>
                </a:lnTo>
                <a:close/>
              </a:path>
              <a:path fill="darkenLess" w="32604" h="21600">
                <a:moveTo>
                  <a:pt x="3260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254" y="20250"/>
                </a:lnTo>
                <a:close/>
              </a:path>
              <a:path fill="lighten" w="3260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604" h="21600">
                <a:moveTo>
                  <a:pt x="9258" y="3756"/>
                </a:moveTo>
                <a:lnTo>
                  <a:pt x="23346" y="10800"/>
                </a:lnTo>
                <a:lnTo>
                  <a:pt x="925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464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自学指导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默读课文的第三自然段，思考：这一小节介绍了哪几位名人？文中哪些词句可以体现他们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目标专一，持之以恒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的精神？在文中圈画出来，并完成下面的表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3860640"/>
          <a:ext cx="8424720" cy="244944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376720"/>
                <a:gridCol w="2087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姓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目标专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持之以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李时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爱迪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齐白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690560" y="638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38560" y="6381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63817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997440" cy="568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356000" y="981000"/>
            <a:ext cx="3240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《本草纲目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药学著作，五十二卷，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李时珍所作，成书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59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。全书共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9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多万字，载有药物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9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种，收集医方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09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，绘制精美插图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幅，分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部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6338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6381720"/>
            <a:ext cx="79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6237360"/>
            <a:ext cx="93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6237360"/>
            <a:ext cx="720720" cy="404640"/>
          </a:xfrm>
          <a:custGeom>
            <a:avLst/>
            <a:gdLst>
              <a:gd name="textAreaLeft" fmla="*/ 25200 w 720720"/>
              <a:gd name="textAreaRight" fmla="*/ 695520 w 72072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108" y="1350"/>
                </a:lnTo>
                <a:lnTo>
                  <a:pt x="1350" y="135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108" y="20250"/>
                </a:lnTo>
                <a:lnTo>
                  <a:pt x="37108" y="135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108" y="2025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8458" h="21600">
                <a:moveTo>
                  <a:pt x="22746" y="10800"/>
                </a:moveTo>
                <a:lnTo>
                  <a:pt x="12185" y="17844"/>
                </a:lnTo>
                <a:lnTo>
                  <a:pt x="12185" y="3756"/>
                </a:lnTo>
                <a:close/>
              </a:path>
              <a:path fill="darken" w="38458" h="21600">
                <a:moveTo>
                  <a:pt x="24601" y="3756"/>
                </a:moveTo>
                <a:lnTo>
                  <a:pt x="24601" y="17844"/>
                </a:lnTo>
                <a:lnTo>
                  <a:pt x="26273" y="17844"/>
                </a:lnTo>
                <a:lnTo>
                  <a:pt x="26273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9880" y="5661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889440" cy="561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140360" y="7650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国发明家爱迪生，没有受过正规教育，幼年就自谋生计，当小贩、报务员等。但他迷恋电学实验研究，毕生孜孜不倦，竟拥有白炽灯、留声机、碳粒电话筒、电影放映机等一千多项发明专利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6338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63388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79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630864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6165720"/>
            <a:ext cx="790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20000" y="6165720"/>
            <a:ext cx="792000" cy="476280"/>
          </a:xfrm>
          <a:custGeom>
            <a:avLst/>
            <a:gdLst>
              <a:gd name="textAreaLeft" fmla="*/ 29520 w 792000"/>
              <a:gd name="textAreaRight" fmla="*/ 762480 w 79200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58" y="1350"/>
                </a:lnTo>
                <a:lnTo>
                  <a:pt x="1350" y="135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58" y="20250"/>
                </a:lnTo>
                <a:lnTo>
                  <a:pt x="34558" y="135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558" y="2025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08" h="21600">
                <a:moveTo>
                  <a:pt x="21471" y="10800"/>
                </a:moveTo>
                <a:lnTo>
                  <a:pt x="10910" y="17844"/>
                </a:lnTo>
                <a:lnTo>
                  <a:pt x="10910" y="3756"/>
                </a:lnTo>
                <a:close/>
              </a:path>
              <a:path fill="darken" w="35908" h="21600">
                <a:moveTo>
                  <a:pt x="23326" y="3756"/>
                </a:moveTo>
                <a:lnTo>
                  <a:pt x="23326" y="17844"/>
                </a:lnTo>
                <a:lnTo>
                  <a:pt x="24998" y="17844"/>
                </a:lnTo>
                <a:lnTo>
                  <a:pt x="24998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745080" cy="568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95640" y="162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不教一日闲过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6338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6338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6381720"/>
            <a:ext cx="72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6381720"/>
            <a:ext cx="71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6308640"/>
            <a:ext cx="934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0000" y="6165720"/>
            <a:ext cx="790560" cy="549360"/>
          </a:xfrm>
          <a:custGeom>
            <a:avLst/>
            <a:gdLst>
              <a:gd name="textAreaLeft" fmla="*/ 34200 w 790560"/>
              <a:gd name="textAreaRight" fmla="*/ 756360 w 79056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727" y="1350"/>
                </a:lnTo>
                <a:lnTo>
                  <a:pt x="1350" y="135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727" y="20250"/>
                </a:lnTo>
                <a:lnTo>
                  <a:pt x="29727" y="135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27" y="2025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077" h="21600">
                <a:moveTo>
                  <a:pt x="19056" y="10800"/>
                </a:moveTo>
                <a:lnTo>
                  <a:pt x="8495" y="17844"/>
                </a:lnTo>
                <a:lnTo>
                  <a:pt x="8495" y="3756"/>
                </a:lnTo>
                <a:close/>
              </a:path>
              <a:path fill="darken" w="31077" h="21600">
                <a:moveTo>
                  <a:pt x="20911" y="3756"/>
                </a:moveTo>
                <a:lnTo>
                  <a:pt x="20911" y="17844"/>
                </a:lnTo>
                <a:lnTo>
                  <a:pt x="22582" y="17844"/>
                </a:lnTo>
                <a:lnTo>
                  <a:pt x="22582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270828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自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00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2852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珍惜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4:01:18Z</dcterms:created>
  <dc:creator>walkinnet</dc:creator>
  <dc:description/>
  <dc:language>en-US</dc:language>
  <cp:lastModifiedBy>aoxin</cp:lastModifiedBy>
  <cp:lastPrinted>1899-12-30T00:00:00Z</cp:lastPrinted>
  <dcterms:modified xsi:type="dcterms:W3CDTF">2014-06-07T06:45:48Z</dcterms:modified>
  <cp:revision>1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