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F20-C0C4-4EFE-8516-3E7FB205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FBD-74B7-4487-B9F7-C026EDE6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579-33C5-44C5-BA8E-DFB029DE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0839-9486-4D42-8AC0-D7E4BB90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E601-9310-43A4-9329-C7143030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6A56-A68F-4464-A519-EDC4FCAC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DB75-2733-488A-A1B0-6E1DB7DF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BAFE-17EA-41F1-96F6-1F70D39F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4BA1-7383-469F-9C4B-47C9E3D3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A434-6963-48A4-B745-E59CF527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10CC-A9D1-40EB-AC20-36761590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96B-DA14-4977-81CD-C9755F94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A9A4-E1D6-4DE3-A5B8-98E5FC99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E939-E877-4F82-AA4B-56D4990F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8D4C-8225-4812-B568-4ED33A68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8501-A834-40DB-9B6A-7594D164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01F5-0175-4732-96AE-D4C1ACE6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94C3-683A-40CF-8E19-F02CEE07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82188-D6C9-453C-A467-E925C2FE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3235-E89A-4B3D-8864-3A03A6F7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DF58D-1F35-4AED-9B64-E431E0A9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8EBCD-34B0-4DB4-966D-4484E050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CE2-8DAE-4453-84B7-95BDBFF6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BF72-8EF8-4D47-9A74-E6DE0EF5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516D4-49BC-4456-B4F4-082BAF4D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EFABE-A71C-40B2-AE36-410940A6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E5C8-E682-4EE3-A39C-5D2F31FF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0217-6F44-414E-97C0-D815ECCE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56CC8-0BC3-462A-B985-0233AE72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A4D21-A959-4B66-AE81-2A1AEA54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437A-58FE-4B06-9F0F-BBCB73B8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9F7-B91D-4F9B-B938-F0C65A7D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C994-6C77-43D0-9678-B049D1E9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4E9-E0BE-4952-B616-C7D5C88A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189-2E2E-4C62-ACFD-DAACF65C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F9E-DD95-48E0-9ED9-EB0E2C80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8938-D38A-442C-9494-E0F1541A92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1d6f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7" descr="云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4388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云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8039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02.png"/>
          <p:cNvPicPr/>
          <p:nvPr/>
        </p:nvPicPr>
        <p:blipFill>
          <a:blip r:embed="rId4"/>
          <a:stretch/>
        </p:blipFill>
        <p:spPr>
          <a:xfrm>
            <a:off x="0" y="4456080"/>
            <a:ext cx="9144000" cy="240192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6"/>
          <p:cNvGrpSpPr/>
          <p:nvPr/>
        </p:nvGrpSpPr>
        <p:grpSpPr>
          <a:xfrm>
            <a:off x="762120" y="1096920"/>
            <a:ext cx="8388360" cy="5767560"/>
            <a:chOff x="762120" y="1096920"/>
            <a:chExt cx="8388360" cy="5767560"/>
          </a:xfrm>
        </p:grpSpPr>
        <p:pic>
          <p:nvPicPr>
            <p:cNvPr id="46" name="单圆角矩形 10" descr=""/>
            <p:cNvPicPr/>
            <p:nvPr/>
          </p:nvPicPr>
          <p:blipFill>
            <a:blip r:embed="rId5"/>
            <a:stretch/>
          </p:blipFill>
          <p:spPr>
            <a:xfrm>
              <a:off x="762120" y="1096920"/>
              <a:ext cx="8388360" cy="57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8"/>
            <p:cNvSpPr/>
            <p:nvPr/>
          </p:nvSpPr>
          <p:spPr>
            <a:xfrm>
              <a:off x="966960" y="1103400"/>
              <a:ext cx="8177040" cy="57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图片 12" descr="01.png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7446960" y="3279600"/>
            <a:ext cx="1411200" cy="3578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6504-2D88-4D6D-AA69-5A2E3A9C01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F8F1-3B86-466F-A432-1A9AECF5ED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D6B0-1DAE-4BF7-ADFE-7EB04C2E44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1d6f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4" descr="云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4388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5" descr="云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8039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6" descr="02.png"/>
          <p:cNvPicPr/>
          <p:nvPr/>
        </p:nvPicPr>
        <p:blipFill>
          <a:blip r:embed="rId3"/>
          <a:stretch/>
        </p:blipFill>
        <p:spPr>
          <a:xfrm>
            <a:off x="0" y="4456080"/>
            <a:ext cx="9144000" cy="2401920"/>
          </a:xfrm>
          <a:prstGeom prst="rect">
            <a:avLst/>
          </a:prstGeom>
          <a:ln w="0">
            <a:noFill/>
          </a:ln>
        </p:spPr>
      </p:pic>
      <p:sp>
        <p:nvSpPr>
          <p:cNvPr id="134" name="Freeform 6"/>
          <p:cNvSpPr/>
          <p:nvPr/>
        </p:nvSpPr>
        <p:spPr>
          <a:xfrm>
            <a:off x="0" y="2827440"/>
            <a:ext cx="9128160" cy="1465200"/>
          </a:xfrm>
          <a:custGeom>
            <a:avLst/>
            <a:gdLst>
              <a:gd name="textAreaLeft" fmla="*/ 0 w 9128160"/>
              <a:gd name="textAreaRight" fmla="*/ 9128520 w 912816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1829" h="295">
                <a:moveTo>
                  <a:pt x="555" y="0"/>
                </a:moveTo>
                <a:cubicBezTo>
                  <a:pt x="429" y="0"/>
                  <a:pt x="303" y="43"/>
                  <a:pt x="212" y="85"/>
                </a:cubicBezTo>
                <a:cubicBezTo>
                  <a:pt x="89" y="141"/>
                  <a:pt x="1" y="204"/>
                  <a:pt x="0" y="205"/>
                </a:cubicBezTo>
                <a:cubicBezTo>
                  <a:pt x="4" y="211"/>
                  <a:pt x="4" y="211"/>
                  <a:pt x="4" y="211"/>
                </a:cubicBezTo>
                <a:cubicBezTo>
                  <a:pt x="7" y="209"/>
                  <a:pt x="288" y="8"/>
                  <a:pt x="555" y="8"/>
                </a:cubicBezTo>
                <a:cubicBezTo>
                  <a:pt x="586" y="8"/>
                  <a:pt x="616" y="10"/>
                  <a:pt x="645" y="16"/>
                </a:cubicBezTo>
                <a:cubicBezTo>
                  <a:pt x="778" y="42"/>
                  <a:pt x="925" y="97"/>
                  <a:pt x="1067" y="151"/>
                </a:cubicBezTo>
                <a:cubicBezTo>
                  <a:pt x="1215" y="207"/>
                  <a:pt x="1368" y="265"/>
                  <a:pt x="1500" y="286"/>
                </a:cubicBezTo>
                <a:cubicBezTo>
                  <a:pt x="1537" y="292"/>
                  <a:pt x="1571" y="295"/>
                  <a:pt x="1603" y="295"/>
                </a:cubicBezTo>
                <a:cubicBezTo>
                  <a:pt x="1700" y="295"/>
                  <a:pt x="1774" y="267"/>
                  <a:pt x="1829" y="211"/>
                </a:cubicBezTo>
                <a:cubicBezTo>
                  <a:pt x="1823" y="205"/>
                  <a:pt x="1823" y="205"/>
                  <a:pt x="1823" y="205"/>
                </a:cubicBezTo>
                <a:cubicBezTo>
                  <a:pt x="1769" y="261"/>
                  <a:pt x="1699" y="288"/>
                  <a:pt x="1605" y="288"/>
                </a:cubicBezTo>
                <a:cubicBezTo>
                  <a:pt x="1573" y="288"/>
                  <a:pt x="1539" y="285"/>
                  <a:pt x="1501" y="278"/>
                </a:cubicBezTo>
                <a:cubicBezTo>
                  <a:pt x="1370" y="257"/>
                  <a:pt x="1218" y="199"/>
                  <a:pt x="1070" y="144"/>
                </a:cubicBezTo>
                <a:cubicBezTo>
                  <a:pt x="927" y="90"/>
                  <a:pt x="780" y="34"/>
                  <a:pt x="647" y="8"/>
                </a:cubicBezTo>
                <a:cubicBezTo>
                  <a:pt x="617" y="2"/>
                  <a:pt x="586" y="0"/>
                  <a:pt x="555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0" y="2630520"/>
            <a:ext cx="9144000" cy="14349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1833" h="289">
                <a:moveTo>
                  <a:pt x="529" y="0"/>
                </a:moveTo>
                <a:cubicBezTo>
                  <a:pt x="390" y="0"/>
                  <a:pt x="269" y="42"/>
                  <a:pt x="186" y="83"/>
                </a:cubicBezTo>
                <a:cubicBezTo>
                  <a:pt x="72" y="138"/>
                  <a:pt x="1" y="201"/>
                  <a:pt x="0" y="202"/>
                </a:cubicBezTo>
                <a:cubicBezTo>
                  <a:pt x="6" y="208"/>
                  <a:pt x="6" y="208"/>
                  <a:pt x="6" y="208"/>
                </a:cubicBezTo>
                <a:cubicBezTo>
                  <a:pt x="6" y="207"/>
                  <a:pt x="77" y="145"/>
                  <a:pt x="189" y="90"/>
                </a:cubicBezTo>
                <a:cubicBezTo>
                  <a:pt x="272" y="50"/>
                  <a:pt x="392" y="8"/>
                  <a:pt x="529" y="8"/>
                </a:cubicBezTo>
                <a:cubicBezTo>
                  <a:pt x="565" y="8"/>
                  <a:pt x="601" y="11"/>
                  <a:pt x="638" y="17"/>
                </a:cubicBezTo>
                <a:cubicBezTo>
                  <a:pt x="750" y="36"/>
                  <a:pt x="874" y="86"/>
                  <a:pt x="1006" y="139"/>
                </a:cubicBezTo>
                <a:cubicBezTo>
                  <a:pt x="1149" y="197"/>
                  <a:pt x="1297" y="256"/>
                  <a:pt x="1439" y="279"/>
                </a:cubicBezTo>
                <a:cubicBezTo>
                  <a:pt x="1478" y="285"/>
                  <a:pt x="1516" y="289"/>
                  <a:pt x="1551" y="289"/>
                </a:cubicBezTo>
                <a:cubicBezTo>
                  <a:pt x="1662" y="289"/>
                  <a:pt x="1755" y="258"/>
                  <a:pt x="1833" y="196"/>
                </a:cubicBezTo>
                <a:cubicBezTo>
                  <a:pt x="1829" y="190"/>
                  <a:pt x="1829" y="190"/>
                  <a:pt x="1829" y="190"/>
                </a:cubicBezTo>
                <a:cubicBezTo>
                  <a:pt x="1751" y="251"/>
                  <a:pt x="1660" y="281"/>
                  <a:pt x="1551" y="281"/>
                </a:cubicBezTo>
                <a:cubicBezTo>
                  <a:pt x="1516" y="281"/>
                  <a:pt x="1479" y="277"/>
                  <a:pt x="1440" y="271"/>
                </a:cubicBezTo>
                <a:cubicBezTo>
                  <a:pt x="1299" y="249"/>
                  <a:pt x="1151" y="189"/>
                  <a:pt x="1009" y="131"/>
                </a:cubicBezTo>
                <a:cubicBezTo>
                  <a:pt x="876" y="78"/>
                  <a:pt x="752" y="28"/>
                  <a:pt x="640" y="9"/>
                </a:cubicBezTo>
                <a:cubicBezTo>
                  <a:pt x="602" y="3"/>
                  <a:pt x="565" y="0"/>
                  <a:pt x="529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0" y="2421000"/>
            <a:ext cx="9128160" cy="1449360"/>
          </a:xfrm>
          <a:custGeom>
            <a:avLst/>
            <a:gdLst>
              <a:gd name="textAreaLeft" fmla="*/ 0 w 9128160"/>
              <a:gd name="textAreaRight" fmla="*/ 9128520 w 912816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830" h="292">
                <a:moveTo>
                  <a:pt x="514" y="0"/>
                </a:moveTo>
                <a:cubicBezTo>
                  <a:pt x="393" y="0"/>
                  <a:pt x="290" y="30"/>
                  <a:pt x="213" y="62"/>
                </a:cubicBezTo>
                <a:cubicBezTo>
                  <a:pt x="82" y="116"/>
                  <a:pt x="1" y="187"/>
                  <a:pt x="0" y="188"/>
                </a:cubicBezTo>
                <a:cubicBezTo>
                  <a:pt x="6" y="194"/>
                  <a:pt x="6" y="194"/>
                  <a:pt x="6" y="194"/>
                </a:cubicBezTo>
                <a:cubicBezTo>
                  <a:pt x="6" y="193"/>
                  <a:pt x="87" y="123"/>
                  <a:pt x="216" y="69"/>
                </a:cubicBezTo>
                <a:cubicBezTo>
                  <a:pt x="292" y="38"/>
                  <a:pt x="395" y="8"/>
                  <a:pt x="514" y="8"/>
                </a:cubicBezTo>
                <a:cubicBezTo>
                  <a:pt x="583" y="8"/>
                  <a:pt x="656" y="18"/>
                  <a:pt x="734" y="43"/>
                </a:cubicBezTo>
                <a:cubicBezTo>
                  <a:pt x="831" y="74"/>
                  <a:pt x="925" y="113"/>
                  <a:pt x="1016" y="150"/>
                </a:cubicBezTo>
                <a:cubicBezTo>
                  <a:pt x="1165" y="211"/>
                  <a:pt x="1305" y="269"/>
                  <a:pt x="1440" y="287"/>
                </a:cubicBezTo>
                <a:cubicBezTo>
                  <a:pt x="1468" y="291"/>
                  <a:pt x="1496" y="292"/>
                  <a:pt x="1522" y="292"/>
                </a:cubicBezTo>
                <a:cubicBezTo>
                  <a:pt x="1638" y="292"/>
                  <a:pt x="1737" y="257"/>
                  <a:pt x="1830" y="182"/>
                </a:cubicBezTo>
                <a:cubicBezTo>
                  <a:pt x="1824" y="176"/>
                  <a:pt x="1824" y="176"/>
                  <a:pt x="1824" y="176"/>
                </a:cubicBezTo>
                <a:cubicBezTo>
                  <a:pt x="1733" y="249"/>
                  <a:pt x="1636" y="284"/>
                  <a:pt x="1522" y="284"/>
                </a:cubicBezTo>
                <a:cubicBezTo>
                  <a:pt x="1496" y="284"/>
                  <a:pt x="1469" y="283"/>
                  <a:pt x="1441" y="279"/>
                </a:cubicBezTo>
                <a:cubicBezTo>
                  <a:pt x="1307" y="261"/>
                  <a:pt x="1167" y="204"/>
                  <a:pt x="1019" y="143"/>
                </a:cubicBezTo>
                <a:cubicBezTo>
                  <a:pt x="928" y="105"/>
                  <a:pt x="834" y="66"/>
                  <a:pt x="736" y="35"/>
                </a:cubicBezTo>
                <a:cubicBezTo>
                  <a:pt x="658" y="10"/>
                  <a:pt x="583" y="0"/>
                  <a:pt x="514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11160" y="2209680"/>
            <a:ext cx="9132840" cy="1449360"/>
          </a:xfrm>
          <a:custGeom>
            <a:avLst/>
            <a:gdLst>
              <a:gd name="textAreaLeft" fmla="*/ 0 w 9132840"/>
              <a:gd name="textAreaRight" fmla="*/ 9133200 w 913284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830" h="292">
                <a:moveTo>
                  <a:pt x="514" y="0"/>
                </a:moveTo>
                <a:cubicBezTo>
                  <a:pt x="393" y="0"/>
                  <a:pt x="290" y="30"/>
                  <a:pt x="213" y="62"/>
                </a:cubicBezTo>
                <a:cubicBezTo>
                  <a:pt x="82" y="116"/>
                  <a:pt x="1" y="187"/>
                  <a:pt x="0" y="188"/>
                </a:cubicBezTo>
                <a:cubicBezTo>
                  <a:pt x="6" y="194"/>
                  <a:pt x="6" y="194"/>
                  <a:pt x="6" y="194"/>
                </a:cubicBezTo>
                <a:cubicBezTo>
                  <a:pt x="6" y="193"/>
                  <a:pt x="87" y="123"/>
                  <a:pt x="216" y="69"/>
                </a:cubicBezTo>
                <a:cubicBezTo>
                  <a:pt x="292" y="38"/>
                  <a:pt x="395" y="8"/>
                  <a:pt x="514" y="8"/>
                </a:cubicBezTo>
                <a:cubicBezTo>
                  <a:pt x="583" y="8"/>
                  <a:pt x="656" y="18"/>
                  <a:pt x="734" y="43"/>
                </a:cubicBezTo>
                <a:cubicBezTo>
                  <a:pt x="831" y="74"/>
                  <a:pt x="925" y="113"/>
                  <a:pt x="1016" y="150"/>
                </a:cubicBezTo>
                <a:cubicBezTo>
                  <a:pt x="1165" y="211"/>
                  <a:pt x="1305" y="269"/>
                  <a:pt x="1440" y="287"/>
                </a:cubicBezTo>
                <a:cubicBezTo>
                  <a:pt x="1468" y="291"/>
                  <a:pt x="1496" y="292"/>
                  <a:pt x="1522" y="292"/>
                </a:cubicBezTo>
                <a:cubicBezTo>
                  <a:pt x="1638" y="292"/>
                  <a:pt x="1737" y="257"/>
                  <a:pt x="1830" y="182"/>
                </a:cubicBezTo>
                <a:cubicBezTo>
                  <a:pt x="1824" y="176"/>
                  <a:pt x="1824" y="176"/>
                  <a:pt x="1824" y="176"/>
                </a:cubicBezTo>
                <a:cubicBezTo>
                  <a:pt x="1733" y="249"/>
                  <a:pt x="1636" y="284"/>
                  <a:pt x="1522" y="284"/>
                </a:cubicBezTo>
                <a:cubicBezTo>
                  <a:pt x="1496" y="284"/>
                  <a:pt x="1469" y="283"/>
                  <a:pt x="1441" y="279"/>
                </a:cubicBezTo>
                <a:cubicBezTo>
                  <a:pt x="1307" y="261"/>
                  <a:pt x="1167" y="204"/>
                  <a:pt x="1019" y="143"/>
                </a:cubicBezTo>
                <a:cubicBezTo>
                  <a:pt x="928" y="105"/>
                  <a:pt x="834" y="66"/>
                  <a:pt x="736" y="35"/>
                </a:cubicBezTo>
                <a:cubicBezTo>
                  <a:pt x="658" y="10"/>
                  <a:pt x="583" y="0"/>
                  <a:pt x="514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8"/>
          <p:cNvSpPr/>
          <p:nvPr/>
        </p:nvSpPr>
        <p:spPr>
          <a:xfrm>
            <a:off x="11160" y="2000160"/>
            <a:ext cx="9132840" cy="1449360"/>
          </a:xfrm>
          <a:custGeom>
            <a:avLst/>
            <a:gdLst>
              <a:gd name="textAreaLeft" fmla="*/ 0 w 9132840"/>
              <a:gd name="textAreaRight" fmla="*/ 9133200 w 913284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830" h="292">
                <a:moveTo>
                  <a:pt x="514" y="0"/>
                </a:moveTo>
                <a:cubicBezTo>
                  <a:pt x="393" y="0"/>
                  <a:pt x="290" y="30"/>
                  <a:pt x="213" y="62"/>
                </a:cubicBezTo>
                <a:cubicBezTo>
                  <a:pt x="82" y="116"/>
                  <a:pt x="1" y="187"/>
                  <a:pt x="0" y="188"/>
                </a:cubicBezTo>
                <a:cubicBezTo>
                  <a:pt x="6" y="194"/>
                  <a:pt x="6" y="194"/>
                  <a:pt x="6" y="194"/>
                </a:cubicBezTo>
                <a:cubicBezTo>
                  <a:pt x="6" y="193"/>
                  <a:pt x="87" y="123"/>
                  <a:pt x="216" y="69"/>
                </a:cubicBezTo>
                <a:cubicBezTo>
                  <a:pt x="292" y="38"/>
                  <a:pt x="395" y="8"/>
                  <a:pt x="514" y="8"/>
                </a:cubicBezTo>
                <a:cubicBezTo>
                  <a:pt x="583" y="8"/>
                  <a:pt x="656" y="18"/>
                  <a:pt x="734" y="43"/>
                </a:cubicBezTo>
                <a:cubicBezTo>
                  <a:pt x="831" y="74"/>
                  <a:pt x="925" y="113"/>
                  <a:pt x="1016" y="150"/>
                </a:cubicBezTo>
                <a:cubicBezTo>
                  <a:pt x="1165" y="211"/>
                  <a:pt x="1305" y="269"/>
                  <a:pt x="1440" y="287"/>
                </a:cubicBezTo>
                <a:cubicBezTo>
                  <a:pt x="1468" y="291"/>
                  <a:pt x="1496" y="292"/>
                  <a:pt x="1522" y="292"/>
                </a:cubicBezTo>
                <a:cubicBezTo>
                  <a:pt x="1638" y="292"/>
                  <a:pt x="1737" y="257"/>
                  <a:pt x="1830" y="182"/>
                </a:cubicBezTo>
                <a:cubicBezTo>
                  <a:pt x="1824" y="176"/>
                  <a:pt x="1824" y="176"/>
                  <a:pt x="1824" y="176"/>
                </a:cubicBezTo>
                <a:cubicBezTo>
                  <a:pt x="1733" y="249"/>
                  <a:pt x="1636" y="284"/>
                  <a:pt x="1522" y="284"/>
                </a:cubicBezTo>
                <a:cubicBezTo>
                  <a:pt x="1496" y="284"/>
                  <a:pt x="1469" y="283"/>
                  <a:pt x="1441" y="279"/>
                </a:cubicBezTo>
                <a:cubicBezTo>
                  <a:pt x="1307" y="261"/>
                  <a:pt x="1167" y="204"/>
                  <a:pt x="1019" y="143"/>
                </a:cubicBezTo>
                <a:cubicBezTo>
                  <a:pt x="928" y="105"/>
                  <a:pt x="834" y="66"/>
                  <a:pt x="736" y="35"/>
                </a:cubicBezTo>
                <a:cubicBezTo>
                  <a:pt x="658" y="10"/>
                  <a:pt x="583" y="0"/>
                  <a:pt x="514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13" descr="01.pn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6572160" y="2500200"/>
            <a:ext cx="1176480" cy="12924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4" descr="02.png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7961400" y="2714760"/>
            <a:ext cx="1182600" cy="129204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5" descr="03.png"/>
          <p:cNvPicPr/>
          <p:nvPr/>
        </p:nvPicPr>
        <p:blipFill>
          <a:blip r:embed="rId6">
            <a:lum bright="10000"/>
          </a:blip>
          <a:stretch/>
        </p:blipFill>
        <p:spPr>
          <a:xfrm>
            <a:off x="4929120" y="3143160"/>
            <a:ext cx="1163880" cy="9208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6" descr="04.png"/>
          <p:cNvPicPr/>
          <p:nvPr/>
        </p:nvPicPr>
        <p:blipFill>
          <a:blip r:embed="rId7">
            <a:lum bright="10000"/>
          </a:blip>
          <a:stretch/>
        </p:blipFill>
        <p:spPr>
          <a:xfrm>
            <a:off x="4071960" y="1785960"/>
            <a:ext cx="755640" cy="9316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7" descr="05.png"/>
          <p:cNvPicPr/>
          <p:nvPr/>
        </p:nvPicPr>
        <p:blipFill>
          <a:blip r:embed="rId8">
            <a:lum bright="10000"/>
          </a:blip>
          <a:stretch/>
        </p:blipFill>
        <p:spPr>
          <a:xfrm>
            <a:off x="3143160" y="1785960"/>
            <a:ext cx="506520" cy="8650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37" descr="叶17.png"/>
          <p:cNvPicPr/>
          <p:nvPr/>
        </p:nvPicPr>
        <p:blipFill>
          <a:blip r:embed="rId9"/>
          <a:stretch/>
        </p:blipFill>
        <p:spPr>
          <a:xfrm>
            <a:off x="-2990880" y="2214720"/>
            <a:ext cx="857160" cy="4284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38" descr="叶18.png"/>
          <p:cNvPicPr/>
          <p:nvPr/>
        </p:nvPicPr>
        <p:blipFill>
          <a:blip r:embed="rId10"/>
          <a:stretch/>
        </p:blipFill>
        <p:spPr>
          <a:xfrm>
            <a:off x="-1633680" y="3429000"/>
            <a:ext cx="625680" cy="3747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40" descr="叶2.png"/>
          <p:cNvPicPr/>
          <p:nvPr/>
        </p:nvPicPr>
        <p:blipFill>
          <a:blip r:embed="rId11"/>
          <a:stretch/>
        </p:blipFill>
        <p:spPr>
          <a:xfrm>
            <a:off x="-2705040" y="3000240"/>
            <a:ext cx="544320" cy="2685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41" descr="叶3.png"/>
          <p:cNvPicPr/>
          <p:nvPr/>
        </p:nvPicPr>
        <p:blipFill>
          <a:blip r:embed="rId12"/>
          <a:stretch/>
        </p:blipFill>
        <p:spPr>
          <a:xfrm>
            <a:off x="-2062080" y="2500200"/>
            <a:ext cx="258840" cy="374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43" descr="叶5.png"/>
          <p:cNvPicPr/>
          <p:nvPr/>
        </p:nvPicPr>
        <p:blipFill>
          <a:blip r:embed="rId13"/>
          <a:stretch/>
        </p:blipFill>
        <p:spPr>
          <a:xfrm>
            <a:off x="-1133640" y="2286000"/>
            <a:ext cx="320760" cy="2412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44" descr="叶6.png"/>
          <p:cNvPicPr/>
          <p:nvPr/>
        </p:nvPicPr>
        <p:blipFill>
          <a:blip r:embed="rId14"/>
          <a:stretch/>
        </p:blipFill>
        <p:spPr>
          <a:xfrm>
            <a:off x="-1062000" y="2714760"/>
            <a:ext cx="88920" cy="1965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45" descr="叶7.png"/>
          <p:cNvPicPr/>
          <p:nvPr/>
        </p:nvPicPr>
        <p:blipFill>
          <a:blip r:embed="rId15"/>
          <a:stretch/>
        </p:blipFill>
        <p:spPr>
          <a:xfrm>
            <a:off x="-5133960" y="2143080"/>
            <a:ext cx="669960" cy="4730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46" descr="叶8.png"/>
          <p:cNvPicPr/>
          <p:nvPr/>
        </p:nvPicPr>
        <p:blipFill>
          <a:blip r:embed="rId16"/>
          <a:stretch/>
        </p:blipFill>
        <p:spPr>
          <a:xfrm>
            <a:off x="-4491000" y="1785960"/>
            <a:ext cx="544320" cy="6253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47" descr="叶9.png"/>
          <p:cNvPicPr/>
          <p:nvPr/>
        </p:nvPicPr>
        <p:blipFill>
          <a:blip r:embed="rId17"/>
          <a:stretch/>
        </p:blipFill>
        <p:spPr>
          <a:xfrm>
            <a:off x="-4562640" y="1285920"/>
            <a:ext cx="509760" cy="20484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48" descr="叶10.png"/>
          <p:cNvPicPr/>
          <p:nvPr/>
        </p:nvPicPr>
        <p:blipFill>
          <a:blip r:embed="rId18"/>
          <a:stretch/>
        </p:blipFill>
        <p:spPr>
          <a:xfrm>
            <a:off x="-3705120" y="1714680"/>
            <a:ext cx="231840" cy="2235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49" descr="叶11.png"/>
          <p:cNvPicPr/>
          <p:nvPr/>
        </p:nvPicPr>
        <p:blipFill>
          <a:blip r:embed="rId19"/>
          <a:stretch/>
        </p:blipFill>
        <p:spPr>
          <a:xfrm>
            <a:off x="-3633840" y="928800"/>
            <a:ext cx="446040" cy="4824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50" descr="叶12.png"/>
          <p:cNvPicPr/>
          <p:nvPr/>
        </p:nvPicPr>
        <p:blipFill>
          <a:blip r:embed="rId20"/>
          <a:stretch/>
        </p:blipFill>
        <p:spPr>
          <a:xfrm>
            <a:off x="-3705120" y="357120"/>
            <a:ext cx="196920" cy="258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51" descr="叶13.png"/>
          <p:cNvPicPr/>
          <p:nvPr/>
        </p:nvPicPr>
        <p:blipFill>
          <a:blip r:embed="rId21"/>
          <a:stretch/>
        </p:blipFill>
        <p:spPr>
          <a:xfrm>
            <a:off x="-5276880" y="3500280"/>
            <a:ext cx="509760" cy="3747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52" descr="叶14.png"/>
          <p:cNvPicPr/>
          <p:nvPr/>
        </p:nvPicPr>
        <p:blipFill>
          <a:blip r:embed="rId22"/>
          <a:stretch/>
        </p:blipFill>
        <p:spPr>
          <a:xfrm>
            <a:off x="-4919760" y="2857680"/>
            <a:ext cx="133560" cy="3031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53" descr="叶15.png"/>
          <p:cNvPicPr/>
          <p:nvPr/>
        </p:nvPicPr>
        <p:blipFill>
          <a:blip r:embed="rId23"/>
          <a:stretch/>
        </p:blipFill>
        <p:spPr>
          <a:xfrm>
            <a:off x="-4491000" y="3143160"/>
            <a:ext cx="411120" cy="2318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54" descr="叶16.png"/>
          <p:cNvPicPr/>
          <p:nvPr/>
        </p:nvPicPr>
        <p:blipFill>
          <a:blip r:embed="rId24"/>
          <a:stretch/>
        </p:blipFill>
        <p:spPr>
          <a:xfrm>
            <a:off x="-3633840" y="3000240"/>
            <a:ext cx="411120" cy="5986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2" descr="01.png"/>
          <p:cNvPicPr/>
          <p:nvPr/>
        </p:nvPicPr>
        <p:blipFill>
          <a:blip r:embed="rId25">
            <a:grayscl/>
          </a:blip>
          <a:stretch/>
        </p:blipFill>
        <p:spPr>
          <a:xfrm>
            <a:off x="857160" y="1106640"/>
            <a:ext cx="2268720" cy="575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300"/>
                            </p:stCondLst>
                            <p:childTnLst>
                              <p:par>
                                <p:cTn id="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100"/>
                            </p:stCondLst>
                            <p:childTnLst>
                              <p:par>
                                <p:cTn id="69" autoRev="1" nodeType="afterEffect" fill="hold" presetClass="path" presetID="64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1481E-006 L 1.66667E-006 -0.02291 E">
                                      <p:cBhvr>
                                        <p:cTn id="70" dur="18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autoRev="1" nodeType="withEffect" fill="hold" presetClass="path" presetID="64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38889E-006 -4.44444E-006 L -1.38889E-006 0.01436 E">
                                      <p:cBhvr>
                                        <p:cTn id="7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autoRev="1" nodeType="withEffect" fill="hold" presetClass="path" presetID="64" repeatCount="200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5.55556E-007 -2.96296E-006 L -5.55556E-007 -0.03588 E">
                                      <p:cBhvr>
                                        <p:cTn id="7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autoRev="1" nodeType="withEffect" fill="hold" presetClass="path" presetID="64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05556E-006 3.7037E-006 L 3.05556E-006 -0.03241 E">
                                      <p:cBhvr>
                                        <p:cTn id="76" dur="22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autoRev="1" nodeType="withEffect" fill="hold" presetClass="path" presetID="64" repeatCount="200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77778E-007 -3.33333E-006 L 2.77778E-007 0.02037 E">
                                      <p:cBhvr>
                                        <p:cTn id="7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4.72222E-006 4.07407E-006 C 0.03212 -0.02732 0.06424 -0.05463 0.11511 -0.06667 C 0.16615 -0.07871 0.2283 -0.08334 0.30625 -0.07223 C 0.38421 -0.06112 0.48386 -0.02084 0.58212 4.07407E-006 C 0.68021 0.02083 0.78073 0.05694 0.89497 0.05277 C 1.00955 0.04861 1.19358 -0.00834 1.26893 -0.025 E">
                                      <p:cBhvr>
                                        <p:cTn id="80" dur="31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>
                                  <p:stCondLst>
                                    <p:cond delay="2700"/>
                                  </p:stCondLst>
                                  <p:childTnLst>
                                    <p:animRot by="-599640">
                                      <p:cBhvr>
                                        <p:cTn id="82" dur="3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3.33333E-006 -1.48148E-006 C 0.00347 -0.02523 0.00677 -0.05046 0.09757 -0.05393 C 0.18836 -0.05717 0.41111 -0.02523 0.54514 -0.02014 C 0.67916 -0.01504 0.78055 -0.02917 0.90208 -0.02361 C 1.02343 -0.01782 1.14896 -0.00208 1.27448 0.01366 E">
                                      <p:cBhvr>
                                        <p:cTn id="8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3100"/>
                                  </p:stCondLst>
                                  <p:childTnLst>
                                    <p:animRot by="600000">
                                      <p:cBhvr>
                                        <p:cTn id="8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-3.88889E-006 0.00579 C 0.06181 -0.02361 0.12361 -0.05277 0.2158 -0.05277 C 0.30799 -0.05277 0.4698 -0.0081 0.55365 0.00579 C 0.6375 0.01968 0.6375 0.02894 0.71927 0.03056 C 0.80105 0.03218 0.94098 0.00371 1.0441 0.01505 C 1.1474 0.02639 1.28073 0.08102 1.33855 0.09862 E">
                                      <p:cBhvr>
                                        <p:cTn id="88" dur="4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4200"/>
                                  </p:stCondLst>
                                  <p:childTnLst>
                                    <p:animRot by="600000">
                                      <p:cBhvr>
                                        <p:cTn id="90" dur="4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3.61111E-006 3.7037E-007 C 0.08264 0.04028 0.16528 0.08055 0.26042 0.10278 C 0.35556 0.125 0.46146 0.1412 0.57083 0.13333 C 0.68021 0.12546 0.78264 0.07129 0.91667 0.05555 C 1.05069 0.03981 1.21285 0.03935 1.375 0.03889 E">
                                      <p:cBhvr>
                                        <p:cTn id="92" dur="27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2900"/>
                                  </p:stCondLst>
                                  <p:childTnLst>
                                    <p:animRot by="-599640">
                                      <p:cBhvr>
                                        <p:cTn id="94" dur="27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3.33333E-006 -5.55556E-006 C 0.12725 0.08772 0.25451 0.17546 0.39583 0.22221 C 0.53715 0.26897 0.71007 0.26805 0.84791 0.28055 C 0.98576 0.29305 1.11284 0.28518 1.22291 0.29721 C 1.33298 0.30925 1.42066 0.33101 1.50833 0.35277 E">
                                      <p:cBhvr>
                                        <p:cTn id="96" dur="33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>
                                  <p:stCondLst>
                                    <p:cond delay="4300"/>
                                  </p:stCondLst>
                                  <p:childTnLst>
                                    <p:animRot by="600000">
                                      <p:cBhvr>
                                        <p:cTn id="98" dur="3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3.88889E-006 -4.44444E-006 C 0.05277 0.04167 0.10555 0.08334 0.21111 0.10625 C 0.31632 0.12917 0.49895 0.12639 0.63281 0.1375 C 0.76684 0.14838 0.88055 0.14746 1.01441 0.17176 C 1.14826 0.1963 1.29218 0.24028 1.43645 0.2845 E">
                                      <p:cBhvr>
                                        <p:cTn id="100" dur="29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-599640">
                                      <p:cBhvr>
                                        <p:cTn id="102" dur="2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1.38889E-006 -2.59259E-006 C 0.054 0.04699 0.10799 0.09398 0.23959 0.10556 C 0.37118 0.11713 0.63855 0.08843 0.78959 0.06945 C 0.94063 0.05046 1.01927 0.00324 1.14584 -0.00833 C 1.27223 -0.01991 1.41007 -0.00995 1.54792 -2.59259E-006 E">
                                      <p:cBhvr>
                                        <p:cTn id="104" dur="2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600000">
                                      <p:cBhvr>
                                        <p:cTn id="106" dur="2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6.94444E-006 8.14815E-006 C 0.03021 0.04028 0.06042 0.08056 0.20001 0.14723 C 0.33959 0.21389 0.66528 0.35139 0.83733 0.40001 C 1.00973 0.44862 1.10348 0.44723 1.23334 0.43889 C 1.3632 0.43056 1.48994 0.39028 1.61667 0.35001 E">
                                      <p:cBhvr>
                                        <p:cTn id="10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600000">
                                      <p:cBhvr>
                                        <p:cTn id="1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1.66667E-006 -1.85185E-006 C 0.05695 0.02755 0.11389 0.05509 0.23004 0.08334 C 0.34618 0.11158 0.53472 0.16065 0.69636 0.16945 C 0.85816 0.17824 1.0592 0.15232 1.20052 0.13611 C 1.34167 0.11991 1.44236 0.09607 1.5434 0.07222 E">
                                      <p:cBhvr>
                                        <p:cTn id="112" dur="42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-599640">
                                      <p:cBhvr>
                                        <p:cTn id="114" dur="42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3.88889E-006 -3.33333E-006 C 0.0448 0.03565 0.08941 0.0713 0.20365 0.11065 C 0.31789 0.15 0.54063 0.20764 0.68559 0.23565 C 0.83056 0.26366 0.92952 0.26875 1.07344 0.27824 C 1.21737 0.28773 1.454 0.29005 1.54914 0.2926 E">
                                      <p:cBhvr>
                                        <p:cTn id="1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>
                                  <p:stCondLst>
                                    <p:cond delay="4600"/>
                                  </p:stCondLst>
                                  <p:childTnLst>
                                    <p:animRot by="600000">
                                      <p:cBhvr>
                                        <p:cTn id="118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1.38889E-006 4.81481E-006 C 0.08854 0.03333 0.17708 0.06667 0.28542 0.07222 C 0.39375 0.07778 0.5316 0.03056 0.65 0.03333 C 0.7684 0.03611 0.88056 0.06667 0.99583 0.08889 C 1.11111 0.11111 1.22847 0.12546 1.34167 0.16667 C 1.45486 0.20787 1.56493 0.27199 1.675 0.33611 E">
                                      <p:cBhvr>
                                        <p:cTn id="120" dur="34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5400"/>
                                  </p:stCondLst>
                                  <p:childTnLst>
                                    <p:animRot by="-599640">
                                      <p:cBhvr>
                                        <p:cTn id="122" dur="3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3.61111E-006 -0.01227 C 0.08334 0.00903 0.1665 0.03032 0.26372 0.02523 C 0.36111 0.01991 0.44236 -0.05509 0.58386 -0.04352 C 0.72552 -0.03218 0.93611 0.09815 1.11337 0.09398 C 1.29046 0.08981 1.46875 0.01065 1.6474 -0.06852 E">
                                      <p:cBhvr>
                                        <p:cTn id="124" dur="44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600000">
                                      <p:cBhvr>
                                        <p:cTn id="126" dur="4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1.94444E-006 0.00695 C 0.08177 0.01921 0.16354 0.03125 0.28316 0.01597 C 0.40261 0.00046 0.57101 -0.07778 0.71736 -0.08565 C 0.86372 -0.09352 1.05538 -0.04792 1.16077 -0.03194 C 1.26632 -0.01597 1.27188 -0.00995 1.35018 0.00996 C 1.42865 0.02986 1.57344 0.0706 1.63108 0.08773 E">
                                      <p:cBhvr>
                                        <p:cTn id="128" dur="37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5300"/>
                                  </p:stCondLst>
                                  <p:childTnLst>
                                    <p:animRot by="-599640">
                                      <p:cBhvr>
                                        <p:cTn id="130" dur="37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-1.38889E-006 -2.59259E-006 C 0.15729 -0.00694 0.31459 -0.01389 0.48125 0.00556 C 0.64792 0.025 0.8507 0.07963 1 0.11667 C 1.14931 0.15371 1.25573 0.19584 1.37691 0.22778 C 1.49827 0.25973 1.61268 0.28403 1.72709 0.30834 E">
                                      <p:cBhvr>
                                        <p:cTn id="132" dur="27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>
                                  <p:stCondLst>
                                    <p:cond delay="6400"/>
                                  </p:stCondLst>
                                  <p:childTnLst>
                                    <p:animRot by="600000">
                                      <p:cBhvr>
                                        <p:cTn id="134" dur="2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3.61111E-006 0.02847 C 0.13541 -0.02986 0.27083 -0.08842 0.39757 -0.10278 C 0.52465 -0.11713 0.65086 -0.07801 0.76215 -0.05787 C 0.87343 -0.03773 0.97083 -0.02037 1.06527 0.01829 C 1.15972 0.05671 1.23663 0.14144 1.32882 0.17384 C 1.421 0.20602 1.55104 0.19861 1.61875 0.21181 C 1.68645 0.225 1.71215 0.26667 1.73524 0.25324 E">
                                      <p:cBhvr>
                                        <p:cTn id="136" dur="28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>
                                  <p:stCondLst>
                                    <p:cond delay="4900"/>
                                  </p:stCondLst>
                                  <p:childTnLst>
                                    <p:animRot by="-599640">
                                      <p:cBhvr>
                                        <p:cTn id="138" dur="2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2.5E-006 7.40741E-007 C 0.09531 0.05995 0.19062 0.1199 0.32309 0.13333 C 0.4552 0.14676 0.6493 0.11435 0.79375 0.08055 C 0.93819 0.04676 1.04722 0.000460000000000002 1.18958 -0.06945 C 1.33194 -0.13936 1.48993 -0.23912 1.64791 -0.33889 E">
                                      <p:cBhvr>
                                        <p:cTn id="140" dur="32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>
                                  <p:stCondLst>
                                    <p:cond delay="5900"/>
                                  </p:stCondLst>
                                  <p:childTnLst>
                                    <p:animRot by="600000">
                                      <p:cBhvr>
                                        <p:cTn id="142" dur="3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1d6f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4" descr="云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438880"/>
          </a:xfrm>
          <a:prstGeom prst="rect">
            <a:avLst/>
          </a:prstGeom>
          <a:ln w="0">
            <a:noFill/>
          </a:ln>
        </p:spPr>
      </p:pic>
      <p:pic>
        <p:nvPicPr>
          <p:cNvPr id="383" name="图片 5" descr="云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803920"/>
          </a:xfrm>
          <a:prstGeom prst="rect">
            <a:avLst/>
          </a:prstGeom>
          <a:ln w="0">
            <a:noFill/>
          </a:ln>
        </p:spPr>
      </p:pic>
      <p:pic>
        <p:nvPicPr>
          <p:cNvPr id="384" name="图片 6" descr="02.png"/>
          <p:cNvPicPr/>
          <p:nvPr/>
        </p:nvPicPr>
        <p:blipFill>
          <a:blip r:embed="rId3"/>
          <a:stretch/>
        </p:blipFill>
        <p:spPr>
          <a:xfrm>
            <a:off x="0" y="4456080"/>
            <a:ext cx="9144000" cy="2401920"/>
          </a:xfrm>
          <a:prstGeom prst="rect">
            <a:avLst/>
          </a:prstGeom>
          <a:ln w="0">
            <a:noFill/>
          </a:ln>
        </p:spPr>
      </p:pic>
      <p:sp>
        <p:nvSpPr>
          <p:cNvPr id="385" name="Freeform 6"/>
          <p:cNvSpPr/>
          <p:nvPr/>
        </p:nvSpPr>
        <p:spPr>
          <a:xfrm>
            <a:off x="0" y="2827440"/>
            <a:ext cx="9128160" cy="1465200"/>
          </a:xfrm>
          <a:custGeom>
            <a:avLst/>
            <a:gdLst>
              <a:gd name="textAreaLeft" fmla="*/ 0 w 9128160"/>
              <a:gd name="textAreaRight" fmla="*/ 9128520 w 912816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1829" h="295">
                <a:moveTo>
                  <a:pt x="555" y="0"/>
                </a:moveTo>
                <a:cubicBezTo>
                  <a:pt x="429" y="0"/>
                  <a:pt x="303" y="43"/>
                  <a:pt x="212" y="85"/>
                </a:cubicBezTo>
                <a:cubicBezTo>
                  <a:pt x="89" y="141"/>
                  <a:pt x="1" y="204"/>
                  <a:pt x="0" y="205"/>
                </a:cubicBezTo>
                <a:cubicBezTo>
                  <a:pt x="4" y="211"/>
                  <a:pt x="4" y="211"/>
                  <a:pt x="4" y="211"/>
                </a:cubicBezTo>
                <a:cubicBezTo>
                  <a:pt x="7" y="209"/>
                  <a:pt x="288" y="8"/>
                  <a:pt x="555" y="8"/>
                </a:cubicBezTo>
                <a:cubicBezTo>
                  <a:pt x="586" y="8"/>
                  <a:pt x="616" y="10"/>
                  <a:pt x="645" y="16"/>
                </a:cubicBezTo>
                <a:cubicBezTo>
                  <a:pt x="778" y="42"/>
                  <a:pt x="925" y="97"/>
                  <a:pt x="1067" y="151"/>
                </a:cubicBezTo>
                <a:cubicBezTo>
                  <a:pt x="1215" y="207"/>
                  <a:pt x="1368" y="265"/>
                  <a:pt x="1500" y="286"/>
                </a:cubicBezTo>
                <a:cubicBezTo>
                  <a:pt x="1537" y="292"/>
                  <a:pt x="1571" y="295"/>
                  <a:pt x="1603" y="295"/>
                </a:cubicBezTo>
                <a:cubicBezTo>
                  <a:pt x="1700" y="295"/>
                  <a:pt x="1774" y="267"/>
                  <a:pt x="1829" y="211"/>
                </a:cubicBezTo>
                <a:cubicBezTo>
                  <a:pt x="1823" y="205"/>
                  <a:pt x="1823" y="205"/>
                  <a:pt x="1823" y="205"/>
                </a:cubicBezTo>
                <a:cubicBezTo>
                  <a:pt x="1769" y="261"/>
                  <a:pt x="1699" y="288"/>
                  <a:pt x="1605" y="288"/>
                </a:cubicBezTo>
                <a:cubicBezTo>
                  <a:pt x="1573" y="288"/>
                  <a:pt x="1539" y="285"/>
                  <a:pt x="1501" y="278"/>
                </a:cubicBezTo>
                <a:cubicBezTo>
                  <a:pt x="1370" y="257"/>
                  <a:pt x="1218" y="199"/>
                  <a:pt x="1070" y="144"/>
                </a:cubicBezTo>
                <a:cubicBezTo>
                  <a:pt x="927" y="90"/>
                  <a:pt x="780" y="34"/>
                  <a:pt x="647" y="8"/>
                </a:cubicBezTo>
                <a:cubicBezTo>
                  <a:pt x="617" y="2"/>
                  <a:pt x="586" y="0"/>
                  <a:pt x="555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7"/>
          <p:cNvSpPr/>
          <p:nvPr/>
        </p:nvSpPr>
        <p:spPr>
          <a:xfrm>
            <a:off x="0" y="2630520"/>
            <a:ext cx="9144000" cy="14349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1833" h="289">
                <a:moveTo>
                  <a:pt x="529" y="0"/>
                </a:moveTo>
                <a:cubicBezTo>
                  <a:pt x="390" y="0"/>
                  <a:pt x="269" y="42"/>
                  <a:pt x="186" y="83"/>
                </a:cubicBezTo>
                <a:cubicBezTo>
                  <a:pt x="72" y="138"/>
                  <a:pt x="1" y="201"/>
                  <a:pt x="0" y="202"/>
                </a:cubicBezTo>
                <a:cubicBezTo>
                  <a:pt x="6" y="208"/>
                  <a:pt x="6" y="208"/>
                  <a:pt x="6" y="208"/>
                </a:cubicBezTo>
                <a:cubicBezTo>
                  <a:pt x="6" y="207"/>
                  <a:pt x="77" y="145"/>
                  <a:pt x="189" y="90"/>
                </a:cubicBezTo>
                <a:cubicBezTo>
                  <a:pt x="272" y="50"/>
                  <a:pt x="392" y="8"/>
                  <a:pt x="529" y="8"/>
                </a:cubicBezTo>
                <a:cubicBezTo>
                  <a:pt x="565" y="8"/>
                  <a:pt x="601" y="11"/>
                  <a:pt x="638" y="17"/>
                </a:cubicBezTo>
                <a:cubicBezTo>
                  <a:pt x="750" y="36"/>
                  <a:pt x="874" y="86"/>
                  <a:pt x="1006" y="139"/>
                </a:cubicBezTo>
                <a:cubicBezTo>
                  <a:pt x="1149" y="197"/>
                  <a:pt x="1297" y="256"/>
                  <a:pt x="1439" y="279"/>
                </a:cubicBezTo>
                <a:cubicBezTo>
                  <a:pt x="1478" y="285"/>
                  <a:pt x="1516" y="289"/>
                  <a:pt x="1551" y="289"/>
                </a:cubicBezTo>
                <a:cubicBezTo>
                  <a:pt x="1662" y="289"/>
                  <a:pt x="1755" y="258"/>
                  <a:pt x="1833" y="196"/>
                </a:cubicBezTo>
                <a:cubicBezTo>
                  <a:pt x="1829" y="190"/>
                  <a:pt x="1829" y="190"/>
                  <a:pt x="1829" y="190"/>
                </a:cubicBezTo>
                <a:cubicBezTo>
                  <a:pt x="1751" y="251"/>
                  <a:pt x="1660" y="281"/>
                  <a:pt x="1551" y="281"/>
                </a:cubicBezTo>
                <a:cubicBezTo>
                  <a:pt x="1516" y="281"/>
                  <a:pt x="1479" y="277"/>
                  <a:pt x="1440" y="271"/>
                </a:cubicBezTo>
                <a:cubicBezTo>
                  <a:pt x="1299" y="249"/>
                  <a:pt x="1151" y="189"/>
                  <a:pt x="1009" y="131"/>
                </a:cubicBezTo>
                <a:cubicBezTo>
                  <a:pt x="876" y="78"/>
                  <a:pt x="752" y="28"/>
                  <a:pt x="640" y="9"/>
                </a:cubicBezTo>
                <a:cubicBezTo>
                  <a:pt x="602" y="3"/>
                  <a:pt x="565" y="0"/>
                  <a:pt x="529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8"/>
          <p:cNvSpPr/>
          <p:nvPr/>
        </p:nvSpPr>
        <p:spPr>
          <a:xfrm>
            <a:off x="0" y="2421000"/>
            <a:ext cx="9128160" cy="1449360"/>
          </a:xfrm>
          <a:custGeom>
            <a:avLst/>
            <a:gdLst>
              <a:gd name="textAreaLeft" fmla="*/ 0 w 9128160"/>
              <a:gd name="textAreaRight" fmla="*/ 9128520 w 912816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830" h="292">
                <a:moveTo>
                  <a:pt x="514" y="0"/>
                </a:moveTo>
                <a:cubicBezTo>
                  <a:pt x="393" y="0"/>
                  <a:pt x="290" y="30"/>
                  <a:pt x="213" y="62"/>
                </a:cubicBezTo>
                <a:cubicBezTo>
                  <a:pt x="82" y="116"/>
                  <a:pt x="1" y="187"/>
                  <a:pt x="0" y="188"/>
                </a:cubicBezTo>
                <a:cubicBezTo>
                  <a:pt x="6" y="194"/>
                  <a:pt x="6" y="194"/>
                  <a:pt x="6" y="194"/>
                </a:cubicBezTo>
                <a:cubicBezTo>
                  <a:pt x="6" y="193"/>
                  <a:pt x="87" y="123"/>
                  <a:pt x="216" y="69"/>
                </a:cubicBezTo>
                <a:cubicBezTo>
                  <a:pt x="292" y="38"/>
                  <a:pt x="395" y="8"/>
                  <a:pt x="514" y="8"/>
                </a:cubicBezTo>
                <a:cubicBezTo>
                  <a:pt x="583" y="8"/>
                  <a:pt x="656" y="18"/>
                  <a:pt x="734" y="43"/>
                </a:cubicBezTo>
                <a:cubicBezTo>
                  <a:pt x="831" y="74"/>
                  <a:pt x="925" y="113"/>
                  <a:pt x="1016" y="150"/>
                </a:cubicBezTo>
                <a:cubicBezTo>
                  <a:pt x="1165" y="211"/>
                  <a:pt x="1305" y="269"/>
                  <a:pt x="1440" y="287"/>
                </a:cubicBezTo>
                <a:cubicBezTo>
                  <a:pt x="1468" y="291"/>
                  <a:pt x="1496" y="292"/>
                  <a:pt x="1522" y="292"/>
                </a:cubicBezTo>
                <a:cubicBezTo>
                  <a:pt x="1638" y="292"/>
                  <a:pt x="1737" y="257"/>
                  <a:pt x="1830" y="182"/>
                </a:cubicBezTo>
                <a:cubicBezTo>
                  <a:pt x="1824" y="176"/>
                  <a:pt x="1824" y="176"/>
                  <a:pt x="1824" y="176"/>
                </a:cubicBezTo>
                <a:cubicBezTo>
                  <a:pt x="1733" y="249"/>
                  <a:pt x="1636" y="284"/>
                  <a:pt x="1522" y="284"/>
                </a:cubicBezTo>
                <a:cubicBezTo>
                  <a:pt x="1496" y="284"/>
                  <a:pt x="1469" y="283"/>
                  <a:pt x="1441" y="279"/>
                </a:cubicBezTo>
                <a:cubicBezTo>
                  <a:pt x="1307" y="261"/>
                  <a:pt x="1167" y="204"/>
                  <a:pt x="1019" y="143"/>
                </a:cubicBezTo>
                <a:cubicBezTo>
                  <a:pt x="928" y="105"/>
                  <a:pt x="834" y="66"/>
                  <a:pt x="736" y="35"/>
                </a:cubicBezTo>
                <a:cubicBezTo>
                  <a:pt x="658" y="10"/>
                  <a:pt x="583" y="0"/>
                  <a:pt x="514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8"/>
          <p:cNvSpPr/>
          <p:nvPr/>
        </p:nvSpPr>
        <p:spPr>
          <a:xfrm>
            <a:off x="11160" y="2209680"/>
            <a:ext cx="9132840" cy="1449360"/>
          </a:xfrm>
          <a:custGeom>
            <a:avLst/>
            <a:gdLst>
              <a:gd name="textAreaLeft" fmla="*/ 0 w 9132840"/>
              <a:gd name="textAreaRight" fmla="*/ 9133200 w 913284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830" h="292">
                <a:moveTo>
                  <a:pt x="514" y="0"/>
                </a:moveTo>
                <a:cubicBezTo>
                  <a:pt x="393" y="0"/>
                  <a:pt x="290" y="30"/>
                  <a:pt x="213" y="62"/>
                </a:cubicBezTo>
                <a:cubicBezTo>
                  <a:pt x="82" y="116"/>
                  <a:pt x="1" y="187"/>
                  <a:pt x="0" y="188"/>
                </a:cubicBezTo>
                <a:cubicBezTo>
                  <a:pt x="6" y="194"/>
                  <a:pt x="6" y="194"/>
                  <a:pt x="6" y="194"/>
                </a:cubicBezTo>
                <a:cubicBezTo>
                  <a:pt x="6" y="193"/>
                  <a:pt x="87" y="123"/>
                  <a:pt x="216" y="69"/>
                </a:cubicBezTo>
                <a:cubicBezTo>
                  <a:pt x="292" y="38"/>
                  <a:pt x="395" y="8"/>
                  <a:pt x="514" y="8"/>
                </a:cubicBezTo>
                <a:cubicBezTo>
                  <a:pt x="583" y="8"/>
                  <a:pt x="656" y="18"/>
                  <a:pt x="734" y="43"/>
                </a:cubicBezTo>
                <a:cubicBezTo>
                  <a:pt x="831" y="74"/>
                  <a:pt x="925" y="113"/>
                  <a:pt x="1016" y="150"/>
                </a:cubicBezTo>
                <a:cubicBezTo>
                  <a:pt x="1165" y="211"/>
                  <a:pt x="1305" y="269"/>
                  <a:pt x="1440" y="287"/>
                </a:cubicBezTo>
                <a:cubicBezTo>
                  <a:pt x="1468" y="291"/>
                  <a:pt x="1496" y="292"/>
                  <a:pt x="1522" y="292"/>
                </a:cubicBezTo>
                <a:cubicBezTo>
                  <a:pt x="1638" y="292"/>
                  <a:pt x="1737" y="257"/>
                  <a:pt x="1830" y="182"/>
                </a:cubicBezTo>
                <a:cubicBezTo>
                  <a:pt x="1824" y="176"/>
                  <a:pt x="1824" y="176"/>
                  <a:pt x="1824" y="176"/>
                </a:cubicBezTo>
                <a:cubicBezTo>
                  <a:pt x="1733" y="249"/>
                  <a:pt x="1636" y="284"/>
                  <a:pt x="1522" y="284"/>
                </a:cubicBezTo>
                <a:cubicBezTo>
                  <a:pt x="1496" y="284"/>
                  <a:pt x="1469" y="283"/>
                  <a:pt x="1441" y="279"/>
                </a:cubicBezTo>
                <a:cubicBezTo>
                  <a:pt x="1307" y="261"/>
                  <a:pt x="1167" y="204"/>
                  <a:pt x="1019" y="143"/>
                </a:cubicBezTo>
                <a:cubicBezTo>
                  <a:pt x="928" y="105"/>
                  <a:pt x="834" y="66"/>
                  <a:pt x="736" y="35"/>
                </a:cubicBezTo>
                <a:cubicBezTo>
                  <a:pt x="658" y="10"/>
                  <a:pt x="583" y="0"/>
                  <a:pt x="514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8"/>
          <p:cNvSpPr/>
          <p:nvPr/>
        </p:nvSpPr>
        <p:spPr>
          <a:xfrm>
            <a:off x="11160" y="2000160"/>
            <a:ext cx="9132840" cy="1449360"/>
          </a:xfrm>
          <a:custGeom>
            <a:avLst/>
            <a:gdLst>
              <a:gd name="textAreaLeft" fmla="*/ 0 w 9132840"/>
              <a:gd name="textAreaRight" fmla="*/ 9133200 w 913284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830" h="292">
                <a:moveTo>
                  <a:pt x="514" y="0"/>
                </a:moveTo>
                <a:cubicBezTo>
                  <a:pt x="393" y="0"/>
                  <a:pt x="290" y="30"/>
                  <a:pt x="213" y="62"/>
                </a:cubicBezTo>
                <a:cubicBezTo>
                  <a:pt x="82" y="116"/>
                  <a:pt x="1" y="187"/>
                  <a:pt x="0" y="188"/>
                </a:cubicBezTo>
                <a:cubicBezTo>
                  <a:pt x="6" y="194"/>
                  <a:pt x="6" y="194"/>
                  <a:pt x="6" y="194"/>
                </a:cubicBezTo>
                <a:cubicBezTo>
                  <a:pt x="6" y="193"/>
                  <a:pt x="87" y="123"/>
                  <a:pt x="216" y="69"/>
                </a:cubicBezTo>
                <a:cubicBezTo>
                  <a:pt x="292" y="38"/>
                  <a:pt x="395" y="8"/>
                  <a:pt x="514" y="8"/>
                </a:cubicBezTo>
                <a:cubicBezTo>
                  <a:pt x="583" y="8"/>
                  <a:pt x="656" y="18"/>
                  <a:pt x="734" y="43"/>
                </a:cubicBezTo>
                <a:cubicBezTo>
                  <a:pt x="831" y="74"/>
                  <a:pt x="925" y="113"/>
                  <a:pt x="1016" y="150"/>
                </a:cubicBezTo>
                <a:cubicBezTo>
                  <a:pt x="1165" y="211"/>
                  <a:pt x="1305" y="269"/>
                  <a:pt x="1440" y="287"/>
                </a:cubicBezTo>
                <a:cubicBezTo>
                  <a:pt x="1468" y="291"/>
                  <a:pt x="1496" y="292"/>
                  <a:pt x="1522" y="292"/>
                </a:cubicBezTo>
                <a:cubicBezTo>
                  <a:pt x="1638" y="292"/>
                  <a:pt x="1737" y="257"/>
                  <a:pt x="1830" y="182"/>
                </a:cubicBezTo>
                <a:cubicBezTo>
                  <a:pt x="1824" y="176"/>
                  <a:pt x="1824" y="176"/>
                  <a:pt x="1824" y="176"/>
                </a:cubicBezTo>
                <a:cubicBezTo>
                  <a:pt x="1733" y="249"/>
                  <a:pt x="1636" y="284"/>
                  <a:pt x="1522" y="284"/>
                </a:cubicBezTo>
                <a:cubicBezTo>
                  <a:pt x="1496" y="284"/>
                  <a:pt x="1469" y="283"/>
                  <a:pt x="1441" y="279"/>
                </a:cubicBezTo>
                <a:cubicBezTo>
                  <a:pt x="1307" y="261"/>
                  <a:pt x="1167" y="204"/>
                  <a:pt x="1019" y="143"/>
                </a:cubicBezTo>
                <a:cubicBezTo>
                  <a:pt x="928" y="105"/>
                  <a:pt x="834" y="66"/>
                  <a:pt x="736" y="35"/>
                </a:cubicBezTo>
                <a:cubicBezTo>
                  <a:pt x="658" y="10"/>
                  <a:pt x="583" y="0"/>
                  <a:pt x="514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图片 14" descr="01.pn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6572160" y="2500200"/>
            <a:ext cx="1176480" cy="1292400"/>
          </a:xfrm>
          <a:prstGeom prst="rect">
            <a:avLst/>
          </a:prstGeom>
          <a:ln w="0">
            <a:noFill/>
          </a:ln>
        </p:spPr>
      </p:pic>
      <p:pic>
        <p:nvPicPr>
          <p:cNvPr id="391" name="图片 15" descr="02.png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7961400" y="2714760"/>
            <a:ext cx="1182600" cy="129204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16" descr="03.png"/>
          <p:cNvPicPr/>
          <p:nvPr/>
        </p:nvPicPr>
        <p:blipFill>
          <a:blip r:embed="rId6">
            <a:lum bright="10000"/>
          </a:blip>
          <a:stretch/>
        </p:blipFill>
        <p:spPr>
          <a:xfrm>
            <a:off x="4929120" y="3143160"/>
            <a:ext cx="1163880" cy="920880"/>
          </a:xfrm>
          <a:prstGeom prst="rect">
            <a:avLst/>
          </a:prstGeom>
          <a:ln w="0">
            <a:noFill/>
          </a:ln>
        </p:spPr>
      </p:pic>
      <p:pic>
        <p:nvPicPr>
          <p:cNvPr id="393" name="图片 17" descr="04.png"/>
          <p:cNvPicPr/>
          <p:nvPr/>
        </p:nvPicPr>
        <p:blipFill>
          <a:blip r:embed="rId7">
            <a:lum bright="10000"/>
          </a:blip>
          <a:stretch/>
        </p:blipFill>
        <p:spPr>
          <a:xfrm>
            <a:off x="4071960" y="1785960"/>
            <a:ext cx="755640" cy="931680"/>
          </a:xfrm>
          <a:prstGeom prst="rect">
            <a:avLst/>
          </a:prstGeom>
          <a:ln w="0">
            <a:noFill/>
          </a:ln>
        </p:spPr>
      </p:pic>
      <p:pic>
        <p:nvPicPr>
          <p:cNvPr id="394" name="图片 18" descr="05.png"/>
          <p:cNvPicPr/>
          <p:nvPr/>
        </p:nvPicPr>
        <p:blipFill>
          <a:blip r:embed="rId8">
            <a:lum bright="10000"/>
          </a:blip>
          <a:stretch/>
        </p:blipFill>
        <p:spPr>
          <a:xfrm>
            <a:off x="3143160" y="1785960"/>
            <a:ext cx="506520" cy="86508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19" descr="闪.png"/>
          <p:cNvPicPr/>
          <p:nvPr/>
        </p:nvPicPr>
        <p:blipFill>
          <a:blip r:embed="rId9"/>
          <a:stretch/>
        </p:blipFill>
        <p:spPr>
          <a:xfrm>
            <a:off x="1785960" y="2000160"/>
            <a:ext cx="3554280" cy="213516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20" descr="闪2.png"/>
          <p:cNvPicPr/>
          <p:nvPr/>
        </p:nvPicPr>
        <p:blipFill>
          <a:blip r:embed="rId10"/>
          <a:stretch/>
        </p:blipFill>
        <p:spPr>
          <a:xfrm>
            <a:off x="-276120" y="571680"/>
            <a:ext cx="3027240" cy="168732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21" descr="闪3.png"/>
          <p:cNvPicPr/>
          <p:nvPr/>
        </p:nvPicPr>
        <p:blipFill>
          <a:blip r:embed="rId11"/>
          <a:stretch/>
        </p:blipFill>
        <p:spPr>
          <a:xfrm>
            <a:off x="-347760" y="3571920"/>
            <a:ext cx="6902640" cy="973080"/>
          </a:xfrm>
          <a:prstGeom prst="rect">
            <a:avLst/>
          </a:prstGeom>
          <a:ln w="0">
            <a:noFill/>
          </a:ln>
        </p:spPr>
      </p:pic>
      <p:pic>
        <p:nvPicPr>
          <p:cNvPr id="398" name="Text Box 12" descr=""/>
          <p:cNvPicPr/>
          <p:nvPr/>
        </p:nvPicPr>
        <p:blipFill>
          <a:blip r:embed="rId12"/>
          <a:stretch/>
        </p:blipFill>
        <p:spPr>
          <a:xfrm>
            <a:off x="4133880" y="2816280"/>
            <a:ext cx="3016080" cy="145080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7" descr="01.png"/>
          <p:cNvPicPr/>
          <p:nvPr/>
        </p:nvPicPr>
        <p:blipFill>
          <a:blip r:embed="rId13">
            <a:grayscl/>
          </a:blip>
          <a:stretch/>
        </p:blipFill>
        <p:spPr>
          <a:xfrm>
            <a:off x="857160" y="1106640"/>
            <a:ext cx="226872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37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37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37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60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8" presetSubtype="6">
                                  <p:stCondLst>
                                    <p:cond delay="3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61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8" presetSubtype="6">
                                  <p:stCondLst>
                                    <p:cond delay="7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61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61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8" presetSubtype="6">
                                  <p:stCondLst>
                                    <p:cond delay="13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61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30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0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898560" y="2333520"/>
            <a:ext cx="8143920" cy="2955960"/>
            <a:chOff x="898560" y="2333520"/>
            <a:chExt cx="8143920" cy="2955960"/>
          </a:xfrm>
        </p:grpSpPr>
        <p:sp>
          <p:nvSpPr>
            <p:cNvPr id="162" name="AutoShape 3"/>
            <p:cNvSpPr/>
            <p:nvPr/>
          </p:nvSpPr>
          <p:spPr>
            <a:xfrm>
              <a:off x="898560" y="2333520"/>
              <a:ext cx="8143920" cy="295596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3"/>
            <p:cNvSpPr/>
            <p:nvPr/>
          </p:nvSpPr>
          <p:spPr>
            <a:xfrm>
              <a:off x="901440" y="2431800"/>
              <a:ext cx="8137800" cy="274824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11"/>
          <p:cNvSpPr/>
          <p:nvPr/>
        </p:nvSpPr>
        <p:spPr>
          <a:xfrm>
            <a:off x="1036800" y="2932200"/>
            <a:ext cx="793404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设计理念：杜绝平庸、专做精品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；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心；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领域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共模板设计；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模板设计；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稿件制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7992360" y="33480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　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3"/>
          <p:cNvSpPr/>
          <p:nvPr/>
        </p:nvSpPr>
        <p:spPr>
          <a:xfrm>
            <a:off x="7992360" y="33480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1841400" y="2097000"/>
            <a:ext cx="6229440" cy="719280"/>
            <a:chOff x="1841400" y="2097000"/>
            <a:chExt cx="6229440" cy="719280"/>
          </a:xfrm>
        </p:grpSpPr>
        <p:sp>
          <p:nvSpPr>
            <p:cNvPr id="168" name="AutoShape 3"/>
            <p:cNvSpPr/>
            <p:nvPr/>
          </p:nvSpPr>
          <p:spPr>
            <a:xfrm>
              <a:off x="1842840" y="209700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3"/>
            <p:cNvSpPr/>
            <p:nvPr/>
          </p:nvSpPr>
          <p:spPr>
            <a:xfrm>
              <a:off x="1841400" y="218592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004376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13"/>
          <p:cNvSpPr/>
          <p:nvPr/>
        </p:nvSpPr>
        <p:spPr>
          <a:xfrm>
            <a:off x="3594240" y="227160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1841400" y="3032280"/>
            <a:ext cx="6229440" cy="718920"/>
            <a:chOff x="1841400" y="3032280"/>
            <a:chExt cx="6229440" cy="718920"/>
          </a:xfrm>
        </p:grpSpPr>
        <p:sp>
          <p:nvSpPr>
            <p:cNvPr id="172" name="AutoShape 3"/>
            <p:cNvSpPr/>
            <p:nvPr/>
          </p:nvSpPr>
          <p:spPr>
            <a:xfrm>
              <a:off x="1841400" y="3032280"/>
              <a:ext cx="62294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"/>
            <p:cNvSpPr/>
            <p:nvPr/>
          </p:nvSpPr>
          <p:spPr>
            <a:xfrm>
              <a:off x="1841400" y="3121560"/>
              <a:ext cx="6229440" cy="54000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6"/>
          <p:cNvSpPr/>
          <p:nvPr/>
        </p:nvSpPr>
        <p:spPr>
          <a:xfrm>
            <a:off x="3594240" y="320688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1"/>
          <p:cNvGrpSpPr/>
          <p:nvPr/>
        </p:nvGrpSpPr>
        <p:grpSpPr>
          <a:xfrm>
            <a:off x="1843200" y="4013280"/>
            <a:ext cx="6226200" cy="718920"/>
            <a:chOff x="1843200" y="4013280"/>
            <a:chExt cx="6226200" cy="718920"/>
          </a:xfrm>
        </p:grpSpPr>
        <p:sp>
          <p:nvSpPr>
            <p:cNvPr id="176" name="AutoShape 3"/>
            <p:cNvSpPr/>
            <p:nvPr/>
          </p:nvSpPr>
          <p:spPr>
            <a:xfrm>
              <a:off x="1843200" y="4013280"/>
              <a:ext cx="62262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3"/>
            <p:cNvSpPr/>
            <p:nvPr/>
          </p:nvSpPr>
          <p:spPr>
            <a:xfrm>
              <a:off x="1843200" y="4101840"/>
              <a:ext cx="622620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004376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9"/>
          <p:cNvSpPr/>
          <p:nvPr/>
        </p:nvSpPr>
        <p:spPr>
          <a:xfrm>
            <a:off x="3594240" y="418788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841400" y="5018040"/>
            <a:ext cx="6229440" cy="719280"/>
            <a:chOff x="1841400" y="5018040"/>
            <a:chExt cx="6229440" cy="719280"/>
          </a:xfrm>
        </p:grpSpPr>
        <p:sp>
          <p:nvSpPr>
            <p:cNvPr id="180" name="AutoShape 3"/>
            <p:cNvSpPr/>
            <p:nvPr/>
          </p:nvSpPr>
          <p:spPr>
            <a:xfrm>
              <a:off x="1841400" y="501804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3"/>
            <p:cNvSpPr/>
            <p:nvPr/>
          </p:nvSpPr>
          <p:spPr>
            <a:xfrm>
              <a:off x="1841400" y="510732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22"/>
          <p:cNvSpPr/>
          <p:nvPr/>
        </p:nvSpPr>
        <p:spPr>
          <a:xfrm>
            <a:off x="3594240" y="519264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3"/>
          <p:cNvSpPr/>
          <p:nvPr/>
        </p:nvSpPr>
        <p:spPr>
          <a:xfrm>
            <a:off x="8043480" y="33480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1841400" y="3249720"/>
            <a:ext cx="6229440" cy="718920"/>
            <a:chOff x="1841400" y="3249720"/>
            <a:chExt cx="6229440" cy="718920"/>
          </a:xfrm>
        </p:grpSpPr>
        <p:sp>
          <p:nvSpPr>
            <p:cNvPr id="185" name="AutoShape 3"/>
            <p:cNvSpPr/>
            <p:nvPr/>
          </p:nvSpPr>
          <p:spPr>
            <a:xfrm>
              <a:off x="1842840" y="3249720"/>
              <a:ext cx="622656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3"/>
            <p:cNvSpPr/>
            <p:nvPr/>
          </p:nvSpPr>
          <p:spPr>
            <a:xfrm>
              <a:off x="1841400" y="33382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004376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3"/>
          <p:cNvSpPr/>
          <p:nvPr/>
        </p:nvSpPr>
        <p:spPr>
          <a:xfrm>
            <a:off x="3594240" y="342432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3"/>
          <p:cNvSpPr/>
          <p:nvPr/>
        </p:nvSpPr>
        <p:spPr>
          <a:xfrm>
            <a:off x="7500960" y="3538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07"/>
          <p:cNvSpPr/>
          <p:nvPr/>
        </p:nvSpPr>
        <p:spPr>
          <a:xfrm>
            <a:off x="1101600" y="2260440"/>
            <a:ext cx="7702560" cy="379260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96"/>
          <p:cNvSpPr/>
          <p:nvPr/>
        </p:nvSpPr>
        <p:spPr>
          <a:xfrm>
            <a:off x="1397160" y="3645000"/>
            <a:ext cx="2119320" cy="219528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74">
                <a:moveTo>
                  <a:pt x="805" y="0"/>
                </a:moveTo>
                <a:arcTo wR="805" hR="805" stAng="16200000" swAng="-5400000"/>
                <a:lnTo>
                  <a:pt x="0" y="21569"/>
                </a:lnTo>
                <a:arcTo wR="805" hR="805" stAng="10800000" swAng="-5400000"/>
                <a:lnTo>
                  <a:pt x="20795" y="22374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28"/>
          <p:cNvSpPr/>
          <p:nvPr/>
        </p:nvSpPr>
        <p:spPr>
          <a:xfrm>
            <a:off x="1671480" y="42386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9"/>
          <p:cNvSpPr/>
          <p:nvPr/>
        </p:nvSpPr>
        <p:spPr>
          <a:xfrm>
            <a:off x="1671480" y="46990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2595600" y="1898640"/>
            <a:ext cx="4751280" cy="719280"/>
            <a:chOff x="2595600" y="1898640"/>
            <a:chExt cx="4751280" cy="719280"/>
          </a:xfrm>
        </p:grpSpPr>
        <p:grpSp>
          <p:nvGrpSpPr>
            <p:cNvPr id="194" name="Group 8"/>
            <p:cNvGrpSpPr/>
            <p:nvPr/>
          </p:nvGrpSpPr>
          <p:grpSpPr>
            <a:xfrm>
              <a:off x="2595600" y="1898640"/>
              <a:ext cx="4751280" cy="719280"/>
              <a:chOff x="2595600" y="1898640"/>
              <a:chExt cx="4751280" cy="719280"/>
            </a:xfrm>
          </p:grpSpPr>
          <p:sp>
            <p:nvSpPr>
              <p:cNvPr id="195" name="AutoShape 3"/>
              <p:cNvSpPr/>
              <p:nvPr/>
            </p:nvSpPr>
            <p:spPr>
              <a:xfrm>
                <a:off x="2595600" y="1898640"/>
                <a:ext cx="475128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3"/>
              <p:cNvSpPr/>
              <p:nvPr/>
            </p:nvSpPr>
            <p:spPr>
              <a:xfrm>
                <a:off x="2595600" y="1987560"/>
                <a:ext cx="475128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4376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Rectangle 13"/>
            <p:cNvSpPr/>
            <p:nvPr/>
          </p:nvSpPr>
          <p:spPr>
            <a:xfrm>
              <a:off x="4428720" y="20581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2"/>
          <p:cNvGrpSpPr/>
          <p:nvPr/>
        </p:nvGrpSpPr>
        <p:grpSpPr>
          <a:xfrm>
            <a:off x="1305000" y="2878200"/>
            <a:ext cx="2303280" cy="776160"/>
            <a:chOff x="1305000" y="2878200"/>
            <a:chExt cx="2303280" cy="776160"/>
          </a:xfrm>
        </p:grpSpPr>
        <p:grpSp>
          <p:nvGrpSpPr>
            <p:cNvPr id="199" name="Group 13"/>
            <p:cNvGrpSpPr/>
            <p:nvPr/>
          </p:nvGrpSpPr>
          <p:grpSpPr>
            <a:xfrm>
              <a:off x="1305000" y="2878200"/>
              <a:ext cx="2303280" cy="720720"/>
              <a:chOff x="1305000" y="2878200"/>
              <a:chExt cx="2303280" cy="720720"/>
            </a:xfrm>
          </p:grpSpPr>
          <p:grpSp>
            <p:nvGrpSpPr>
              <p:cNvPr id="200" name="Group 14"/>
              <p:cNvGrpSpPr/>
              <p:nvPr/>
            </p:nvGrpSpPr>
            <p:grpSpPr>
              <a:xfrm>
                <a:off x="1305000" y="2878200"/>
                <a:ext cx="2303280" cy="720720"/>
                <a:chOff x="1305000" y="2878200"/>
                <a:chExt cx="2303280" cy="720720"/>
              </a:xfrm>
            </p:grpSpPr>
            <p:sp>
              <p:nvSpPr>
                <p:cNvPr id="201" name="AutoShape 3"/>
                <p:cNvSpPr/>
                <p:nvPr/>
              </p:nvSpPr>
              <p:spPr>
                <a:xfrm>
                  <a:off x="1305000" y="2878200"/>
                  <a:ext cx="230328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3"/>
                <p:cNvSpPr/>
                <p:nvPr/>
              </p:nvSpPr>
              <p:spPr>
                <a:xfrm>
                  <a:off x="1305000" y="2968200"/>
                  <a:ext cx="23032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229"/>
              <p:cNvSpPr/>
              <p:nvPr/>
            </p:nvSpPr>
            <p:spPr>
              <a:xfrm>
                <a:off x="2044800" y="309960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AutoShape 222"/>
            <p:cNvSpPr/>
            <p:nvPr/>
          </p:nvSpPr>
          <p:spPr>
            <a:xfrm>
              <a:off x="1376280" y="3579840"/>
              <a:ext cx="2160720" cy="74520"/>
            </a:xfrm>
            <a:custGeom>
              <a:avLst/>
              <a:gdLst>
                <a:gd name="textAreaLeft" fmla="*/ 220320 w 2160720"/>
                <a:gd name="textAreaRight" fmla="*/ 1940400 w 216072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AutoShape 196"/>
          <p:cNvSpPr/>
          <p:nvPr/>
        </p:nvSpPr>
        <p:spPr>
          <a:xfrm>
            <a:off x="3881520" y="3645000"/>
            <a:ext cx="2117520" cy="2195280"/>
          </a:xfrm>
          <a:custGeom>
            <a:avLst/>
            <a:gdLst>
              <a:gd name="textAreaLeft" fmla="*/ 23040 w 2117520"/>
              <a:gd name="textAreaRight" fmla="*/ 2094480 w 211752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93">
                <a:moveTo>
                  <a:pt x="805" y="0"/>
                </a:moveTo>
                <a:arcTo wR="805" hR="805" stAng="16200000" swAng="-5400000"/>
                <a:lnTo>
                  <a:pt x="0" y="21588"/>
                </a:lnTo>
                <a:arcTo wR="805" hR="805" stAng="10800000" swAng="-5400000"/>
                <a:lnTo>
                  <a:pt x="20795" y="2239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8"/>
          <p:cNvSpPr/>
          <p:nvPr/>
        </p:nvSpPr>
        <p:spPr>
          <a:xfrm>
            <a:off x="4154400" y="42386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9"/>
          <p:cNvSpPr/>
          <p:nvPr/>
        </p:nvSpPr>
        <p:spPr>
          <a:xfrm>
            <a:off x="4154400" y="46990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2"/>
          <p:cNvGrpSpPr/>
          <p:nvPr/>
        </p:nvGrpSpPr>
        <p:grpSpPr>
          <a:xfrm>
            <a:off x="3787920" y="2878200"/>
            <a:ext cx="2305080" cy="776160"/>
            <a:chOff x="3787920" y="2878200"/>
            <a:chExt cx="2305080" cy="776160"/>
          </a:xfrm>
        </p:grpSpPr>
        <p:grpSp>
          <p:nvGrpSpPr>
            <p:cNvPr id="209" name="Group 23"/>
            <p:cNvGrpSpPr/>
            <p:nvPr/>
          </p:nvGrpSpPr>
          <p:grpSpPr>
            <a:xfrm>
              <a:off x="3787920" y="2878200"/>
              <a:ext cx="2305080" cy="720720"/>
              <a:chOff x="3787920" y="2878200"/>
              <a:chExt cx="2305080" cy="720720"/>
            </a:xfrm>
          </p:grpSpPr>
          <p:grpSp>
            <p:nvGrpSpPr>
              <p:cNvPr id="210" name="Group 24"/>
              <p:cNvGrpSpPr/>
              <p:nvPr/>
            </p:nvGrpSpPr>
            <p:grpSpPr>
              <a:xfrm>
                <a:off x="3787920" y="2878200"/>
                <a:ext cx="2305080" cy="720720"/>
                <a:chOff x="3787920" y="2878200"/>
                <a:chExt cx="2305080" cy="720720"/>
              </a:xfrm>
            </p:grpSpPr>
            <p:sp>
              <p:nvSpPr>
                <p:cNvPr id="211" name="AutoShape 3"/>
                <p:cNvSpPr/>
                <p:nvPr/>
              </p:nvSpPr>
              <p:spPr>
                <a:xfrm>
                  <a:off x="3787920" y="2878200"/>
                  <a:ext cx="230508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AutoShape 3"/>
                <p:cNvSpPr/>
                <p:nvPr/>
              </p:nvSpPr>
              <p:spPr>
                <a:xfrm>
                  <a:off x="3787920" y="2968200"/>
                  <a:ext cx="23050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Text Box 229"/>
              <p:cNvSpPr/>
              <p:nvPr/>
            </p:nvSpPr>
            <p:spPr>
              <a:xfrm>
                <a:off x="4528440" y="309960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AutoShape 222"/>
            <p:cNvSpPr/>
            <p:nvPr/>
          </p:nvSpPr>
          <p:spPr>
            <a:xfrm>
              <a:off x="3859200" y="3579840"/>
              <a:ext cx="2162520" cy="74520"/>
            </a:xfrm>
            <a:custGeom>
              <a:avLst/>
              <a:gdLst>
                <a:gd name="textAreaLeft" fmla="*/ 220680 w 2162520"/>
                <a:gd name="textAreaRight" fmla="*/ 1941840 w 216252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196"/>
          <p:cNvSpPr/>
          <p:nvPr/>
        </p:nvSpPr>
        <p:spPr>
          <a:xfrm>
            <a:off x="6389640" y="3645000"/>
            <a:ext cx="2117880" cy="219528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89">
                <a:moveTo>
                  <a:pt x="805" y="0"/>
                </a:moveTo>
                <a:arcTo wR="805" hR="805" stAng="16200000" swAng="-5400000"/>
                <a:lnTo>
                  <a:pt x="0" y="21584"/>
                </a:lnTo>
                <a:arcTo wR="805" hR="805" stAng="10800000" swAng="-5400000"/>
                <a:lnTo>
                  <a:pt x="20795" y="22389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8"/>
          <p:cNvSpPr/>
          <p:nvPr/>
        </p:nvSpPr>
        <p:spPr>
          <a:xfrm>
            <a:off x="6662880" y="42386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29"/>
          <p:cNvSpPr/>
          <p:nvPr/>
        </p:nvSpPr>
        <p:spPr>
          <a:xfrm>
            <a:off x="6662880" y="46990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2"/>
          <p:cNvGrpSpPr/>
          <p:nvPr/>
        </p:nvGrpSpPr>
        <p:grpSpPr>
          <a:xfrm>
            <a:off x="6297480" y="2878200"/>
            <a:ext cx="2303640" cy="776160"/>
            <a:chOff x="6297480" y="2878200"/>
            <a:chExt cx="2303640" cy="776160"/>
          </a:xfrm>
        </p:grpSpPr>
        <p:grpSp>
          <p:nvGrpSpPr>
            <p:cNvPr id="219" name="Group 33"/>
            <p:cNvGrpSpPr/>
            <p:nvPr/>
          </p:nvGrpSpPr>
          <p:grpSpPr>
            <a:xfrm>
              <a:off x="6297480" y="2878200"/>
              <a:ext cx="2303640" cy="720720"/>
              <a:chOff x="6297480" y="2878200"/>
              <a:chExt cx="2303640" cy="720720"/>
            </a:xfrm>
          </p:grpSpPr>
          <p:grpSp>
            <p:nvGrpSpPr>
              <p:cNvPr id="220" name="Group 34"/>
              <p:cNvGrpSpPr/>
              <p:nvPr/>
            </p:nvGrpSpPr>
            <p:grpSpPr>
              <a:xfrm>
                <a:off x="6297480" y="2878200"/>
                <a:ext cx="2303640" cy="720720"/>
                <a:chOff x="6297480" y="2878200"/>
                <a:chExt cx="2303640" cy="720720"/>
              </a:xfrm>
            </p:grpSpPr>
            <p:sp>
              <p:nvSpPr>
                <p:cNvPr id="221" name="AutoShape 3"/>
                <p:cNvSpPr/>
                <p:nvPr/>
              </p:nvSpPr>
              <p:spPr>
                <a:xfrm>
                  <a:off x="6297480" y="2878200"/>
                  <a:ext cx="230364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3"/>
                <p:cNvSpPr/>
                <p:nvPr/>
              </p:nvSpPr>
              <p:spPr>
                <a:xfrm>
                  <a:off x="6297480" y="2968200"/>
                  <a:ext cx="230364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9"/>
              <p:cNvSpPr/>
              <p:nvPr/>
            </p:nvSpPr>
            <p:spPr>
              <a:xfrm>
                <a:off x="7037280" y="309960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AutoShape 222"/>
            <p:cNvSpPr/>
            <p:nvPr/>
          </p:nvSpPr>
          <p:spPr>
            <a:xfrm>
              <a:off x="6368760" y="3579840"/>
              <a:ext cx="2161080" cy="74520"/>
            </a:xfrm>
            <a:custGeom>
              <a:avLst/>
              <a:gdLst>
                <a:gd name="textAreaLeft" fmla="*/ 220320 w 2161080"/>
                <a:gd name="textAreaRight" fmla="*/ 1940760 w 216108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3"/>
          <p:cNvSpPr/>
          <p:nvPr/>
        </p:nvSpPr>
        <p:spPr>
          <a:xfrm>
            <a:off x="7500960" y="3538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974960" y="2205000"/>
            <a:ext cx="2999880" cy="1376280"/>
            <a:chOff x="1974960" y="2205000"/>
            <a:chExt cx="2999880" cy="1376280"/>
          </a:xfrm>
        </p:grpSpPr>
        <p:grpSp>
          <p:nvGrpSpPr>
            <p:cNvPr id="227" name="Group 4"/>
            <p:cNvGrpSpPr/>
            <p:nvPr/>
          </p:nvGrpSpPr>
          <p:grpSpPr>
            <a:xfrm>
              <a:off x="1974960" y="2205000"/>
              <a:ext cx="2999880" cy="1376280"/>
              <a:chOff x="1974960" y="2205000"/>
              <a:chExt cx="2999880" cy="1376280"/>
            </a:xfrm>
          </p:grpSpPr>
          <p:sp>
            <p:nvSpPr>
              <p:cNvPr id="228" name="AutoShape 73"/>
              <p:cNvSpPr/>
              <p:nvPr/>
            </p:nvSpPr>
            <p:spPr>
              <a:xfrm rot="2700000">
                <a:off x="3891960" y="2379600"/>
                <a:ext cx="827280" cy="106524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圆角矩形 10"/>
              <p:cNvSpPr/>
              <p:nvPr/>
            </p:nvSpPr>
            <p:spPr>
              <a:xfrm>
                <a:off x="1974960" y="2205000"/>
                <a:ext cx="197964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7"/>
            <p:cNvGrpSpPr/>
            <p:nvPr/>
          </p:nvGrpSpPr>
          <p:grpSpPr>
            <a:xfrm>
              <a:off x="3598920" y="2205000"/>
              <a:ext cx="757080" cy="755640"/>
              <a:chOff x="3598920" y="2205000"/>
              <a:chExt cx="757080" cy="755640"/>
            </a:xfrm>
          </p:grpSpPr>
          <p:sp>
            <p:nvSpPr>
              <p:cNvPr id="231" name="椭圆 7"/>
              <p:cNvSpPr/>
              <p:nvPr/>
            </p:nvSpPr>
            <p:spPr>
              <a:xfrm>
                <a:off x="3598920" y="220500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椭圆 117"/>
              <p:cNvSpPr/>
              <p:nvPr/>
            </p:nvSpPr>
            <p:spPr>
              <a:xfrm>
                <a:off x="3622680" y="2226960"/>
                <a:ext cx="647640" cy="647640"/>
              </a:xfrm>
              <a:prstGeom prst="ellipse">
                <a:avLst/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4376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Group 10"/>
          <p:cNvGrpSpPr/>
          <p:nvPr/>
        </p:nvGrpSpPr>
        <p:grpSpPr>
          <a:xfrm>
            <a:off x="1233360" y="3449520"/>
            <a:ext cx="2854440" cy="1065240"/>
            <a:chOff x="1233360" y="3449520"/>
            <a:chExt cx="2854440" cy="1065240"/>
          </a:xfrm>
        </p:grpSpPr>
        <p:grpSp>
          <p:nvGrpSpPr>
            <p:cNvPr id="234" name="Group 11"/>
            <p:cNvGrpSpPr/>
            <p:nvPr/>
          </p:nvGrpSpPr>
          <p:grpSpPr>
            <a:xfrm>
              <a:off x="1233360" y="3449520"/>
              <a:ext cx="2854440" cy="1065240"/>
              <a:chOff x="1233360" y="3449520"/>
              <a:chExt cx="2854440" cy="1065240"/>
            </a:xfrm>
          </p:grpSpPr>
          <p:sp>
            <p:nvSpPr>
              <p:cNvPr id="235" name="AutoShape 71"/>
              <p:cNvSpPr/>
              <p:nvPr/>
            </p:nvSpPr>
            <p:spPr>
              <a:xfrm>
                <a:off x="3259080" y="3449520"/>
                <a:ext cx="828720" cy="1065240"/>
              </a:xfrm>
              <a:prstGeom prst="rightArrow">
                <a:avLst>
                  <a:gd name="adj1" fmla="val 70389"/>
                  <a:gd name="adj2" fmla="val 62116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圆角矩形 17"/>
              <p:cNvSpPr/>
              <p:nvPr/>
            </p:nvSpPr>
            <p:spPr>
              <a:xfrm>
                <a:off x="1233360" y="360324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4"/>
            <p:cNvGrpSpPr/>
            <p:nvPr/>
          </p:nvGrpSpPr>
          <p:grpSpPr>
            <a:xfrm>
              <a:off x="2859120" y="3603240"/>
              <a:ext cx="755640" cy="757440"/>
              <a:chOff x="2859120" y="3603240"/>
              <a:chExt cx="755640" cy="757440"/>
            </a:xfrm>
          </p:grpSpPr>
          <p:sp>
            <p:nvSpPr>
              <p:cNvPr id="238" name="椭圆 14"/>
              <p:cNvSpPr/>
              <p:nvPr/>
            </p:nvSpPr>
            <p:spPr>
              <a:xfrm>
                <a:off x="2859120" y="360324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椭圆 117"/>
              <p:cNvSpPr/>
              <p:nvPr/>
            </p:nvSpPr>
            <p:spPr>
              <a:xfrm>
                <a:off x="2881080" y="3625200"/>
                <a:ext cx="647640" cy="648000"/>
              </a:xfrm>
              <a:prstGeom prst="ellipse">
                <a:avLst/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4376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17"/>
          <p:cNvGrpSpPr/>
          <p:nvPr/>
        </p:nvGrpSpPr>
        <p:grpSpPr>
          <a:xfrm>
            <a:off x="1974960" y="4379040"/>
            <a:ext cx="3001320" cy="1359720"/>
            <a:chOff x="1974960" y="4379040"/>
            <a:chExt cx="3001320" cy="1359720"/>
          </a:xfrm>
        </p:grpSpPr>
        <p:grpSp>
          <p:nvGrpSpPr>
            <p:cNvPr id="241" name="Group 18"/>
            <p:cNvGrpSpPr/>
            <p:nvPr/>
          </p:nvGrpSpPr>
          <p:grpSpPr>
            <a:xfrm>
              <a:off x="1974960" y="4379040"/>
              <a:ext cx="3001320" cy="1359720"/>
              <a:chOff x="1974960" y="4379040"/>
              <a:chExt cx="3001320" cy="1359720"/>
            </a:xfrm>
          </p:grpSpPr>
          <p:sp>
            <p:nvSpPr>
              <p:cNvPr id="242" name="AutoShape 75"/>
              <p:cNvSpPr/>
              <p:nvPr/>
            </p:nvSpPr>
            <p:spPr>
              <a:xfrm rot="18900000">
                <a:off x="3888000" y="4512960"/>
                <a:ext cx="826920" cy="1081080"/>
              </a:xfrm>
              <a:prstGeom prst="rightArrow">
                <a:avLst>
                  <a:gd name="adj1" fmla="val 70389"/>
                  <a:gd name="adj2" fmla="val 6569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圆角矩形 24"/>
              <p:cNvSpPr/>
              <p:nvPr/>
            </p:nvSpPr>
            <p:spPr>
              <a:xfrm>
                <a:off x="1974960" y="4983120"/>
                <a:ext cx="197964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21"/>
            <p:cNvGrpSpPr/>
            <p:nvPr/>
          </p:nvGrpSpPr>
          <p:grpSpPr>
            <a:xfrm>
              <a:off x="3598920" y="4983120"/>
              <a:ext cx="757080" cy="755640"/>
              <a:chOff x="3598920" y="4983120"/>
              <a:chExt cx="757080" cy="755640"/>
            </a:xfrm>
          </p:grpSpPr>
          <p:sp>
            <p:nvSpPr>
              <p:cNvPr id="245" name="椭圆 21"/>
              <p:cNvSpPr/>
              <p:nvPr/>
            </p:nvSpPr>
            <p:spPr>
              <a:xfrm>
                <a:off x="3598920" y="498312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椭圆 117"/>
              <p:cNvSpPr/>
              <p:nvPr/>
            </p:nvSpPr>
            <p:spPr>
              <a:xfrm>
                <a:off x="3622680" y="5003640"/>
                <a:ext cx="647640" cy="649440"/>
              </a:xfrm>
              <a:prstGeom prst="ellipse">
                <a:avLst/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4376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24"/>
          <p:cNvGrpSpPr/>
          <p:nvPr/>
        </p:nvGrpSpPr>
        <p:grpSpPr>
          <a:xfrm>
            <a:off x="4848480" y="4472640"/>
            <a:ext cx="3052440" cy="1291320"/>
            <a:chOff x="4848480" y="4472640"/>
            <a:chExt cx="3052440" cy="1291320"/>
          </a:xfrm>
        </p:grpSpPr>
        <p:grpSp>
          <p:nvGrpSpPr>
            <p:cNvPr id="248" name="Group 25"/>
            <p:cNvGrpSpPr/>
            <p:nvPr/>
          </p:nvGrpSpPr>
          <p:grpSpPr>
            <a:xfrm>
              <a:off x="4848480" y="4472640"/>
              <a:ext cx="3052440" cy="1291320"/>
              <a:chOff x="4848480" y="4472640"/>
              <a:chExt cx="3052440" cy="1291320"/>
            </a:xfrm>
          </p:grpSpPr>
          <p:sp>
            <p:nvSpPr>
              <p:cNvPr id="249" name="AutoShape 69"/>
              <p:cNvSpPr/>
              <p:nvPr/>
            </p:nvSpPr>
            <p:spPr>
              <a:xfrm flipH="1" rot="2700000">
                <a:off x="5061960" y="4636800"/>
                <a:ext cx="863640" cy="962640"/>
              </a:xfrm>
              <a:prstGeom prst="rightArrow">
                <a:avLst>
                  <a:gd name="adj1" fmla="val 70389"/>
                  <a:gd name="adj2" fmla="val 64583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圆角矩形 31"/>
              <p:cNvSpPr/>
              <p:nvPr/>
            </p:nvSpPr>
            <p:spPr>
              <a:xfrm>
                <a:off x="5834880" y="5055480"/>
                <a:ext cx="2066040" cy="68328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8"/>
            <p:cNvGrpSpPr/>
            <p:nvPr/>
          </p:nvGrpSpPr>
          <p:grpSpPr>
            <a:xfrm>
              <a:off x="5521680" y="4981320"/>
              <a:ext cx="755280" cy="757440"/>
              <a:chOff x="5521680" y="4981320"/>
              <a:chExt cx="755280" cy="757440"/>
            </a:xfrm>
          </p:grpSpPr>
          <p:sp>
            <p:nvSpPr>
              <p:cNvPr id="252" name="椭圆 28"/>
              <p:cNvSpPr/>
              <p:nvPr/>
            </p:nvSpPr>
            <p:spPr>
              <a:xfrm>
                <a:off x="5521680" y="4981320"/>
                <a:ext cx="75528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椭圆 117"/>
              <p:cNvSpPr/>
              <p:nvPr/>
            </p:nvSpPr>
            <p:spPr>
              <a:xfrm>
                <a:off x="5543640" y="5003280"/>
                <a:ext cx="649080" cy="649440"/>
              </a:xfrm>
              <a:prstGeom prst="ellipse">
                <a:avLst/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4376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31"/>
          <p:cNvGrpSpPr/>
          <p:nvPr/>
        </p:nvGrpSpPr>
        <p:grpSpPr>
          <a:xfrm>
            <a:off x="5810040" y="3449520"/>
            <a:ext cx="2843280" cy="1065240"/>
            <a:chOff x="5810040" y="3449520"/>
            <a:chExt cx="2843280" cy="1065240"/>
          </a:xfrm>
        </p:grpSpPr>
        <p:grpSp>
          <p:nvGrpSpPr>
            <p:cNvPr id="255" name="Group 32"/>
            <p:cNvGrpSpPr/>
            <p:nvPr/>
          </p:nvGrpSpPr>
          <p:grpSpPr>
            <a:xfrm>
              <a:off x="5810040" y="3449520"/>
              <a:ext cx="2843280" cy="1065240"/>
              <a:chOff x="5810040" y="3449520"/>
              <a:chExt cx="2843280" cy="1065240"/>
            </a:xfrm>
          </p:grpSpPr>
          <p:sp>
            <p:nvSpPr>
              <p:cNvPr id="256" name="AutoShape 49"/>
              <p:cNvSpPr/>
              <p:nvPr/>
            </p:nvSpPr>
            <p:spPr>
              <a:xfrm flipH="1">
                <a:off x="5809680" y="3449520"/>
                <a:ext cx="828360" cy="1065240"/>
              </a:xfrm>
              <a:prstGeom prst="rightArrow">
                <a:avLst>
                  <a:gd name="adj1" fmla="val 70389"/>
                  <a:gd name="adj2" fmla="val 68255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圆角矩形 38"/>
              <p:cNvSpPr/>
              <p:nvPr/>
            </p:nvSpPr>
            <p:spPr>
              <a:xfrm>
                <a:off x="6673680" y="360324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35"/>
            <p:cNvGrpSpPr/>
            <p:nvPr/>
          </p:nvGrpSpPr>
          <p:grpSpPr>
            <a:xfrm>
              <a:off x="6284880" y="3603240"/>
              <a:ext cx="755640" cy="757440"/>
              <a:chOff x="6284880" y="3603240"/>
              <a:chExt cx="755640" cy="757440"/>
            </a:xfrm>
          </p:grpSpPr>
          <p:sp>
            <p:nvSpPr>
              <p:cNvPr id="259" name="椭圆 35"/>
              <p:cNvSpPr/>
              <p:nvPr/>
            </p:nvSpPr>
            <p:spPr>
              <a:xfrm>
                <a:off x="6284880" y="360324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椭圆 117"/>
              <p:cNvSpPr/>
              <p:nvPr/>
            </p:nvSpPr>
            <p:spPr>
              <a:xfrm>
                <a:off x="6306840" y="3625200"/>
                <a:ext cx="647640" cy="648000"/>
              </a:xfrm>
              <a:prstGeom prst="ellipse">
                <a:avLst/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4376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38"/>
          <p:cNvGrpSpPr/>
          <p:nvPr/>
        </p:nvGrpSpPr>
        <p:grpSpPr>
          <a:xfrm>
            <a:off x="5006880" y="2205000"/>
            <a:ext cx="2894040" cy="1466640"/>
            <a:chOff x="5006880" y="2205000"/>
            <a:chExt cx="2894040" cy="1466640"/>
          </a:xfrm>
        </p:grpSpPr>
        <p:grpSp>
          <p:nvGrpSpPr>
            <p:cNvPr id="262" name="Group 39"/>
            <p:cNvGrpSpPr/>
            <p:nvPr/>
          </p:nvGrpSpPr>
          <p:grpSpPr>
            <a:xfrm>
              <a:off x="5006880" y="2205000"/>
              <a:ext cx="2894040" cy="1466640"/>
              <a:chOff x="5006880" y="2205000"/>
              <a:chExt cx="2894040" cy="1466640"/>
            </a:xfrm>
          </p:grpSpPr>
          <p:sp>
            <p:nvSpPr>
              <p:cNvPr id="263" name="AutoShape 67"/>
              <p:cNvSpPr/>
              <p:nvPr/>
            </p:nvSpPr>
            <p:spPr>
              <a:xfrm flipH="1" rot="18900000">
                <a:off x="5232960" y="2476800"/>
                <a:ext cx="914760" cy="102060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圆角矩形 45"/>
              <p:cNvSpPr/>
              <p:nvPr/>
            </p:nvSpPr>
            <p:spPr>
              <a:xfrm>
                <a:off x="6004080" y="2205000"/>
                <a:ext cx="1896840" cy="83592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42"/>
            <p:cNvGrpSpPr/>
            <p:nvPr/>
          </p:nvGrpSpPr>
          <p:grpSpPr>
            <a:xfrm>
              <a:off x="5520960" y="2205000"/>
              <a:ext cx="757080" cy="755640"/>
              <a:chOff x="5520960" y="2205000"/>
              <a:chExt cx="757080" cy="755640"/>
            </a:xfrm>
          </p:grpSpPr>
          <p:sp>
            <p:nvSpPr>
              <p:cNvPr id="266" name="椭圆 42"/>
              <p:cNvSpPr/>
              <p:nvPr/>
            </p:nvSpPr>
            <p:spPr>
              <a:xfrm>
                <a:off x="5520960" y="220500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椭圆 117"/>
              <p:cNvSpPr/>
              <p:nvPr/>
            </p:nvSpPr>
            <p:spPr>
              <a:xfrm>
                <a:off x="5544720" y="2226960"/>
                <a:ext cx="647640" cy="648000"/>
              </a:xfrm>
              <a:prstGeom prst="ellipse">
                <a:avLst/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4376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Text Box 18"/>
          <p:cNvSpPr/>
          <p:nvPr/>
        </p:nvSpPr>
        <p:spPr>
          <a:xfrm>
            <a:off x="1355760" y="3813120"/>
            <a:ext cx="14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7050240" y="381312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6327720" y="24130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2060640" y="24130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2008080" y="5191200"/>
            <a:ext cx="15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6224760" y="5191200"/>
            <a:ext cx="14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51"/>
          <p:cNvGrpSpPr/>
          <p:nvPr/>
        </p:nvGrpSpPr>
        <p:grpSpPr>
          <a:xfrm>
            <a:off x="4141800" y="3173400"/>
            <a:ext cx="1619280" cy="1619280"/>
            <a:chOff x="4141800" y="3173400"/>
            <a:chExt cx="1619280" cy="1619280"/>
          </a:xfrm>
        </p:grpSpPr>
        <p:sp>
          <p:nvSpPr>
            <p:cNvPr id="275" name="Oval 93"/>
            <p:cNvSpPr/>
            <p:nvPr/>
          </p:nvSpPr>
          <p:spPr>
            <a:xfrm>
              <a:off x="4141800" y="3173400"/>
              <a:ext cx="1619280" cy="1619280"/>
            </a:xfrm>
            <a:prstGeom prst="ellipse">
              <a:avLst/>
            </a:prstGeom>
            <a:gradFill rotWithShape="0">
              <a:gsLst>
                <a:gs pos="0">
                  <a:srgbClr val="6e6d68"/>
                </a:gs>
                <a:gs pos="100000">
                  <a:srgbClr val="eeec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94"/>
            <p:cNvSpPr/>
            <p:nvPr/>
          </p:nvSpPr>
          <p:spPr>
            <a:xfrm>
              <a:off x="4206600" y="3225600"/>
              <a:ext cx="1395720" cy="1395720"/>
            </a:xfrm>
            <a:prstGeom prst="ellips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4376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18"/>
          <p:cNvSpPr/>
          <p:nvPr/>
        </p:nvSpPr>
        <p:spPr>
          <a:xfrm>
            <a:off x="4272120" y="36241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3740760" y="2405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6"/>
          <p:cNvSpPr/>
          <p:nvPr/>
        </p:nvSpPr>
        <p:spPr>
          <a:xfrm>
            <a:off x="5673240" y="2405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6"/>
          <p:cNvSpPr/>
          <p:nvPr/>
        </p:nvSpPr>
        <p:spPr>
          <a:xfrm>
            <a:off x="6425640" y="3794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2999880" y="3794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6"/>
          <p:cNvSpPr/>
          <p:nvPr/>
        </p:nvSpPr>
        <p:spPr>
          <a:xfrm>
            <a:off x="3740760" y="51721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6"/>
          <p:cNvSpPr/>
          <p:nvPr/>
        </p:nvSpPr>
        <p:spPr>
          <a:xfrm>
            <a:off x="5662080" y="51721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300"/>
                            </p:stCondLst>
                            <p:childTnLst>
                              <p:par>
                                <p:cTn id="2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6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9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200"/>
                            </p:stCondLst>
                            <p:childTnLst>
                              <p:par>
                                <p:cTn id="3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8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3"/>
          <p:cNvSpPr/>
          <p:nvPr/>
        </p:nvSpPr>
        <p:spPr>
          <a:xfrm>
            <a:off x="7500960" y="3538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1074600" y="187488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203480" y="2011320"/>
            <a:ext cx="7569000" cy="4229280"/>
          </a:xfrm>
          <a:prstGeom prst="roundRect">
            <a:avLst>
              <a:gd name="adj" fmla="val 3486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1859040" y="2651040"/>
            <a:ext cx="0" cy="287964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1851120" y="5530680"/>
            <a:ext cx="539892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7"/>
          <p:cNvGrpSpPr/>
          <p:nvPr/>
        </p:nvGrpSpPr>
        <p:grpSpPr>
          <a:xfrm>
            <a:off x="1892160" y="1563840"/>
            <a:ext cx="6193080" cy="647640"/>
            <a:chOff x="1892160" y="1563840"/>
            <a:chExt cx="6193080" cy="647640"/>
          </a:xfrm>
        </p:grpSpPr>
        <p:sp>
          <p:nvSpPr>
            <p:cNvPr id="290" name="AutoShape 3"/>
            <p:cNvSpPr/>
            <p:nvPr/>
          </p:nvSpPr>
          <p:spPr>
            <a:xfrm>
              <a:off x="1892160" y="1563840"/>
              <a:ext cx="6193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3"/>
            <p:cNvSpPr/>
            <p:nvPr/>
          </p:nvSpPr>
          <p:spPr>
            <a:xfrm>
              <a:off x="1892160" y="1654200"/>
              <a:ext cx="619308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004376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5"/>
          <p:cNvSpPr/>
          <p:nvPr/>
        </p:nvSpPr>
        <p:spPr>
          <a:xfrm>
            <a:off x="4336920" y="283068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5570640" y="283068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6811920" y="283068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3095640" y="283068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4"/>
          <p:cNvSpPr/>
          <p:nvPr/>
        </p:nvSpPr>
        <p:spPr>
          <a:xfrm>
            <a:off x="2322360" y="3328920"/>
            <a:ext cx="1621080" cy="324000"/>
          </a:xfrm>
          <a:prstGeom prst="roundRect">
            <a:avLst>
              <a:gd name="adj" fmla="val 16667"/>
            </a:avLst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32"/>
          <p:cNvSpPr/>
          <p:nvPr/>
        </p:nvSpPr>
        <p:spPr>
          <a:xfrm>
            <a:off x="1862280" y="3733920"/>
            <a:ext cx="4952880" cy="122544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ff99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4"/>
          <p:cNvSpPr/>
          <p:nvPr/>
        </p:nvSpPr>
        <p:spPr>
          <a:xfrm>
            <a:off x="1830240" y="393552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9"/>
          <p:cNvSpPr/>
          <p:nvPr/>
        </p:nvSpPr>
        <p:spPr>
          <a:xfrm>
            <a:off x="3070080" y="482760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4"/>
          <p:cNvSpPr/>
          <p:nvPr/>
        </p:nvSpPr>
        <p:spPr>
          <a:xfrm>
            <a:off x="5541840" y="443880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9"/>
          <p:cNvSpPr/>
          <p:nvPr/>
        </p:nvSpPr>
        <p:spPr>
          <a:xfrm>
            <a:off x="6788160" y="395604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59"/>
          <p:cNvSpPr/>
          <p:nvPr/>
        </p:nvSpPr>
        <p:spPr>
          <a:xfrm>
            <a:off x="1868400" y="3325680"/>
            <a:ext cx="4951440" cy="120024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1"/>
          <p:cNvSpPr/>
          <p:nvPr/>
        </p:nvSpPr>
        <p:spPr>
          <a:xfrm>
            <a:off x="1820880" y="448776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6"/>
          <p:cNvSpPr/>
          <p:nvPr/>
        </p:nvSpPr>
        <p:spPr>
          <a:xfrm>
            <a:off x="3060720" y="418932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1"/>
          <p:cNvSpPr/>
          <p:nvPr/>
        </p:nvSpPr>
        <p:spPr>
          <a:xfrm>
            <a:off x="5532480" y="336852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6"/>
          <p:cNvSpPr/>
          <p:nvPr/>
        </p:nvSpPr>
        <p:spPr>
          <a:xfrm>
            <a:off x="6778800" y="4322880"/>
            <a:ext cx="712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5"/>
          <p:cNvGrpSpPr/>
          <p:nvPr/>
        </p:nvGrpSpPr>
        <p:grpSpPr>
          <a:xfrm>
            <a:off x="1884240" y="3041640"/>
            <a:ext cx="4950000" cy="1878120"/>
            <a:chOff x="1884240" y="3041640"/>
            <a:chExt cx="4950000" cy="1878120"/>
          </a:xfrm>
        </p:grpSpPr>
        <p:pic>
          <p:nvPicPr>
            <p:cNvPr id="308" name="Freeform 80" descr=""/>
            <p:cNvPicPr/>
            <p:nvPr/>
          </p:nvPicPr>
          <p:blipFill>
            <a:blip r:embed="rId1"/>
            <a:stretch/>
          </p:blipFill>
          <p:spPr>
            <a:xfrm>
              <a:off x="1884240" y="3226320"/>
              <a:ext cx="4950000" cy="169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27"/>
            <p:cNvSpPr/>
            <p:nvPr/>
          </p:nvSpPr>
          <p:spPr>
            <a:xfrm>
              <a:off x="1887480" y="3041640"/>
              <a:ext cx="4935600" cy="18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82"/>
          <p:cNvSpPr/>
          <p:nvPr/>
        </p:nvSpPr>
        <p:spPr>
          <a:xfrm>
            <a:off x="1812960" y="4851360"/>
            <a:ext cx="90360" cy="8892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00437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7"/>
          <p:cNvSpPr/>
          <p:nvPr/>
        </p:nvSpPr>
        <p:spPr>
          <a:xfrm>
            <a:off x="3052800" y="4599000"/>
            <a:ext cx="90360" cy="8892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00437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2"/>
          <p:cNvSpPr/>
          <p:nvPr/>
        </p:nvSpPr>
        <p:spPr>
          <a:xfrm>
            <a:off x="5524560" y="3013200"/>
            <a:ext cx="90360" cy="8892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00437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7"/>
          <p:cNvSpPr/>
          <p:nvPr/>
        </p:nvSpPr>
        <p:spPr>
          <a:xfrm>
            <a:off x="6769080" y="4110120"/>
            <a:ext cx="90360" cy="8892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00437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8"/>
          <p:cNvSpPr/>
          <p:nvPr/>
        </p:nvSpPr>
        <p:spPr>
          <a:xfrm>
            <a:off x="4226040" y="3693960"/>
            <a:ext cx="223560" cy="223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21"/>
          <p:cNvSpPr/>
          <p:nvPr/>
        </p:nvSpPr>
        <p:spPr>
          <a:xfrm>
            <a:off x="4292640" y="3760920"/>
            <a:ext cx="90360" cy="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33"/>
          <p:cNvSpPr/>
          <p:nvPr/>
        </p:nvSpPr>
        <p:spPr>
          <a:xfrm>
            <a:off x="2736000" y="3338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5"/>
          <p:cNvGrpSpPr/>
          <p:nvPr/>
        </p:nvGrpSpPr>
        <p:grpSpPr>
          <a:xfrm>
            <a:off x="7257960" y="3670200"/>
            <a:ext cx="1359000" cy="973080"/>
            <a:chOff x="7257960" y="3670200"/>
            <a:chExt cx="1359000" cy="973080"/>
          </a:xfrm>
        </p:grpSpPr>
        <p:sp>
          <p:nvSpPr>
            <p:cNvPr id="318" name="AutoShape 26"/>
            <p:cNvSpPr/>
            <p:nvPr/>
          </p:nvSpPr>
          <p:spPr>
            <a:xfrm>
              <a:off x="7257960" y="3670200"/>
              <a:ext cx="1346400" cy="97308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37"/>
            <p:cNvGrpSpPr/>
            <p:nvPr/>
          </p:nvGrpSpPr>
          <p:grpSpPr>
            <a:xfrm>
              <a:off x="7322040" y="4423680"/>
              <a:ext cx="259200" cy="54000"/>
              <a:chOff x="7322040" y="4423680"/>
              <a:chExt cx="259200" cy="54000"/>
            </a:xfrm>
          </p:grpSpPr>
          <p:sp>
            <p:nvSpPr>
              <p:cNvPr id="320" name="Line 53"/>
              <p:cNvSpPr/>
              <p:nvPr/>
            </p:nvSpPr>
            <p:spPr>
              <a:xfrm>
                <a:off x="7322040" y="4449240"/>
                <a:ext cx="2592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55"/>
              <p:cNvSpPr/>
              <p:nvPr/>
            </p:nvSpPr>
            <p:spPr>
              <a:xfrm>
                <a:off x="7424280" y="4423680"/>
                <a:ext cx="54360" cy="54000"/>
              </a:xfrm>
              <a:prstGeom prst="rect">
                <a:avLst/>
              </a:prstGeom>
              <a:solidFill>
                <a:srgbClr val="be6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40"/>
            <p:cNvGrpSpPr/>
            <p:nvPr/>
          </p:nvGrpSpPr>
          <p:grpSpPr>
            <a:xfrm>
              <a:off x="7322040" y="4104360"/>
              <a:ext cx="777960" cy="111240"/>
              <a:chOff x="7322040" y="4104360"/>
              <a:chExt cx="777960" cy="111240"/>
            </a:xfrm>
          </p:grpSpPr>
          <p:sp>
            <p:nvSpPr>
              <p:cNvPr id="323" name="Line 29"/>
              <p:cNvSpPr/>
              <p:nvPr/>
            </p:nvSpPr>
            <p:spPr>
              <a:xfrm>
                <a:off x="7322040" y="4147200"/>
                <a:ext cx="25920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4" name="Group 42"/>
              <p:cNvGrpSpPr/>
              <p:nvPr/>
            </p:nvGrpSpPr>
            <p:grpSpPr>
              <a:xfrm>
                <a:off x="7426080" y="4104360"/>
                <a:ext cx="673920" cy="111240"/>
                <a:chOff x="7426080" y="4104360"/>
                <a:chExt cx="673920" cy="111240"/>
              </a:xfrm>
            </p:grpSpPr>
            <p:sp>
              <p:nvSpPr>
                <p:cNvPr id="325" name="Rectangle 102"/>
                <p:cNvSpPr/>
                <p:nvPr/>
              </p:nvSpPr>
              <p:spPr>
                <a:xfrm>
                  <a:off x="7426080" y="410436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6" name="Group 44"/>
                <p:cNvGrpSpPr/>
                <p:nvPr/>
              </p:nvGrpSpPr>
              <p:grpSpPr>
                <a:xfrm>
                  <a:off x="8015400" y="4153680"/>
                  <a:ext cx="84600" cy="61920"/>
                  <a:chOff x="8015400" y="4153680"/>
                  <a:chExt cx="84600" cy="61920"/>
                </a:xfrm>
              </p:grpSpPr>
              <p:sp>
                <p:nvSpPr>
                  <p:cNvPr id="327" name="Line 104"/>
                  <p:cNvSpPr/>
                  <p:nvPr/>
                </p:nvSpPr>
                <p:spPr>
                  <a:xfrm>
                    <a:off x="8057880" y="415368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105"/>
                  <p:cNvSpPr/>
                  <p:nvPr/>
                </p:nvSpPr>
                <p:spPr>
                  <a:xfrm flipH="1">
                    <a:off x="8015400" y="4184640"/>
                    <a:ext cx="846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9" name="Group 47"/>
            <p:cNvGrpSpPr/>
            <p:nvPr/>
          </p:nvGrpSpPr>
          <p:grpSpPr>
            <a:xfrm>
              <a:off x="7322040" y="3794760"/>
              <a:ext cx="259560" cy="90720"/>
              <a:chOff x="7322040" y="3794760"/>
              <a:chExt cx="259560" cy="90720"/>
            </a:xfrm>
          </p:grpSpPr>
          <p:grpSp>
            <p:nvGrpSpPr>
              <p:cNvPr id="330" name="Group 48"/>
              <p:cNvGrpSpPr/>
              <p:nvPr/>
            </p:nvGrpSpPr>
            <p:grpSpPr>
              <a:xfrm>
                <a:off x="7322040" y="3828240"/>
                <a:ext cx="259560" cy="29880"/>
                <a:chOff x="7322040" y="3828240"/>
                <a:chExt cx="259560" cy="29880"/>
              </a:xfrm>
            </p:grpSpPr>
            <p:pic>
              <p:nvPicPr>
                <p:cNvPr id="331" name="Line 2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22040" y="3828240"/>
                  <a:ext cx="259560" cy="2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Text Box 50"/>
                <p:cNvSpPr/>
                <p:nvPr/>
              </p:nvSpPr>
              <p:spPr>
                <a:xfrm>
                  <a:off x="7322760" y="38397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Rectangle 107"/>
              <p:cNvSpPr/>
              <p:nvPr/>
            </p:nvSpPr>
            <p:spPr>
              <a:xfrm>
                <a:off x="7405920" y="3794760"/>
                <a:ext cx="86760" cy="90720"/>
              </a:xfrm>
              <a:prstGeom prst="rect">
                <a:avLst/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437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Text Box 9"/>
            <p:cNvSpPr/>
            <p:nvPr/>
          </p:nvSpPr>
          <p:spPr>
            <a:xfrm>
              <a:off x="7506360" y="370188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9"/>
            <p:cNvSpPr/>
            <p:nvPr/>
          </p:nvSpPr>
          <p:spPr>
            <a:xfrm>
              <a:off x="7506360" y="400932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9"/>
            <p:cNvSpPr/>
            <p:nvPr/>
          </p:nvSpPr>
          <p:spPr>
            <a:xfrm>
              <a:off x="7506360" y="431208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9"/>
          <p:cNvSpPr/>
          <p:nvPr/>
        </p:nvSpPr>
        <p:spPr>
          <a:xfrm>
            <a:off x="1392120" y="557532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2635200" y="557532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873600" y="557532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5116680" y="55753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6345360" y="55753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3860640" y="1687680"/>
            <a:ext cx="22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61"/>
          <p:cNvGrpSpPr/>
          <p:nvPr/>
        </p:nvGrpSpPr>
        <p:grpSpPr>
          <a:xfrm>
            <a:off x="3968640" y="3335400"/>
            <a:ext cx="311400" cy="374760"/>
            <a:chOff x="3968640" y="3335400"/>
            <a:chExt cx="311400" cy="374760"/>
          </a:xfrm>
        </p:grpSpPr>
        <p:sp>
          <p:nvSpPr>
            <p:cNvPr id="344" name="任意多边形 59"/>
            <p:cNvSpPr/>
            <p:nvPr/>
          </p:nvSpPr>
          <p:spPr>
            <a:xfrm>
              <a:off x="3976560" y="3335400"/>
              <a:ext cx="360" cy="3240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任意多边形 60"/>
            <p:cNvSpPr/>
            <p:nvPr/>
          </p:nvSpPr>
          <p:spPr>
            <a:xfrm>
              <a:off x="3968640" y="3487680"/>
              <a:ext cx="311400" cy="222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3"/>
          <p:cNvSpPr/>
          <p:nvPr/>
        </p:nvSpPr>
        <p:spPr>
          <a:xfrm>
            <a:off x="7500960" y="3538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1074600" y="187488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1203480" y="2011320"/>
            <a:ext cx="7569000" cy="4229280"/>
          </a:xfrm>
          <a:prstGeom prst="roundRect">
            <a:avLst>
              <a:gd name="adj" fmla="val 3486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"/>
          <p:cNvGrpSpPr/>
          <p:nvPr/>
        </p:nvGrpSpPr>
        <p:grpSpPr>
          <a:xfrm>
            <a:off x="1892160" y="1563840"/>
            <a:ext cx="6193080" cy="647640"/>
            <a:chOff x="1892160" y="1563840"/>
            <a:chExt cx="6193080" cy="647640"/>
          </a:xfrm>
        </p:grpSpPr>
        <p:sp>
          <p:nvSpPr>
            <p:cNvPr id="350" name="AutoShape 3"/>
            <p:cNvSpPr/>
            <p:nvPr/>
          </p:nvSpPr>
          <p:spPr>
            <a:xfrm>
              <a:off x="1892160" y="1563840"/>
              <a:ext cx="6193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3"/>
            <p:cNvSpPr/>
            <p:nvPr/>
          </p:nvSpPr>
          <p:spPr>
            <a:xfrm>
              <a:off x="1892160" y="1654200"/>
              <a:ext cx="619308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004376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Rectangle 13"/>
          <p:cNvSpPr/>
          <p:nvPr/>
        </p:nvSpPr>
        <p:spPr>
          <a:xfrm>
            <a:off x="3860640" y="1687680"/>
            <a:ext cx="22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1"/>
          <p:cNvSpPr/>
          <p:nvPr/>
        </p:nvSpPr>
        <p:spPr>
          <a:xfrm>
            <a:off x="3179880" y="3127320"/>
            <a:ext cx="1440" cy="2448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2"/>
          <p:cNvSpPr/>
          <p:nvPr/>
        </p:nvSpPr>
        <p:spPr>
          <a:xfrm>
            <a:off x="4933800" y="3127320"/>
            <a:ext cx="1800" cy="2448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3"/>
          <p:cNvSpPr/>
          <p:nvPr/>
        </p:nvSpPr>
        <p:spPr>
          <a:xfrm>
            <a:off x="6676920" y="3127320"/>
            <a:ext cx="3240" cy="2448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1992600" y="563256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7"/>
          <p:cNvSpPr/>
          <p:nvPr/>
        </p:nvSpPr>
        <p:spPr>
          <a:xfrm>
            <a:off x="3745080" y="563256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8"/>
          <p:cNvSpPr/>
          <p:nvPr/>
        </p:nvSpPr>
        <p:spPr>
          <a:xfrm>
            <a:off x="5500080" y="563256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9"/>
          <p:cNvSpPr/>
          <p:nvPr/>
        </p:nvSpPr>
        <p:spPr>
          <a:xfrm>
            <a:off x="7263000" y="563256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5"/>
          <p:cNvSpPr/>
          <p:nvPr/>
        </p:nvSpPr>
        <p:spPr>
          <a:xfrm>
            <a:off x="1800360" y="5429160"/>
            <a:ext cx="506160" cy="152640"/>
          </a:xfrm>
          <a:prstGeom prst="rect">
            <a:avLst/>
          </a:prstGeom>
          <a:solidFill>
            <a:srgbClr val="f8f7f3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6"/>
          <p:cNvSpPr/>
          <p:nvPr/>
        </p:nvSpPr>
        <p:spPr>
          <a:xfrm>
            <a:off x="3546360" y="5073480"/>
            <a:ext cx="503280" cy="508320"/>
          </a:xfrm>
          <a:prstGeom prst="rect">
            <a:avLst/>
          </a:prstGeom>
          <a:solidFill>
            <a:srgbClr val="f8f7f3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7"/>
          <p:cNvSpPr/>
          <p:nvPr/>
        </p:nvSpPr>
        <p:spPr>
          <a:xfrm>
            <a:off x="5300640" y="4575240"/>
            <a:ext cx="506520" cy="1006560"/>
          </a:xfrm>
          <a:prstGeom prst="rect">
            <a:avLst/>
          </a:prstGeom>
          <a:solidFill>
            <a:srgbClr val="f8f7f3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8"/>
          <p:cNvSpPr/>
          <p:nvPr/>
        </p:nvSpPr>
        <p:spPr>
          <a:xfrm>
            <a:off x="7045200" y="4424400"/>
            <a:ext cx="505080" cy="1157400"/>
          </a:xfrm>
          <a:prstGeom prst="rect">
            <a:avLst/>
          </a:prstGeom>
          <a:solidFill>
            <a:srgbClr val="f8f7f3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2306520" y="4325760"/>
            <a:ext cx="492120" cy="1256040"/>
          </a:xfrm>
          <a:prstGeom prst="rect">
            <a:avLst/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4049640" y="4522680"/>
            <a:ext cx="506520" cy="1059120"/>
          </a:xfrm>
          <a:prstGeom prst="rect">
            <a:avLst/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5807160" y="3916440"/>
            <a:ext cx="492120" cy="1665360"/>
          </a:xfrm>
          <a:prstGeom prst="rect">
            <a:avLst/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2"/>
          <p:cNvSpPr/>
          <p:nvPr/>
        </p:nvSpPr>
        <p:spPr>
          <a:xfrm>
            <a:off x="7550280" y="4219560"/>
            <a:ext cx="495000" cy="1362240"/>
          </a:xfrm>
          <a:prstGeom prst="rect">
            <a:avLst/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6"/>
          <p:cNvSpPr/>
          <p:nvPr/>
        </p:nvSpPr>
        <p:spPr>
          <a:xfrm>
            <a:off x="2348280" y="39909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6"/>
          <p:cNvSpPr/>
          <p:nvPr/>
        </p:nvSpPr>
        <p:spPr>
          <a:xfrm>
            <a:off x="1852920" y="509760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6"/>
          <p:cNvSpPr/>
          <p:nvPr/>
        </p:nvSpPr>
        <p:spPr>
          <a:xfrm>
            <a:off x="4013280" y="418608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6"/>
          <p:cNvSpPr/>
          <p:nvPr/>
        </p:nvSpPr>
        <p:spPr>
          <a:xfrm>
            <a:off x="3592800" y="47307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5753160" y="357516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6"/>
          <p:cNvSpPr/>
          <p:nvPr/>
        </p:nvSpPr>
        <p:spPr>
          <a:xfrm>
            <a:off x="5333040" y="423540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6"/>
          <p:cNvSpPr/>
          <p:nvPr/>
        </p:nvSpPr>
        <p:spPr>
          <a:xfrm>
            <a:off x="7518240" y="388296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7085520" y="40845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1490760" y="2633760"/>
            <a:ext cx="0" cy="295272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1481040" y="5584680"/>
            <a:ext cx="6840720" cy="0"/>
          </a:xfrm>
          <a:prstGeom prst="line">
            <a:avLst/>
          </a:prstGeom>
          <a:ln w="255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3"/>
          <p:cNvSpPr/>
          <p:nvPr/>
        </p:nvSpPr>
        <p:spPr>
          <a:xfrm>
            <a:off x="7500960" y="3538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图片 4" descr="elecbis2_011.jpg"/>
          <p:cNvPicPr/>
          <p:nvPr/>
        </p:nvPicPr>
        <p:blipFill>
          <a:blip r:embed="rId1"/>
          <a:stretch/>
        </p:blipFill>
        <p:spPr>
          <a:xfrm>
            <a:off x="1482840" y="2781360"/>
            <a:ext cx="4012920" cy="265104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1"/>
          <p:cNvSpPr/>
          <p:nvPr/>
        </p:nvSpPr>
        <p:spPr>
          <a:xfrm>
            <a:off x="5689440" y="3049560"/>
            <a:ext cx="30956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字简谱的雏形初见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的欧洲。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时法国天主教方济名会教士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J·J·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苏艾蒂加以改进后用来教唱宗教歌曲。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中叶，著名的法国思想家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J·J·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卢棱再加改进，大力倡导，并编入他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音乐辞典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01:29:31Z</dcterms:created>
  <dc:creator>sg</dc:creator>
  <dc:description/>
  <dc:language>en-US</dc:language>
  <cp:lastModifiedBy>a</cp:lastModifiedBy>
  <dcterms:modified xsi:type="dcterms:W3CDTF">2014-10-28T01:30:4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