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CF2-98EE-4BF6-81B7-BFA58D21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04D-11EE-4632-AD02-5AA003A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B64-A6A2-40F0-AFAD-A8619778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DD3-D937-47A6-8705-802DE9E9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910-5D43-49DF-8662-D54BE07B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C0-BBA9-4EF0-B789-3E3BF75D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1D7-6AB4-4D95-B71C-66F6382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E54-D538-403D-9114-11AC7F0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733-54BB-4BFF-AFD5-743FDD5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064-477D-497D-866C-44DF958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876-7B75-4136-B29F-313E4127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B27-5B85-464C-89F3-D349F437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820-DB9F-4033-BAB8-E1FABCFE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008-88D0-4B0A-8F32-106628D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473A-938B-4E82-8054-AE9EE94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23FD-8388-4202-A714-6AAF1D2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974-497D-4F01-B7F7-76BB145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0C5E-1E09-4DF3-9A65-76B261B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A28A-8D65-4C5C-8D26-63CFC26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76BA-F1F7-4D24-8F37-1B8A084C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82D-A683-45D0-B16A-0F26F1E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5BA3-C5DE-4A0A-B6C2-5CC9BE8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400-66E4-4636-9D94-85C26DB2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16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1120" y="16002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16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1120" y="4131000"/>
            <a:ext cx="26348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90DE-4427-45D5-BBA4-AE41B050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1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840" y="41310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840" y="1600200"/>
            <a:ext cx="39934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1000"/>
            <a:ext cx="818352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4120"/>
            <a:ext cx="8285040" cy="620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1e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474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474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0662-FA54-4A21-B1E2-CF7AF92C9219}" type="slidenum">
              <a:rPr b="0" lang="en-US" sz="1400" spc="-1" strike="noStrike">
                <a:solidFill>
                  <a:srgbClr val="5947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474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EA5-D4CD-427B-BDAE-BD02A25F81DC}" type="slidenum">
              <a:rPr b="0" lang="en-US" sz="1400" spc="-1" strike="noStrike">
                <a:solidFill>
                  <a:srgbClr val="5947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94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280" y="5237280"/>
            <a:ext cx="77752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4670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1e2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79040"/>
            <a:ext cx="82580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474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21360" y="5977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35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59474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594747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94747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b935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9474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23:05:01Z</dcterms:created>
  <dc:creator>Presentation Magazine</dc:creator>
  <dc:description/>
  <dc:language>en-US</dc:language>
  <cp:lastModifiedBy>Clearly Presented</cp:lastModifiedBy>
  <cp:lastPrinted>1899-12-30T00:00:00Z</cp:lastPrinted>
  <dcterms:modified xsi:type="dcterms:W3CDTF">2014-05-28T05:49:23Z</dcterms:modified>
  <cp:revision>76</cp:revision>
  <dc:subject/>
  <dc:title>Autumn leaves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