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F2BE-93F5-4B6D-811A-E4EF6965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C00A-E667-4A32-AB0B-65ACE143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B99-8799-4379-A49E-3E1AD371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414-8901-4B00-A565-3D3BD0BF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292C-3184-42CC-A455-F2D582EC1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A7BF-7995-4638-98F1-7E036307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60DA-ACEC-449E-AA14-5CB31E37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362C-F289-40CE-9D43-DD9D5FE5A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E3894-6C26-41D6-9C48-3492C225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E5EB-CE75-4C8E-A98F-F8742C19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27D7-75CF-4C49-B9E3-0AD9D0ED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5D0-62E2-46B6-879A-FCF884A2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51C2-52F2-4487-BE54-8428B0F0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A24D-EAFC-4C75-B030-EBE9C2A0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4EBA-DEC9-4922-9611-F1025E44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FC110-1763-43B4-883C-34D781E7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17EC-3D74-4B4E-AFB3-72CD4031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7BB-D41B-4DDF-9860-003FBF12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8277-7FA5-4B2C-A80E-EB9152E1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88A-70AD-41E6-9371-401B678D1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110F-DBEE-446E-B9A0-CFFCC493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CE3-13CC-4E21-8472-3D9F2212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C12-5081-4A48-ACA3-EFBF7004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8183-5CF1-412A-92EB-259C817D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C2F2-8A4C-4FE8-AFD6-C1B5789621E1}" type="slidenum"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AC71-B3E5-455C-A014-0572DB582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</a:rPr>
              <a:t>珍惜粮食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PPT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0" y="19458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11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4460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22960" y="6381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7:00:08Z</dcterms:created>
  <dc:creator>Administrator</dc:creator>
  <dc:description/>
  <dc:language>en-US</dc:language>
  <cp:lastModifiedBy/>
  <dcterms:modified xsi:type="dcterms:W3CDTF">2014-10-27T01:05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