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0080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021-AFEE-4CBD-84D1-21BEFBC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0BF-8409-44C7-A96B-39A29012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BAD-DA4D-4809-8863-CC9A1941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40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40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81E-3389-441E-B66F-5B088A47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AAAE-50C8-4DCC-8CC3-A9D243AC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2AB-5A23-4888-98B9-2436CA6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16B-DD31-4FC2-96C5-2DA345D4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8A03-825B-45E9-A8F2-F932A18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AEF-3711-4947-954B-A207F706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213840"/>
            <a:ext cx="907092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396-6AE4-466D-89D3-060EBD4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D4E-E72D-48ED-AA98-D74B693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4C4-F6B3-41E8-8EBD-3E651364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3B8-7F89-4CFA-8435-213EC57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F1D-1E50-4D30-A51D-62B0ED9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EDAC-A377-4162-A856-FD52D78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4C36-0667-4A40-9832-3490B199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40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40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C99-1C1F-4BDA-A507-1CA10068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D052-2D27-49F3-9D39-9E2B6A45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013A-DAE1-45AA-AC30-C2C8454E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3838-25EB-4FAF-A1B9-E0EE2394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F716-38F6-40CB-AF3E-47104F07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B79C-9E89-4BBF-BFA5-CCA4F08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42A-01B9-4512-95EB-F6C1EC70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4360" y="213840"/>
            <a:ext cx="907092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A8AF-E29C-4F4C-A8F0-39F7C2AB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39E0-EF02-43B1-9912-0406C66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74EA-F4A4-434F-9F7D-AF451F0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776A-A9F2-4E2C-88C7-D775181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7575-0613-445F-B4F9-6058457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D0664-C6C4-42EE-BDFD-6B502463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715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840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3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715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840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B0CE-8AE4-44B6-A3F5-5C68021D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C9DB-B7F2-4B97-A5B2-17D57F6F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81E1-787B-48E6-8A84-A7120F7B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5DBB-1349-4EF0-AD28-036C5E75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1EE-7CE9-49E2-86CE-707984A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1BDB6-16B2-47A5-AD06-12CC268B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E4F6-98A7-4548-9D51-B840E84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04360" y="213840"/>
            <a:ext cx="907092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B87E-5F8C-40FB-9CFF-3EFCC185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ACAF-53AD-4A47-BFFF-837486E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0A91-4730-4FB9-8A6C-DEDD51B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31D0-CAC4-4919-8D0C-A84E107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B714-1942-4F33-BC3F-D13E7F9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30022-1CF3-4CC8-B9F1-7702C303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7156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38400" y="100008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3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7156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638400" y="3575160"/>
            <a:ext cx="29206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5A10-D701-4A98-ADF5-E54E627B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157-5903-47C7-B7EF-51B299FF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213840"/>
            <a:ext cx="907092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07F-FF6C-4E1C-81C4-A7467328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A86-57AB-47A5-9BD1-A8EC1C0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57516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0E5-2CA6-433C-8A8F-600A968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000080"/>
            <a:ext cx="442656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3575160"/>
            <a:ext cx="90709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FBE-78B8-44A6-B631-5176B96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3565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356520"/>
            <a:ext cx="319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2680" y="6356520"/>
            <a:ext cx="23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2996-223B-4840-877C-AEDE0C1B358F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360" y="2204640"/>
            <a:ext cx="8567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04360" y="6244920"/>
            <a:ext cx="23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44840" y="6244920"/>
            <a:ext cx="31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22680" y="6244920"/>
            <a:ext cx="235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BA52-1FFF-400F-A3DD-8F83825C0834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10080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6800" y="713880"/>
            <a:ext cx="9072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4360" y="1285560"/>
            <a:ext cx="9070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4360" y="63565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4840" y="6356520"/>
            <a:ext cx="319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2680" y="6356520"/>
            <a:ext cx="23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C642-7B4F-4EB8-BC76-6AD6B08689F5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7" descr="首页副本22.png"/>
          <p:cNvPicPr/>
          <p:nvPr/>
        </p:nvPicPr>
        <p:blipFill>
          <a:blip r:embed="rId2"/>
          <a:srcRect l="50002" t="45835" r="0" b="19793"/>
          <a:stretch/>
        </p:blipFill>
        <p:spPr>
          <a:xfrm>
            <a:off x="5040360" y="3143160"/>
            <a:ext cx="5040360" cy="23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504360" y="6244920"/>
            <a:ext cx="23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3444840" y="6244920"/>
            <a:ext cx="31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7222680" y="6244920"/>
            <a:ext cx="235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902-15E8-406E-9765-3338C497624D}" type="slidenum">
              <a:rPr b="0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8" descr="首页副本.png"/>
          <p:cNvPicPr/>
          <p:nvPr/>
        </p:nvPicPr>
        <p:blipFill>
          <a:blip r:embed="rId3"/>
          <a:srcRect l="0" t="0" r="0" b="89588"/>
          <a:stretch/>
        </p:blipFill>
        <p:spPr>
          <a:xfrm>
            <a:off x="0" y="0"/>
            <a:ext cx="10080720" cy="7142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0" y="0"/>
            <a:ext cx="10080720" cy="6855840"/>
            <a:chOff x="0" y="0"/>
            <a:chExt cx="10080720" cy="6855840"/>
          </a:xfrm>
        </p:grpSpPr>
        <p:grpSp>
          <p:nvGrpSpPr>
            <p:cNvPr id="130" name=""/>
            <p:cNvGrpSpPr/>
            <p:nvPr/>
          </p:nvGrpSpPr>
          <p:grpSpPr>
            <a:xfrm>
              <a:off x="0" y="2214720"/>
              <a:ext cx="10080720" cy="4641120"/>
              <a:chOff x="0" y="2214720"/>
              <a:chExt cx="10080720" cy="46411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5040360" y="4071600"/>
                <a:ext cx="5039280" cy="1713960"/>
                <a:chOff x="5040360" y="4071600"/>
                <a:chExt cx="5039280" cy="1713960"/>
              </a:xfrm>
            </p:grpSpPr>
            <p:pic>
              <p:nvPicPr>
                <p:cNvPr id="132" name="图片 13" descr="2.png"/>
                <p:cNvPicPr/>
                <p:nvPr/>
              </p:nvPicPr>
              <p:blipFill>
                <a:blip r:embed="rId4"/>
                <a:srcRect l="50782" t="63546" r="0" b="15625"/>
                <a:stretch/>
              </p:blipFill>
              <p:spPr>
                <a:xfrm>
                  <a:off x="5119200" y="4357080"/>
                  <a:ext cx="4960440" cy="14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图片 15" descr="6.png"/>
                <p:cNvPicPr/>
                <p:nvPr/>
              </p:nvPicPr>
              <p:blipFill>
                <a:blip r:embed="rId5"/>
                <a:srcRect l="50002" t="59379" r="31251" b="25001"/>
                <a:stretch/>
              </p:blipFill>
              <p:spPr>
                <a:xfrm>
                  <a:off x="5040360" y="4071600"/>
                  <a:ext cx="1889640" cy="107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" name=""/>
              <p:cNvGrpSpPr/>
              <p:nvPr/>
            </p:nvGrpSpPr>
            <p:grpSpPr>
              <a:xfrm>
                <a:off x="0" y="2214720"/>
                <a:ext cx="10080720" cy="4641120"/>
                <a:chOff x="0" y="2214720"/>
                <a:chExt cx="10080720" cy="4641120"/>
              </a:xfrm>
            </p:grpSpPr>
            <p:pic>
              <p:nvPicPr>
                <p:cNvPr id="135" name="图片 10" descr="首页副 本.png"/>
                <p:cNvPicPr/>
                <p:nvPr/>
              </p:nvPicPr>
              <p:blipFill>
                <a:blip r:embed="rId6"/>
                <a:srcRect l="0" t="32296" r="47657" b="18752"/>
                <a:stretch/>
              </p:blipFill>
              <p:spPr>
                <a:xfrm>
                  <a:off x="0" y="2214720"/>
                  <a:ext cx="5276880" cy="3356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6" name=""/>
                <p:cNvGrpSpPr/>
                <p:nvPr/>
              </p:nvGrpSpPr>
              <p:grpSpPr>
                <a:xfrm>
                  <a:off x="0" y="3285360"/>
                  <a:ext cx="10080720" cy="3570480"/>
                  <a:chOff x="0" y="3285360"/>
                  <a:chExt cx="10080720" cy="3570480"/>
                </a:xfrm>
              </p:grpSpPr>
              <p:pic>
                <p:nvPicPr>
                  <p:cNvPr id="137" name="图片 11" descr="首页副本.png"/>
                  <p:cNvPicPr/>
                  <p:nvPr/>
                </p:nvPicPr>
                <p:blipFill>
                  <a:blip r:embed="rId7"/>
                  <a:srcRect l="0" t="79172" r="0" b="0"/>
                  <a:stretch/>
                </p:blipFill>
                <p:spPr>
                  <a:xfrm>
                    <a:off x="0" y="5427720"/>
                    <a:ext cx="10080720" cy="14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8" name="图片 12" descr="首页 副本.png"/>
                  <p:cNvPicPr/>
                  <p:nvPr/>
                </p:nvPicPr>
                <p:blipFill>
                  <a:blip r:embed="rId8"/>
                  <a:srcRect l="0" t="89588" r="0" b="0"/>
                  <a:stretch/>
                </p:blipFill>
                <p:spPr>
                  <a:xfrm>
                    <a:off x="0" y="5427720"/>
                    <a:ext cx="10080720" cy="71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9" name="图片 16" descr="1.png"/>
                  <p:cNvPicPr/>
                  <p:nvPr/>
                </p:nvPicPr>
                <p:blipFill>
                  <a:blip r:embed="rId9"/>
                  <a:srcRect l="50782" t="47921" r="3906" b="15625"/>
                  <a:stretch/>
                </p:blipFill>
                <p:spPr>
                  <a:xfrm>
                    <a:off x="5119200" y="3285360"/>
                    <a:ext cx="4567680" cy="24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140" name="图片 9" descr="首页 副本.png"/>
            <p:cNvPicPr/>
            <p:nvPr/>
          </p:nvPicPr>
          <p:blipFill>
            <a:blip r:embed="rId10"/>
            <a:srcRect l="0" t="0" r="0" b="89588"/>
            <a:stretch/>
          </p:blipFill>
          <p:spPr>
            <a:xfrm>
              <a:off x="0" y="0"/>
              <a:ext cx="1008072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14" descr="3.png"/>
          <p:cNvPicPr/>
          <p:nvPr/>
        </p:nvPicPr>
        <p:blipFill>
          <a:blip r:embed="rId11"/>
          <a:srcRect l="46876" t="46875" r="28125" b="18752"/>
          <a:stretch/>
        </p:blipFill>
        <p:spPr>
          <a:xfrm>
            <a:off x="4724280" y="3214800"/>
            <a:ext cx="2521080" cy="2357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991800" y="1341360"/>
            <a:ext cx="8567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371600" algn="ctr">
              <a:spcBef>
                <a:spcPts val="3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1400" spc="-1" strike="noStrike">
              <a:solidFill>
                <a:srgbClr val="35530d"/>
              </a:solidFill>
              <a:latin typeface="华文细黑"/>
            </a:endParaRPr>
          </a:p>
          <a:p>
            <a:pPr lvl="4" marL="1828800" algn="ctr">
              <a:spcBef>
                <a:spcPts val="300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5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6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360" y="2422440"/>
            <a:ext cx="8567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579400" y="3285720"/>
            <a:ext cx="70563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079280" cy="6813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548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360" y="2204640"/>
            <a:ext cx="8567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579400" y="2925360"/>
            <a:ext cx="70563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360" y="213840"/>
            <a:ext cx="907092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360" y="1000080"/>
            <a:ext cx="9070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"/>
          <p:cNvSpPr/>
          <p:nvPr/>
        </p:nvSpPr>
        <p:spPr>
          <a:xfrm>
            <a:off x="8052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1800" y="1341360"/>
            <a:ext cx="8567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793520" y="2925720"/>
            <a:ext cx="705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6800" y="67320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360" y="1285560"/>
            <a:ext cx="9070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49480" y="2421000"/>
            <a:ext cx="5392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隶书"/>
              </a:rPr>
              <a:t>感谢您的关注！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5" name=""/>
          <p:cNvSpPr/>
          <p:nvPr/>
        </p:nvSpPr>
        <p:spPr>
          <a:xfrm>
            <a:off x="2767320" y="3357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334440" cy="6858000"/>
            <a:chOff x="0" y="0"/>
            <a:chExt cx="9334440" cy="6858000"/>
          </a:xfrm>
        </p:grpSpPr>
        <p:sp>
          <p:nvSpPr>
            <p:cNvPr id="197" name="矩形 4"/>
            <p:cNvSpPr/>
            <p:nvPr/>
          </p:nvSpPr>
          <p:spPr>
            <a:xfrm>
              <a:off x="983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33444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7"/>
            <p:cNvSpPr/>
            <p:nvPr/>
          </p:nvSpPr>
          <p:spPr>
            <a:xfrm rot="20926800">
              <a:off x="2116080" y="3572280"/>
              <a:ext cx="51458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0:50:53Z</dcterms:created>
  <dc:creator/>
  <dc:description/>
  <dc:language>en-US</dc:language>
  <cp:lastModifiedBy>dell</cp:lastModifiedBy>
  <cp:lastPrinted>1899-12-30T00:00:00Z</cp:lastPrinted>
  <dcterms:modified xsi:type="dcterms:W3CDTF">2014-05-15T14:18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