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type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A957-C67E-4A64-9C22-1FB3BE77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323-0623-4047-ABC5-28047C02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DDF-2424-41C5-A091-C480ED08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08DE-EE1E-47AE-AE34-403CE030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DCDC-1169-47ED-A029-2A991861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5381-97DE-4A7B-A7E1-6AB88505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7BAAC-DF88-4846-BA30-14CE8C77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9239-20EF-47C8-B818-BBC6C1EC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D32D-5CF2-463F-9FC4-F9B306F0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39A0-E4E9-45A4-96F9-71B8B142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0A4B-B063-40D5-B524-EB7F2A54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ACBA-85A4-455F-A1D5-86CF9B53E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A01B-9BD7-423A-82E9-969027AE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3FB6-C1AA-4042-98E9-1AB0A610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05EE-0ADF-44E6-9D02-5C8E01A9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4688-189C-4ECB-A2AF-2537A1E5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5B1B-86B5-4059-BEC9-1C9E9A3E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0FECE-29EA-4203-AC9B-030DF0A7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D918-AF07-4F9A-862A-13268DEF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E3C80-FDCB-48EA-BA65-C5B9FFDB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188DC-6A2A-4AC7-8DE9-B913096B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B33D-579C-46F4-A1EE-769348FB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697-F5ED-40A7-B20F-A1EFF616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62BB-786C-47AF-8D31-2096CC82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C842A-4B79-4B22-A4F4-84F57068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4F72-5D36-4C5C-BCB5-C51318D6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794BE-728B-44EC-93B4-3B015C59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302C-58F1-4CEE-B905-A32CAD6C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5BF2E-DB4A-45B8-B447-72B728248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F4DE-D20A-46A3-872F-AE714AB6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F3B-FA75-4EDA-B5FC-BD5C1989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456-AAA9-4129-8DA9-B511E058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DD9-9BDE-4094-AC4D-2E28AB9D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9345-F228-4E88-A236-1FAC5BAD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DC0-27DC-41CD-9E14-51A8667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5AA-9F26-4E8A-B737-83D9B038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AE22A-D30B-4DB8-91A5-96F766B391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4CF0-4AC7-43D5-AB84-FADB407BD4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28CB-EE96-4913-A341-61B34AF310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1137-3772-422C-B08D-F19AC0F4F3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1800"/>
            <a:ext cx="777060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f5f5f"/>
                </a:solidFill>
                <a:latin typeface="Arial Black"/>
              </a:rPr>
              <a:t>From  </a:t>
            </a:r>
            <a:r>
              <a:rPr b="1" lang="zh-CN" sz="6000" spc="-1" strike="noStrike">
                <a:solidFill>
                  <a:srgbClr val="5f5f5f"/>
                </a:solidFill>
                <a:latin typeface="Arial Black"/>
              </a:rPr>
              <a:t>斜塔的问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050920" y="535932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Black"/>
              </a:rPr>
              <a:t>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" dur="1" fill="hold"/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埃菲尔铁塔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简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5680" y="1600200"/>
            <a:ext cx="32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埃菲尔铁塔（法语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a Tour Eiff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是一座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建成位于法国巴黎战神广场上的镂空结构铁塔，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天线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总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。埃菲尔铁塔得名于设计它的桥梁工程师居斯塔夫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埃菲尔。铁塔设计新颖独特，是世界建筑史上的技术杰作，因而成为法国和巴黎的一个重要景点和突出标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pic"/>
          <p:cNvPicPr/>
          <p:nvPr/>
        </p:nvPicPr>
        <p:blipFill>
          <a:blip r:embed="rId1"/>
          <a:stretch/>
        </p:blipFill>
        <p:spPr>
          <a:xfrm>
            <a:off x="1979640" y="1600200"/>
            <a:ext cx="3024000" cy="4708440"/>
          </a:xfrm>
          <a:prstGeom prst="rect">
            <a:avLst/>
          </a:prstGeom>
          <a:ln w="0">
            <a:noFill/>
          </a:ln>
        </p:spPr>
      </p:pic>
    </p:spTree>
  </p:cSld>
  <p:transition advTm="3000"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埃菲尔铁塔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美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76360" y="1600200"/>
            <a:ext cx="3289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google_temp"/>
          <p:cNvPicPr/>
          <p:nvPr/>
        </p:nvPicPr>
        <p:blipFill>
          <a:blip r:embed="rId1"/>
          <a:stretch/>
        </p:blipFill>
        <p:spPr>
          <a:xfrm>
            <a:off x="1981080" y="1197000"/>
            <a:ext cx="4586400" cy="5661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5"/>
          <p:cNvSpPr txBox="1"/>
          <p:nvPr/>
        </p:nvSpPr>
        <p:spPr>
          <a:xfrm>
            <a:off x="2195640" y="2367000"/>
            <a:ext cx="3200400" cy="52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埃菲尔铁塔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* *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931080" y="1263600"/>
            <a:ext cx="196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埃菲尔铁塔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88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年起建，分为三楼，分别在离地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57.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15.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76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米处，其中一、二楼设有餐厅，第三楼建有观景台，从塔座到塔顶共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71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阶梯，共用去钢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吨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00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个金属部件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万只铆钉，极为壮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埃菲尔铁塔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标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如果说，巴黎圣母院是古代巴黎的象征，那么，埃菲尔铁塔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iffel Tower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就是现代巴黎的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适逢法国大革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年纪念，法国政府决定隆重庆祝，在巴黎举行一次规模空前的世界博览会，以展示工业技术和文化方面的成就，并建造一座象征法国革命和巴黎的纪念碑。筹委会本来希望建造一所古典式的、有雕像、碑体、园林和庙堂的纪念性群体，但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件应征方案里，选中了桥梁工程师居斯塔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埃菲尔的设计：一座象征机器文明、在巴黎任何角落都能望见的巨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8194 -0.359722 L 0.021806 -0.026392 E">
                                      <p:cBhvr>
                                        <p:cTn id="46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8958 -0.383704 L -0.015556 -0.005648 E">
                                      <p:cBhvr>
                                        <p:cTn id="50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625920" y="3068280"/>
            <a:ext cx="5060880" cy="24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  <a:ea typeface="黑体"/>
              </a:rPr>
              <a:t>幻灯片已结束，谢谢观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979280" y="274320"/>
            <a:ext cx="67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埃菲尔铁塔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63f47090xb26359ee72bc&amp;690"/>
          <p:cNvPicPr/>
          <p:nvPr/>
        </p:nvPicPr>
        <p:blipFill>
          <a:blip r:embed="rId1"/>
          <a:stretch/>
        </p:blipFill>
        <p:spPr>
          <a:xfrm>
            <a:off x="0" y="2276640"/>
            <a:ext cx="329256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newsflash/>
    <p:sndAc>
      <p:stSnd>
        <p:snd r:embed="rId2" name="applause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08:05:15Z</dcterms:created>
  <dc:creator>Administrator</dc:creator>
  <dc:description/>
  <cp:keywords/>
  <dc:language>en-US</dc:language>
  <cp:lastModifiedBy>a</cp:lastModifiedBy>
  <dcterms:modified xsi:type="dcterms:W3CDTF">2014-05-20T07:58:47Z</dcterms:modified>
  <cp:revision>1</cp:revision>
  <dc:subject/>
  <dc:title>From  斜塔的问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