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43BE-ACC5-4704-89CE-CB837B4C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64A1-9C8A-4F67-9C8E-434950C1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64CC-E5D9-42F2-9A29-F8745B4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C492F-E73A-4BB7-9DFC-8093BFB3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BBD4-E2E4-4C4A-B4F2-3C6EE62D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DDD3-6C36-4639-9A1B-74C22387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D15A-BEC8-43ED-BA46-9F463719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EF8A-5750-4D3F-A2D6-5324F49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DF0D-5AEE-418E-AF75-B3665447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CE81-38BC-43CF-9D3A-3CAA58E5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9A4A-4BA1-4E9F-824C-E706AF92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1DD0-B117-4915-87E9-B788214D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461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189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4AD4071-41F4-4C10-A66E-36552BC8268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68360" y="189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6fc01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A9DF-A17B-4A70-B29D-89534A6C9F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D452-E9DF-4699-9001-CE3E0F18E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9440" y="5084280"/>
            <a:ext cx="820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4076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17360"/>
            <a:ext cx="8207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29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33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37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461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2519280" y="1700280"/>
            <a:ext cx="410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45440" y="285264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53B2-4B31-4598-933C-79852CCB0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82C2-6C4A-4116-B190-E91BC12D99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tlantic</cp:lastModifiedBy>
  <cp:lastPrinted>1899-12-30T00:00:00Z</cp:lastPrinted>
  <dcterms:modified xsi:type="dcterms:W3CDTF">2014-05-17T08:07:46Z</dcterms:modified>
  <cp:revision>2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